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235-136C-4B3B-8DC9-1ACC829A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F8D-B2F6-46D2-98B0-1085209A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F47-5696-45D3-A562-5542AA6A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85B-E42E-45A6-A541-4C604A49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7647-5FAD-4EBE-9ADF-20D31647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D49D-78ED-48F1-B145-4C1218BE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27F-709C-4AC0-9725-74B41A4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FE4E-252F-487A-8B5E-CE78E61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246-EFE3-4D2D-8DE6-9CCFD36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BD1-9F81-4612-983B-77122A8A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D71-4F95-4937-95E5-D88129E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3DF-0D92-4204-807E-1E22652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98D9-E172-419C-891F-84D3089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3BB-0F5F-4876-AFF9-CD8A04F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8A3A-8B8F-44F1-854D-65B27FE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B51E-F415-448C-A00C-AEDA7DE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B4C4-DEEC-4432-B0DC-C4371EE6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1F6-961E-401A-A6D7-B284130F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6C1-21EB-4E3D-86B9-BFCE2B1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6AB-9F93-4CD1-AEAB-D70C094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109-55BA-4CC2-B22E-13A75E4B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4C5-49BD-4B22-98FD-0B210A0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144-29C8-4DA4-9C90-8371D8B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464-A37B-477F-9107-265133AB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D61D-9947-4F74-80F8-AE32CF1D42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16E-D14A-471B-AA69-C766194D8D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844280"/>
            <a:ext cx="70563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История школьной формы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508428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дежда школьников в 1990-е г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1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ь, каковы перспективы возможного возврата формы в российские школы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ь существовала ли школьная форма в дореволюционной России и как она выгляде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брать материал о школьной форме в нашей стране  в разные годы советского период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ть, как изменилось отношение к школьной форме в 90-е годы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сти исследование мнения учащихся и взрослых  относительно школьной формы в современной школ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486900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а российских гимназистов в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220px-Antonoff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857240" cy="3210120"/>
          </a:xfrm>
          <a:prstGeom prst="rect">
            <a:avLst/>
          </a:prstGeom>
          <a:ln w="0">
            <a:noFill/>
          </a:ln>
        </p:spPr>
      </p:pic>
      <p:pic>
        <p:nvPicPr>
          <p:cNvPr id="155" name="i-main-pic" descr="Картинка 10 из 72"/>
          <p:cNvPicPr/>
          <p:nvPr/>
        </p:nvPicPr>
        <p:blipFill>
          <a:blip r:embed="rId2"/>
          <a:srcRect l="56900" t="0" r="21726" b="0"/>
          <a:stretch/>
        </p:blipFill>
        <p:spPr>
          <a:xfrm>
            <a:off x="6659640" y="1125360"/>
            <a:ext cx="1181160" cy="369576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0 из 72"/>
          <p:cNvPicPr/>
          <p:nvPr/>
        </p:nvPicPr>
        <p:blipFill>
          <a:blip r:embed="rId3"/>
          <a:srcRect l="5224" t="2984" r="67355" b="2984"/>
          <a:stretch/>
        </p:blipFill>
        <p:spPr>
          <a:xfrm>
            <a:off x="4859280" y="1197000"/>
            <a:ext cx="13813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76360" y="53006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ы воспитанниц государственных гимназий в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5084280"/>
            <a:ext cx="68706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кольная форма 1960-х г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4153" t="16850" r="16611" b="0"/>
          <a:stretch/>
        </p:blipFill>
        <p:spPr>
          <a:xfrm>
            <a:off x="4643280" y="620640"/>
            <a:ext cx="2741760" cy="424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7874" t="0" r="47244" b="0"/>
          <a:stretch/>
        </p:blipFill>
        <p:spPr>
          <a:xfrm>
            <a:off x="2195640" y="476280"/>
            <a:ext cx="1500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4941720"/>
            <a:ext cx="6870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кольная форма 1980-х г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Школьная форма СССР арт.102"/>
          <p:cNvPicPr/>
          <p:nvPr/>
        </p:nvPicPr>
        <p:blipFill>
          <a:blip r:embed="rId1"/>
          <a:stretch/>
        </p:blipFill>
        <p:spPr>
          <a:xfrm>
            <a:off x="3203640" y="549360"/>
            <a:ext cx="25718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8560" y="458136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кольная форма мальчиков 1980-х г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Школьная форма в СССР"/>
          <p:cNvPicPr/>
          <p:nvPr/>
        </p:nvPicPr>
        <p:blipFill>
          <a:blip r:embed="rId1"/>
          <a:stretch/>
        </p:blipFill>
        <p:spPr>
          <a:xfrm>
            <a:off x="1476360" y="476280"/>
            <a:ext cx="6095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16360" y="1628640"/>
            <a:ext cx="3959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кольная форма девочек старшеклассниц вторая половина 1980-х г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9843" b="0"/>
          <a:stretch/>
        </p:blipFill>
        <p:spPr>
          <a:xfrm>
            <a:off x="900000" y="549360"/>
            <a:ext cx="3359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640" y="5013000"/>
            <a:ext cx="68709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ктябрятские, пионерские , комсомольские знач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Школьная форма в СССР"/>
          <p:cNvPicPr/>
          <p:nvPr/>
        </p:nvPicPr>
        <p:blipFill>
          <a:blip r:embed="rId1"/>
          <a:stretch/>
        </p:blipFill>
        <p:spPr>
          <a:xfrm>
            <a:off x="2627280" y="115920"/>
            <a:ext cx="44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Школьная форма в СССР"/>
          <p:cNvPicPr/>
          <p:nvPr/>
        </p:nvPicPr>
        <p:blipFill>
          <a:blip r:embed="rId2"/>
          <a:stretch/>
        </p:blipFill>
        <p:spPr>
          <a:xfrm>
            <a:off x="1116000" y="2349360"/>
            <a:ext cx="4176720" cy="2648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Школьная форма в СССР"/>
          <p:cNvPicPr/>
          <p:nvPr/>
        </p:nvPicPr>
        <p:blipFill>
          <a:blip r:embed="rId3"/>
          <a:stretch/>
        </p:blipFill>
        <p:spPr>
          <a:xfrm>
            <a:off x="6156360" y="2781360"/>
            <a:ext cx="1647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1:20:59Z</dcterms:created>
  <dc:creator>user</dc:creator>
  <dc:description/>
  <dc:language>en-US</dc:language>
  <cp:lastModifiedBy>Матирко Лида</cp:lastModifiedBy>
  <dcterms:modified xsi:type="dcterms:W3CDTF">2011-02-26T17:40:56Z</dcterms:modified>
  <cp:revision>4</cp:revision>
  <dc:subject/>
  <dc:title>Слайд 1</dc:title>
</cp:coreProperties>
</file>