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F39-F16B-4E66-A5FF-013DB921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506-3499-497A-9C5B-16404CD3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E08-FF96-4AE0-A9D4-5215EAB9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744-F7C9-4D53-8382-BDE62A46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35A-7AE2-4D88-8228-18F9485E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716-07BD-43DE-A3C3-6C79537B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C20-18A5-4D88-BC68-4C72B979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405-08B2-41A6-92D2-AB5FA5F5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2EC-FFDB-480E-84B9-455AD55F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FB9-F3F1-4605-896F-39864F91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0A4-8D73-4071-852E-41569549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B86-7E32-4E8C-A852-8537559A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C1B4-4460-42FE-BF04-CCAB7C4E8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55640" y="981000"/>
            <a:ext cx="7345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Муниципальное образовательное учрежд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«Шатковская средняя школ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Monotype Corsiva"/>
              </a:rPr>
              <a:t>Конкурс: «Светлый праздник – Рождеств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1042920" y="2781360"/>
            <a:ext cx="626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00"/>
                </a:solidFill>
                <a:latin typeface="Monotype Corsiva"/>
              </a:rPr>
              <a:t>« День Христова Рождеств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708360" y="4869000"/>
            <a:ext cx="51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втор: Борькин Владисл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ченик 2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уководитель: Маякина Марина Юрьевна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3746160" y="6453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.п. Шатки, 2017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3544560" y="25210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ихотвор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2"/>
          <a:stretch/>
        </p:blipFill>
        <p:spPr>
          <a:xfrm>
            <a:off x="1116000" y="603360"/>
            <a:ext cx="7418520" cy="963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782440" y="1557360"/>
            <a:ext cx="4353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азочный и очень б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ег ложится на до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мягкие меха оде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тупившая 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, волшебно, в небе звезд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гоняя тучи проч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но в сказке, к нам прих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овь Рождественская ноч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а елочке игру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мерцают огонь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арики, флажки, хлопу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гелочки, мая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704680" y="1341360"/>
            <a:ext cx="401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остью и тихим св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ш наполнен нынче 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й милостью согреет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 светлым Рожд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ажем мы с теплом и ла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ши лучши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сть продлится эта сказ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нь Христова Рождеств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9:07:36Z</dcterms:created>
  <dc:creator>DAY</dc:creator>
  <dc:description/>
  <dc:language>en-US</dc:language>
  <cp:lastModifiedBy>XP GAME 2010</cp:lastModifiedBy>
  <dcterms:modified xsi:type="dcterms:W3CDTF">2018-01-22T13:42:07Z</dcterms:modified>
  <cp:revision>6</cp:revision>
  <dc:subject/>
  <dc:title>Слайд 1</dc:title>
</cp:coreProperties>
</file>