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911F-F76D-4D40-893D-C41C748375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9EB9-1AC6-4945-8C8D-3BF1339618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CAB-8D70-4AFF-AC92-13395405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B53-8B92-402A-95B9-F0D9A038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82B-0C9B-421E-A8DA-5395CDE6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CE1-DDA7-4A34-842F-A97CCB00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9EDA-1739-4A62-AA3C-A81C4E72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DFA4-9A9A-4900-A793-EC83ACA6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6503-D691-4588-95E4-9EDBAC07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65B4-1F6C-4C19-9100-70C28342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B15C-D536-4B78-BBEB-B39829DF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2079-637C-461B-9C09-F47DB906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ECC5-30D5-45A7-89A2-7462D631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85E-C370-4661-ABE2-9DBCD034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ED09-3C40-4486-993B-110CB879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1EA6-5E0C-4181-BFD0-AB7980CB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B2ED-7E5D-4875-9FDA-2DF03D3B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0B33-C28A-4E26-8CDC-6DE5EA39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4576-0424-4A0C-A923-DE6C0EEC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229-04D1-4DED-B1B2-F42E14E3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F20-81E6-42BB-8E77-FE4EFB91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CC7-8F2F-4B9E-A068-D1975DB0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5D5-2CE0-400D-8AF1-26166E34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91D-10B4-4FA1-8E09-96EC36E7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536-E594-43E1-AABA-8E0362CE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B85-39A8-476C-87F9-81E2A65D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F8F0-8D0E-44BC-98A1-52A50D923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BABA-239B-4A67-9F8D-4681051F8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C:\Users\Пользователь\Desktop\bell_shlp1.jpg"/>
          <p:cNvPicPr/>
          <p:nvPr/>
        </p:nvPicPr>
        <p:blipFill>
          <a:blip r:embed="rId1"/>
          <a:stretch/>
        </p:blipFill>
        <p:spPr>
          <a:xfrm>
            <a:off x="1785960" y="785880"/>
            <a:ext cx="5286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абота по учебнику(стр.94-95) №1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колько колёс у всех машин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ак вы сосчитали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ак считал задачу Волк?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ак считал Заяц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изминут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ройте глаза. Не двигая головой, начинайте вращать глазами сначала по часовой стрелке, потом в обратную сторон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оворачивая головы, двигайте глазами вверх – вниз,вправо – влев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жмите палец к переносице и посмотрите на нег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тем медленно отводите палец от себ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должая следить за ним глаз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гр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агазин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»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рина пришла в магазин и купила для праздника 4 воздушных шара по 2 рубля за каждый шарик. Сколько денег ты должна заплатить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ирилл купил 2 шара по 4 рубля  за каждый  шарик. Сколько денег ты должен заплатить? Как узнат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оверьт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х4=8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чему мы умножаем 2х4, а не 4х2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eec94"/>
                </a:solidFill>
                <a:latin typeface="Bookman Old Style"/>
              </a:rPr>
              <a:t>Используя таблицу умножения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4360" y="1655640"/>
            <a:ext cx="40323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4 х 1 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4 х 2 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4 х 3 =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4 х 4 = 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4 х 5 =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4 х 6 =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4 х 7 = 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4 х 8 = 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4 х 9 = 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4 х 10 = 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абота по карточкам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. - соединить суммы с произведениями и с ответ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.– найди ошибки и исправ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4+4+4+4     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+5+5         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+3+3+3        4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+2+2+2+2    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6+6+6         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6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+4+4+4        4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+2+2+2        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+3                 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оверьт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)4+4+4+4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+5+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+3+3+3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+2+2+2+2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6+6+6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6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+4+4+4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+2+2+2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+3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 теперь давайте решим задачи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т с утра сидит у реч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него большой уло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тыре щурёнка, четы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рша, четыре сома и четыре лещ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олько рыбок у кот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лка на ветке сушила  гриб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ибов 20, а ветки 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сколько грибов, угадай-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ветку наниже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зяй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оверь себя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57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х4=16(р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вет:16 рыб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:4=5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г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вет:5 гриб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тог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28840" y="1643040"/>
            <a:ext cx="557208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 нового узнали на урок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чём затруднялись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де можно применять изученные зна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 было интересног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ое настроен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ставьте себе оценки за ур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112640" y="1268280"/>
            <a:ext cx="698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атематику друзья не любить никак нельзя.Очень точная наука-эта математи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206064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50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пределите данные выражения на две группы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+8+9+7=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+12+2+2+2=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+3+3+3+3+3=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+7+7+7+7+7=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+2+2+2=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+8+8+8+8+8+8+8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оверьте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столбик                              2 столби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+8+9+7=                              3+3+3+3+3+3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+12+2+2+2=                       2+2+2+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+7+7+7+7+7=              8+8+8+8+8+8+8+8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14200" y="1143000"/>
            <a:ext cx="8643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Что такое умножение?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Это умное сложение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Ведь умней умножить раз,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Чем слагать всё целый час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77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братите внимание на выражения:  2х4=8    и  4х2=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619440" y="2824200"/>
          <a:ext cx="1905120" cy="120636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30204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 * 4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 * 3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04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 * 6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 * 5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04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1 : 3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9 : 3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04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2 : 3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4 : 3 =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285920" y="1000080"/>
          <a:ext cx="6858000" cy="45720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1430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 * 6 =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 * 3 =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430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 * 9 =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4 * 5 =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430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1 : 3 =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 : 1 =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430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8 : 4 =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6 : 2 =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3360960" y="500040"/>
            <a:ext cx="25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верь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643120" y="1428840"/>
            <a:ext cx="4197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1" lang="en-US" sz="4000" spc="-1" strike="noStrike">
                <a:solidFill>
                  <a:srgbClr val="00b05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8     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       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        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2124000" y="4437000"/>
            <a:ext cx="46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цени работу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Тема: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Умножение и деление на 4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Четвёртая часть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1:57:19Z</dcterms:created>
  <dc:creator> </dc:creator>
  <dc:description/>
  <dc:language>en-US</dc:language>
  <cp:lastModifiedBy>user</cp:lastModifiedBy>
  <dcterms:modified xsi:type="dcterms:W3CDTF">2017-11-26T05:35:30Z</dcterms:modified>
  <cp:revision>36</cp:revision>
  <dc:subject/>
  <dc:title>Умножение на три,  треть числа</dc:title>
</cp:coreProperties>
</file>