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4BE0-151E-4AFF-AA91-015B21D74E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0;&#1085;&#1080;&#1089;&#1090;&#1088;_&#1054;&#1073;&#1086;&#1088;&#1086;&#1085;&#1099;_&#1057;&#1057;&#1057;&#1056;" TargetMode="External"/><Relationship Id="rId2" Type="http://schemas.openxmlformats.org/officeDocument/2006/relationships/hyperlink" Target="http://ru.wikipedia.org/wiki/&#1053;&#1072;&#1074;&#1077;&#1095;&#1085;&#1086;_&#1079;&#1072;&#1095;&#1080;&#1089;&#1083;&#1077;&#1085;" TargetMode="External"/><Relationship Id="rId3" Type="http://schemas.openxmlformats.org/officeDocument/2006/relationships/hyperlink" Target="http://ru.wikipedia.org/wiki/&#1044;&#1077;&#1084;&#1080;&#1076;&#1086;&#1074;_%28&#1075;&#1086;&#1088;&#1086;&#1076;%29" TargetMode="External"/><Relationship Id="rId4" Type="http://schemas.openxmlformats.org/officeDocument/2006/relationships/hyperlink" Target="http://ru.wikipedia.org/wiki/&#1052;&#1077;&#1084;&#1086;&#1088;&#1080;&#1072;&#1083;&#1100;&#1085;&#1072;&#1103;_&#1076;&#1086;&#1089;&#1082;&#1072;" TargetMode="External"/><Relationship Id="rId5" Type="http://schemas.openxmlformats.org/officeDocument/2006/relationships/slide" Target="../slides/slide15.xml"/><Relationship Id="rId6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ом Президиума Верховного Совета СССР от 4 июня 1944 года за образцовое выполнение боевых заданий командования на фронте борьбы с немецко-фашистскими захватч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ом Президиума Верховного Совета СССР от 4 июня 1944 года за образцовое выполнение боевых заданий командования на фронте борьбы с немецко-фашистскими захватчиками и проявленные при этом мужество и героизм красноармейц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ркову Василию Иванович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своено звание Героя Советского Союза (посмертно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и и проявленные при этом мужество и героизм красноармейц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ркову Василию Иванович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своено звание Героя Советского Союза (посмертно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0D4E-805A-469A-A3CC-98AA2773640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о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Министра Обороны ССС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 И. Сурко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авечно зачисл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писки воинско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ем В. И. Суркова на родине названы две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лице имени Суркова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Демидо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ановлена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мемориальная дос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ле Владимировка — памят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ле Борок Духовщинского района — обелис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я Героя носит профтехучилище № 6 в Самарск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27B7-1D4F-485A-A862-7DFC8007B26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елиск  в деревне Тарасово Духовщинского район Смолен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C237-4FDE-4D59-B4C4-70447848F74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ом Министра Обороны СССР В.И.Сурков навечно зачислен в списки воинской ч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9636-E878-4E0D-8C75-70930BE5B6F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чная память героям Великой Отечественной вой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B9D2-4B3D-4B05-91F6-4DF07E5243C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.И.Сурков родился 10 февраля 1925 года в селе Владимировка Хворостянского района Самарской обла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A629-CC64-42F0-8128-A5D8EF06042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дители Геро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0DF7-6D56-48F4-A6FF-3A80B724109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а с фро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B88D-C8EC-433B-AD52-B37B4E03BF9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BEE-AE53-4C62-BD0E-F1B458DF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99C-CD5E-44F1-A589-5A7B2746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5D1B-A01E-4E55-AF16-598E0499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3439-2229-4C3B-ACD8-C9E74E4C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F15E-E67F-4E9D-9D04-7CB41DA0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66CF-893A-4566-A3B4-CC9632B8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B795-B880-4AEA-8866-B2A62752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16FC-618D-4BB6-950E-AE4488B8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DF59-E5CF-4B6E-8A64-9D5AB039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E488-3172-43B8-917F-85FC5E81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5B33-6F37-4605-867A-84E7684D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3B75-7F4D-434D-AEF1-64E63DCF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423E-AC3B-46E8-A884-88D011DB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0B4C-A759-4078-ADA1-0F7E8BC8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B34A-A186-4CAC-9196-871669DD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E155-0BD2-4D0A-804C-DB369BB8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89D9-CF78-444A-B6F8-BB9A0B43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5E100-E1BF-4B3C-A640-A0083609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4B040-B2BA-4F37-A937-AD3E2393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8047E-CB1C-4250-81A4-3B564B29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FAFD0-F63F-4102-8C3E-2756D8BE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9395D-D87F-4FA3-BC2F-C51AF893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E146-0D00-4248-A837-E67C6019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A9179-DC72-4FF0-86B7-6679FEC1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853B0-75A8-4FB8-8F5A-1C531B2F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EA29E-51E0-4C04-919F-164258CC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CA033-CC95-44E0-9787-0C77136E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D65BA-557B-4FC0-B8CE-73639903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CDF44-2D2C-4201-A5F2-2783D795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4C356-012C-4813-AFC4-766FA1E7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6FD40-4512-46E8-B532-4320B6D6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C2A37-C031-4DBE-9CB1-729C0F26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67B18-1F74-4CAB-90EA-864545A5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285C-8BB6-465B-9622-875E056C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CE6EA-62EB-499D-B1A4-967E7732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67718-F467-490E-9AC3-0280AFD9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7A1DA-0A24-4E5F-BC75-C65CC508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1BFD9-4F7A-4D77-A4FB-EF91F1F3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08D7E-4158-4D0E-A9E7-01AC8CE1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ECCE2-8443-4C7F-BD4F-C7B774F1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1B9E5-D3C2-458C-9ADF-59AD3AAF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82FD6-DE93-4592-BC89-0449EC88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2F3BF-ADE4-47D7-BD90-C6C8B08D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6564-A6E6-43F1-BA7C-BC54DEC8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4BFB-1D88-45CC-AE62-39A6CD9B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D413-D724-4ED8-AA5D-5A885A9F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5862-1881-41BA-A2DD-1A4327FC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96B2-CEF7-4F44-95A7-6EC1B0C2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4298-D386-49B5-A78C-F583FB70F4B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D81A-4FA9-4B24-A07B-AF8745E95B6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DCF1-954A-4201-BD62-347F638F9F6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FBA7-E3CD-4A06-91FD-B8BDB6C6655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0;&#1085;&#1080;&#1089;&#1090;&#1088;_&#1054;&#1073;&#1086;&#1088;&#1086;&#1085;&#1099;_&#1057;&#1057;&#1057;&#1056;" TargetMode="External"/><Relationship Id="rId2" Type="http://schemas.openxmlformats.org/officeDocument/2006/relationships/hyperlink" Target="http://ru.wikipedia.org/wiki/&#1053;&#1072;&#1074;&#1077;&#1095;&#1085;&#1086;_&#1079;&#1072;&#1095;&#1080;&#1089;&#1083;&#1077;&#1085;" TargetMode="External"/><Relationship Id="rId3" Type="http://schemas.openxmlformats.org/officeDocument/2006/relationships/hyperlink" Target="http://ru.wikipedia.org/wiki/&#1044;&#1077;&#1084;&#1080;&#1076;&#1086;&#1074;_(&#1075;&#1086;&#1088;&#1086;&#1076;)" TargetMode="External"/><Relationship Id="rId4" Type="http://schemas.openxmlformats.org/officeDocument/2006/relationships/hyperlink" Target="http://ru.wikipedia.org/wiki/&#1052;&#1077;&#1084;&#1086;&#1088;&#1080;&#1072;&#1083;&#1100;&#1085;&#1072;&#1103;_&#1076;&#1086;&#1089;&#1082;&#1072;" TargetMode="External"/><Relationship Id="rId5" Type="http://schemas.openxmlformats.org/officeDocument/2006/relationships/hyperlink" Target="http://ru.wikipedia.org/wiki/&#1042;&#1083;&#1072;&#1076;&#1080;&#1084;&#1080;&#1088;&#1086;&#1074;&#1082;&#1072;_(&#1061;&#1074;&#1086;&#1088;&#1086;&#1089;&#1090;&#1103;&#1085;&#1089;&#1082;&#1080;&#1081;_&#1088;&#1072;&#1081;&#1086;&#1085;_&#1057;&#1072;&#1084;&#1072;&#1088;&#1089;&#1082;&#1086;&#1081;_&#1086;&#1073;&#1083;&#1072;&#1089;&#1090;&#1080;)" TargetMode="External"/><Relationship Id="rId6" Type="http://schemas.openxmlformats.org/officeDocument/2006/relationships/hyperlink" Target="http://ru.wikipedia.org/wiki/&#1055;&#1072;&#1084;&#1103;&#1090;&#1085;&#1080;&#1082;" TargetMode="External"/><Relationship Id="rId7" Type="http://schemas.openxmlformats.org/officeDocument/2006/relationships/hyperlink" Target="http://ru.wikipedia.org/wiki/&#1041;&#1086;&#1088;&#1086;&#1082;" TargetMode="External"/><Relationship Id="rId8" Type="http://schemas.openxmlformats.org/officeDocument/2006/relationships/hyperlink" Target="http://ru.wikipedia.org/wiki/&#1054;&#1073;&#1077;&#1083;&#1080;&#1089;&#1082;" TargetMode="External"/><Relationship Id="rId9" Type="http://schemas.openxmlformats.org/officeDocument/2006/relationships/hyperlink" Target="http://ru.wikipedia.org/wiki/&#1057;&#1072;&#1084;&#1072;&#1088;&#1089;&#1082;&#1072;&#1103;_&#1086;&#1073;&#1083;&#1072;&#1089;&#1090;&#1100;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pomnipro.ru/memorypage18929/biography" TargetMode="External"/><Relationship Id="rId2" Type="http://schemas.openxmlformats.org/officeDocument/2006/relationships/hyperlink" Target="http://www.warheroes.ru/hero/hero.asp?Hero_id=10153" TargetMode="External"/><Relationship Id="rId3" Type="http://schemas.openxmlformats.org/officeDocument/2006/relationships/hyperlink" Target="http://www.warheroes.ru/hero/hero.asp?Hero_id=10153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3643200" y="333360"/>
            <a:ext cx="4889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ерой Советского Сою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рк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асилий Иванович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5786280" y="3933720"/>
            <a:ext cx="310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у выполни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нышкина Ел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ца  8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БОУ СОШ№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Обшаров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р. Приволж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ар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.Руководитель: Усачева О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2" descr="D:\ДОКУМЕНТЫ\Мои рисунки\1.jpg"/>
          <p:cNvPicPr/>
          <p:nvPr/>
        </p:nvPicPr>
        <p:blipFill>
          <a:blip r:embed="rId1"/>
          <a:stretch/>
        </p:blipFill>
        <p:spPr>
          <a:xfrm>
            <a:off x="0" y="571680"/>
            <a:ext cx="38577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3348000" y="333360"/>
            <a:ext cx="525636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начале сентября 1943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томатчик Сурков участвов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3- дневном разведывательн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ходе в тыл врага., в результате разведч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вели гитлеровск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фицера-артиллерист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торый дал очень важные све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 эту вылазку Сурков В.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гражден медал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За боевые заслуги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Рисунок 1" descr="MBzA.jpg (26936 bytes)"/>
          <p:cNvPicPr/>
          <p:nvPr/>
        </p:nvPicPr>
        <p:blipFill>
          <a:blip r:embed="rId1"/>
          <a:stretch/>
        </p:blipFill>
        <p:spPr>
          <a:xfrm>
            <a:off x="214200" y="549360"/>
            <a:ext cx="264348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2" descr="&amp;Ocy;&amp;rcy;&amp;dcy;&amp;iecy;&amp;ncy; &amp;Lcy;&amp;iecy;&amp;ncy;&amp;icy;&amp;ncy;&amp;acy;"/>
          <p:cNvPicPr/>
          <p:nvPr/>
        </p:nvPicPr>
        <p:blipFill>
          <a:blip r:embed="rId1"/>
          <a:stretch/>
        </p:blipFill>
        <p:spPr>
          <a:xfrm>
            <a:off x="900000" y="620640"/>
            <a:ext cx="3240360" cy="53085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4572000" y="1859040"/>
            <a:ext cx="410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 боевые заслуг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гражден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Орденом Ленин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043640" y="-5380200"/>
            <a:ext cx="73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боях Великой Отечественной войны с 1 августа 1943 года. Сражался на Калининском фронте. Участвовал в Духовщинской наступательной опер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втоматчик красноармеец В. И. Сурков в районе деревни Тарасово (Духовщинский район Смоленской области) 13 сентября 1943 года в критический момент боя бросился к ведущему огонь пулемёту противника и закрыл его своим телом. Ценою жизни способствовал выполнению боевой задачи р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18" descr="http://pics.livejournal.com/psitex/pic/000cpfec/s320x240"/>
          <p:cNvPicPr/>
          <p:nvPr/>
        </p:nvPicPr>
        <p:blipFill>
          <a:blip r:embed="rId1"/>
          <a:stretch/>
        </p:blipFill>
        <p:spPr>
          <a:xfrm>
            <a:off x="357120" y="285840"/>
            <a:ext cx="3783240" cy="2566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5148360" y="333360"/>
            <a:ext cx="367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асилий Сурков повторил подви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Александра Матрос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D:\ДОКУМЕНТЫ\Мои рисунки\2.jpg"/>
          <p:cNvPicPr/>
          <p:nvPr/>
        </p:nvPicPr>
        <p:blipFill>
          <a:blip r:embed="rId1"/>
          <a:stretch/>
        </p:blipFill>
        <p:spPr>
          <a:xfrm>
            <a:off x="3143160" y="0"/>
            <a:ext cx="5500800" cy="314172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2" descr="http://www.savok.org/uploads/posts/2010-04/1272118928_rrrrrr-rrrrryi.jpg"/>
          <p:cNvPicPr/>
          <p:nvPr/>
        </p:nvPicPr>
        <p:blipFill>
          <a:blip r:embed="rId2"/>
          <a:stretch/>
        </p:blipFill>
        <p:spPr>
          <a:xfrm>
            <a:off x="285840" y="285840"/>
            <a:ext cx="2571840" cy="235728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3"/>
          <p:cNvSpPr/>
          <p:nvPr/>
        </p:nvSpPr>
        <p:spPr>
          <a:xfrm>
            <a:off x="250920" y="3284640"/>
            <a:ext cx="8250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казом Президиума Верховного Совета СССР от 4 июня 1944 года за образцовое выполнение боевых заданий командования на фронте борьбы с немецко-фашистскими захватчиками и проявленные при этом мужество и героизм красноармейцу Суркову Василию Ивановичу присвоено звани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ероя Советского Союз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посмертно). .  Погиб 14 .09 1943 год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хоронен в городе Демидов Смоленской обла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419640" y="692280"/>
            <a:ext cx="51847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Monotype Corsiva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Monotype Corsiva"/>
              </a:rPr>
              <a:t>Подвиг этот, будет в памяти жить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Monotype Corsiva"/>
              </a:rPr>
              <a:t>И в наших сердцах гореть!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Monotype Corsiva"/>
              </a:rPr>
              <a:t>Тех, кто с врагом был готов разделить,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Monotype Corsiva"/>
              </a:rPr>
              <a:t>Поровну только смерть!»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00"/>
                </a:solidFill>
                <a:latin typeface="Monotype Corsiva"/>
              </a:rPr>
              <a:t>Ким Добкин</a:t>
            </a:r>
            <a:r>
              <a:rPr b="0" lang="ru-RU" sz="36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Рисунок 2" descr="http://www.savok.org/uploads/posts/2010-04/1272118928_rrrrrr-rrrrryi.jpg"/>
          <p:cNvPicPr/>
          <p:nvPr/>
        </p:nvPicPr>
        <p:blipFill>
          <a:blip r:embed="rId1"/>
          <a:stretch/>
        </p:blipFill>
        <p:spPr>
          <a:xfrm>
            <a:off x="250920" y="285840"/>
            <a:ext cx="2881080" cy="27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250920" y="333360"/>
            <a:ext cx="85690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амя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казом 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Министра Обороны СССР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. И. Сурков 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навечно зачисле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 списки воинской ч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менем В. И. Суркова на родине названы две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улице имени Суркова в 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Демидов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установлена 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Arial"/>
                <a:hlinkClick r:id="rId4"/>
              </a:rPr>
              <a:t>мемориальная дос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еле 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Arial"/>
                <a:hlinkClick r:id="rId5"/>
              </a:rPr>
              <a:t>Владимировка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— 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Arial"/>
                <a:hlinkClick r:id="rId6"/>
              </a:rPr>
              <a:t>памятник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еле 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Arial"/>
                <a:hlinkClick r:id="rId7"/>
              </a:rPr>
              <a:t>Борок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уховщинского района — 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Arial"/>
                <a:hlinkClick r:id="rId8"/>
              </a:rPr>
              <a:t>обелиск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мя Героя носит техникум в 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Arial"/>
                <a:hlinkClick r:id="rId9"/>
              </a:rPr>
              <a:t>Самарской обла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селе  Обшаровк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755640" y="333360"/>
            <a:ext cx="38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асилию Суркову посвящена поэ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а называется «Василий Сурков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втор Валентин Столя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4643280" y="260280"/>
            <a:ext cx="42498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чу ему через год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Стой Это смерть строчит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тановись! – Кричу. – Куда?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слуша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лч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– метр за метром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потом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егк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бы на взлет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росок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грудью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во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иснуты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прямо ртом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смер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пулем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, словно буря подняла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етая черный дзо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ванулась р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пошла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все впере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перед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D:\ДОКУМЕНТЫ\Мои рисунки\3.jpg"/>
          <p:cNvPicPr/>
          <p:nvPr/>
        </p:nvPicPr>
        <p:blipFill>
          <a:blip r:embed="rId1"/>
          <a:stretch/>
        </p:blipFill>
        <p:spPr>
          <a:xfrm>
            <a:off x="1258920" y="404640"/>
            <a:ext cx="7456320" cy="466740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2"/>
          <p:cNvSpPr/>
          <p:nvPr/>
        </p:nvSpPr>
        <p:spPr>
          <a:xfrm>
            <a:off x="214200" y="5072040"/>
            <a:ext cx="857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белиск установленный в честь В.И. Сурк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деревне Тарасово Духовщинского  район Смоленской обла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D:\ДОКУМЕНТЫ\Мои рисунки\7.jpg"/>
          <p:cNvPicPr/>
          <p:nvPr/>
        </p:nvPicPr>
        <p:blipFill>
          <a:blip r:embed="rId1"/>
          <a:stretch/>
        </p:blipFill>
        <p:spPr>
          <a:xfrm>
            <a:off x="214200" y="0"/>
            <a:ext cx="8143920" cy="471492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2"/>
          <p:cNvSpPr/>
          <p:nvPr/>
        </p:nvSpPr>
        <p:spPr>
          <a:xfrm>
            <a:off x="214200" y="4813200"/>
            <a:ext cx="89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иказом Министра Обороны СССР В.И.Сурков навечно зачислен в списки  975-го стрелкового полка 270-й стрелковой дивизии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4410000"/>
            <a:ext cx="8820000" cy="20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Техникум в с. Обшаровка , которое носит имя В.И. Суркова.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6" name="Picture 4" descr="image060"/>
          <p:cNvPicPr/>
          <p:nvPr/>
        </p:nvPicPr>
        <p:blipFill>
          <a:blip r:embed="rId1"/>
          <a:stretch/>
        </p:blipFill>
        <p:spPr>
          <a:xfrm>
            <a:off x="900000" y="333360"/>
            <a:ext cx="784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0920" y="301320"/>
            <a:ext cx="8281800" cy="586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Нет героев от рожденья.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 Они рождаются в боях!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                    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                А. Твардовск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571680" y="5072040"/>
            <a:ext cx="81435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Arial"/>
              </a:rPr>
              <a:t>Вечная память героям Великой Отечественной войны !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" descr="http://go3.imgsmail.ru/imgpreview?key=http%3A//static.colnyshko.ru/big/521715914e8d396fc47c2ea9007d60f0.gif&amp;mb=imgdb_preview_47&amp;w=140&amp;h=132"/>
          <p:cNvPicPr/>
          <p:nvPr/>
        </p:nvPicPr>
        <p:blipFill>
          <a:blip r:embed="rId1"/>
          <a:stretch/>
        </p:blipFill>
        <p:spPr>
          <a:xfrm>
            <a:off x="2214720" y="404640"/>
            <a:ext cx="5000400" cy="47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спользуемые ресур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316880" y="1936800"/>
            <a:ext cx="784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http://pomnipro.ru/memorypage18929/bi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warheroes.ru›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hero/hero.asp?Hero_id=101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 http://www.warheroes.ru/hero/hero.asp?Hero_id=101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http://www.people.su/10552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http://hvorostyanka.ru/blog/surkov_vasilij_ivanovich/2012-02-27-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алентин Столяров «Жду осени» поэма «Василий Сурков» стр.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Сурков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Василий Иванович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2" name="Picture 2" descr="D:\ДОКУМЕНТЫ\Мои рисунки\1.jpg"/>
          <p:cNvPicPr/>
          <p:nvPr/>
        </p:nvPicPr>
        <p:blipFill>
          <a:blip r:embed="rId1"/>
          <a:stretch/>
        </p:blipFill>
        <p:spPr>
          <a:xfrm>
            <a:off x="2484360" y="1341360"/>
            <a:ext cx="4175280" cy="46087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468360" y="6113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0.02.1925 – 14.09. 194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D:\ДОКУМЕНТЫ\Мои рисунки\5.jpg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400068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3"/>
          <p:cNvSpPr/>
          <p:nvPr/>
        </p:nvSpPr>
        <p:spPr>
          <a:xfrm>
            <a:off x="428760" y="3929040"/>
            <a:ext cx="839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D:\ДОКУМЕНТЫ\Мои рисунки\1.jpg"/>
          <p:cNvPicPr/>
          <p:nvPr/>
        </p:nvPicPr>
        <p:blipFill>
          <a:blip r:embed="rId2"/>
          <a:stretch/>
        </p:blipFill>
        <p:spPr>
          <a:xfrm>
            <a:off x="684360" y="0"/>
            <a:ext cx="3706560" cy="40006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250920" y="4005360"/>
            <a:ext cx="889308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асилий родился 10 февраля 1925 года в селе Владимиров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воростянского района Куйбышевской области в семье крестьяни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ий. Он рос любознательным мальчиком, как и всех ребят его тянуло к технике. Поэтому часто по утрам он убегал в поле посмотреть  и послушать рокот могучих стальных коней – тракторов. Иногда его сажали за рычаги трактора и разрешали управлять рычагами. Счастью не было конц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D:\ДОКУМЕНТЫ\Мои рисунки\6.jpg"/>
          <p:cNvPicPr/>
          <p:nvPr/>
        </p:nvPicPr>
        <p:blipFill>
          <a:blip r:embed="rId1"/>
          <a:stretch/>
        </p:blipFill>
        <p:spPr>
          <a:xfrm>
            <a:off x="1692360" y="1413000"/>
            <a:ext cx="6048360" cy="373068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2"/>
          <p:cNvSpPr/>
          <p:nvPr/>
        </p:nvSpPr>
        <p:spPr>
          <a:xfrm>
            <a:off x="1857240" y="5460840"/>
            <a:ext cx="60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ван Тимофеевич и Матрена Тимофе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Родители героя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301320"/>
            <a:ext cx="87487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1941 г – начало Великой Отечественной Войн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2" name="Picture 4" descr="plakat_2"/>
          <p:cNvPicPr/>
          <p:nvPr/>
        </p:nvPicPr>
        <p:blipFill>
          <a:blip r:embed="rId1"/>
          <a:stretch/>
        </p:blipFill>
        <p:spPr>
          <a:xfrm>
            <a:off x="250920" y="1484280"/>
            <a:ext cx="3241440" cy="46814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564000" y="1557360"/>
            <a:ext cx="5256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йна грянула когда Василию было 16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х мужиков забрали на войну, в деревне остались стар да ма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одив отца на фронт, Василий заявил матери, что тоже уйдет на фрон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в военкомате  Василию отказ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азали ,что молод и направили учиться в школу механ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льского хозяйства в с. Обшаровка. Окончив  школу, стал комбайнером Хворостянского МТС. Трудился с утренней зари до заката солнца, а нередко прихватывал и ноч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5"/>
          <p:cNvSpPr/>
          <p:nvPr/>
        </p:nvSpPr>
        <p:spPr>
          <a:xfrm>
            <a:off x="250920" y="4149720"/>
            <a:ext cx="8896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вот повестка из военком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За меня не волнуйся- трудным голосом сказал он матери», «Если и погибну, но не трусо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 старинному обычаю  благославила  Матрена Тимофеевна единственного сына и проводив его долго смотрела Василию вслед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plakat_5"/>
          <p:cNvPicPr/>
          <p:nvPr/>
        </p:nvPicPr>
        <p:blipFill>
          <a:blip r:embed="rId1"/>
          <a:stretch/>
        </p:blipFill>
        <p:spPr>
          <a:xfrm>
            <a:off x="395280" y="476280"/>
            <a:ext cx="3384720" cy="324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plakat_3"/>
          <p:cNvPicPr/>
          <p:nvPr/>
        </p:nvPicPr>
        <p:blipFill>
          <a:blip r:embed="rId2"/>
          <a:stretch/>
        </p:blipFill>
        <p:spPr>
          <a:xfrm>
            <a:off x="4572000" y="404640"/>
            <a:ext cx="3745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D:\ДОКУМЕНТЫ\Мои рисунки\4.jpg"/>
          <p:cNvPicPr/>
          <p:nvPr/>
        </p:nvPicPr>
        <p:blipFill>
          <a:blip r:embed="rId1"/>
          <a:stretch/>
        </p:blipFill>
        <p:spPr>
          <a:xfrm>
            <a:off x="4788000" y="1916280"/>
            <a:ext cx="4032000" cy="280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98400" y="274680"/>
            <a:ext cx="70880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исьма с фронт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95280" y="486900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д  отправкой на фронт писал отцу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 Будь спокоен отец, вам с матерью и землякам не придется краснеть за меня, с честью выполню свой долг перед Родиной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2" descr="D:\ДОКУМЕНТЫ\Мои рисунки\6.jpg"/>
          <p:cNvPicPr/>
          <p:nvPr/>
        </p:nvPicPr>
        <p:blipFill>
          <a:blip r:embed="rId2"/>
          <a:stretch/>
        </p:blipFill>
        <p:spPr>
          <a:xfrm>
            <a:off x="324000" y="1413000"/>
            <a:ext cx="4103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826920" y="56196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 слово свое Василий сдержа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4643280" y="1957320"/>
            <a:ext cx="45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штур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. Большое Бересне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матным огн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ничтожи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сколько фашис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гражд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деном «Красной Звезд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Рисунок 3" descr="&amp;Ocy;&amp;rcy;&amp;dcy;&amp;iecy;&amp;ncy; &amp;Kcy;&amp;rcy;&amp;acy;&amp;scy;&amp;ncy;&amp;ocy;&amp;jcy; &amp;Zcy;&amp;vcy;&amp;iecy;&amp;zcy;&amp;dcy;&amp;ycy;"/>
          <p:cNvPicPr/>
          <p:nvPr/>
        </p:nvPicPr>
        <p:blipFill>
          <a:blip r:embed="rId1"/>
          <a:stretch/>
        </p:blipFill>
        <p:spPr>
          <a:xfrm>
            <a:off x="468360" y="1341360"/>
            <a:ext cx="381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1-31T16:00:02Z</dcterms:modified>
  <cp:revision>15</cp:revision>
  <dc:subject/>
  <dc:title>Слайд 1</dc:title>
</cp:coreProperties>
</file>