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F9DD-4110-47D6-A8C3-CF1590AF25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сту в «Поурочных разработках по литературному чтению. 3 класс» С.В.Кутявиной. К УМК  Л.Ф.Климановой («Школа России») стр.164-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CD8-F292-466D-9BC1-EE58975AA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EDB-7B6C-4481-B906-CC701CC9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7A2-D6F3-4B65-9C53-239670BB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7F0-D527-44CF-9E77-B7B956EF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076-5F96-4718-9514-9A24FCB7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5BC1-8B2A-4938-89A2-431B0600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A7A0-70E0-4D6D-8DDA-9658F15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6552-D711-4B60-A0AA-36A728D6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CBD-E681-4340-8BD3-8E1E8651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4A47-D874-423D-B0E8-D750F200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2670-C763-47B6-A2F1-199C8F01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1B4-18E5-4078-BE01-30D5A95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1ED-11FF-4A06-B662-BDC4CFF6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A57A-23A6-4294-88FD-E2A714A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22B9-85C1-43C4-B04B-0893A4E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9D64-708A-4249-BEB7-6B9E94A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09C5-1C0A-4DC1-BF20-9476583C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3DBC-24E5-47B5-89A9-1B233588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B6E-10D7-4676-9606-E49A7DD8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64C-4D87-4B4E-B461-772C9B9F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BE7-DDD3-40EC-89A4-F7D9F4F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881-1D8A-41E4-9918-8A116AC8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05B-BEE0-4D87-8D99-252ED0D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95E-238D-4573-BD3B-060F9A9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799-DE47-4F6D-B2AF-4762D95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F290-741F-40B1-8B5D-57072268E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4aacc0cbe69a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7E30-63B7-4D63-AC13-3AB3415AF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4"/>
          <p:cNvSpPr/>
          <p:nvPr/>
        </p:nvSpPr>
        <p:spPr>
          <a:xfrm>
            <a:off x="1042920" y="14130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ст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еликие русские пис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6"/>
          <p:cNvSpPr/>
          <p:nvPr/>
        </p:nvSpPr>
        <p:spPr>
          <a:xfrm>
            <a:off x="2843280" y="476280"/>
            <a:ext cx="3600360" cy="50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e0ec"/>
                </a:solidFill>
                <a:latin typeface="Calibri"/>
                <a:ea typeface="Arial"/>
              </a:rPr>
              <a:t>Литературное чтение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e0ec"/>
                </a:solidFill>
                <a:latin typeface="Calibri"/>
                <a:ea typeface="Arial"/>
              </a:rPr>
              <a:t>УМК «Школа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4932360" y="4581360"/>
            <a:ext cx="403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e0ec"/>
                </a:solidFill>
                <a:latin typeface="Monotype Corsiva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e0ec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e0ec"/>
                </a:solidFill>
                <a:latin typeface="Monotype Corsiva"/>
              </a:rPr>
              <a:t>ГБОУ Школа №1929 г.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0ec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e6e0ec"/>
                </a:solidFill>
                <a:latin typeface="Monotype Corsiva"/>
              </a:rPr>
              <a:t>Ниткина Е 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1908000" y="1341360"/>
            <a:ext cx="543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И.А.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Л.Н.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М.Ю.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978360" y="476280"/>
            <a:ext cx="73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258920" y="1413000"/>
            <a:ext cx="543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Прыж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Аку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Лев и соба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Котён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978360" y="476280"/>
            <a:ext cx="664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908000" y="1341360"/>
            <a:ext cx="543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Л.Н.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И.А.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М.Ю.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978360" y="476280"/>
            <a:ext cx="664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1908000" y="1341360"/>
            <a:ext cx="543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.Ю.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.А.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.Н.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78360" y="476280"/>
            <a:ext cx="664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468360" y="141300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льшой юмористический рас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ленький рас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атирическое 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изведение, где высмеиваются пороки и недостатки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3978360" y="476280"/>
            <a:ext cx="664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468360" y="141300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руговорот воды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щение Земли вокруг своей о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щение Земли вокруг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на времён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987640" y="404640"/>
            <a:ext cx="2538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8360" y="1700280"/>
            <a:ext cx="68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С.В.Кутявина «Поурочные разработки по литературному чтению. 3 класс» к УМК Л.Ф.Климановой и др. «Школа России» Москва. «ВАКО» 201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258920" y="1413000"/>
            <a:ext cx="543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Аку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Прыж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Лев и соба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Сивка-Бур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258920" y="1413000"/>
            <a:ext cx="712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Прыж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На севере далёком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Зимний веч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Ворона и Лис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24000" y="14130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Прыж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Аку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Лев и соба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Какая бывает роса на тра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24000" y="1341360"/>
            <a:ext cx="849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Куда девается вода из мор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На севере диком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Горные вершин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В тот год осенняя погода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258920" y="1413000"/>
            <a:ext cx="543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М.Ю.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Л.Н.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И.А.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547640" y="1268280"/>
            <a:ext cx="543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Л.Н.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М.Ю.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И.А.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468360" y="1413000"/>
            <a:ext cx="849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Аку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Прыж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Куда девается вода из мор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«На севере диком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978360" y="476280"/>
            <a:ext cx="43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908000" y="1341360"/>
            <a:ext cx="543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М.Ю.Лермо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Л.Н.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И.А.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27:25Z</dcterms:created>
  <dc:creator>Helen</dc:creator>
  <dc:description/>
  <dc:language>en-US</dc:language>
  <cp:lastModifiedBy>111</cp:lastModifiedBy>
  <dcterms:modified xsi:type="dcterms:W3CDTF">2018-01-31T16:18:52Z</dcterms:modified>
  <cp:revision>8</cp:revision>
  <dc:subject/>
  <dc:title>Слайд 1</dc:title>
</cp:coreProperties>
</file>