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845-4786-42CE-AD6F-C7ED341F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BB5-785D-49BA-824F-672221AA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B70-C850-40FC-BFF5-592EE7CD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68C-F05C-44CD-873B-16F0BA54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AA5-73B7-4F35-BBAF-ECF28C8C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B3F-1557-4164-B6A9-CF4AFDCD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E7F-E478-487B-AAC4-898831E4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920-833F-48C5-AA8B-AD4EF9D8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1DF-FCAD-4216-AB3F-AFD5706C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9AB-FFD9-44BC-812C-23069011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DDE-CFBC-479B-9DBB-A02B68A1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631-997F-4AD6-8C31-073E682E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8722-0E72-4210-82E0-3DCF9DBA0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Рисунок2.png"/>
          <p:cNvPicPr/>
          <p:nvPr/>
        </p:nvPicPr>
        <p:blipFill>
          <a:blip r:embed="rId1"/>
          <a:stretch/>
        </p:blipFill>
        <p:spPr>
          <a:xfrm>
            <a:off x="0" y="0"/>
            <a:ext cx="91026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3876840" y="781200"/>
            <a:ext cx="5273640" cy="15174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7" descr=""/>
          <p:cNvPicPr/>
          <p:nvPr/>
        </p:nvPicPr>
        <p:blipFill>
          <a:blip r:embed="rId3"/>
          <a:stretch/>
        </p:blipFill>
        <p:spPr>
          <a:xfrm>
            <a:off x="4432320" y="2505240"/>
            <a:ext cx="41511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Рисунок10.png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2760" y="1643040"/>
            <a:ext cx="8993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ся и Гриша скучали во дворе. Решили они по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гулять.  Друзья взяли санки и зашагали по тро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и горка. Уселись мальчики на санки и пок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из. Только снежок заскрипел и закружился за са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друг Вася вылетел из санок и свалился в сугроб.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льно ударил ногу и не мог сам вс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иша усадил товарища на санки и повёз в больн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рачи оказали Васе помощ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1268280" y="255600"/>
            <a:ext cx="6150240" cy="1103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5711760" y="4700520"/>
            <a:ext cx="272592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Рисунок10.png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1712880" y="139680"/>
            <a:ext cx="5956200" cy="9828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3" descr=""/>
          <p:cNvPicPr/>
          <p:nvPr/>
        </p:nvPicPr>
        <p:blipFill>
          <a:blip r:embed="rId3"/>
          <a:stretch/>
        </p:blipFill>
        <p:spPr>
          <a:xfrm>
            <a:off x="122400" y="1762200"/>
            <a:ext cx="892944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Рисунок10.png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554040" y="109440"/>
            <a:ext cx="7870680" cy="1103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133920" y="1643040"/>
            <a:ext cx="846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ся и Гриша скучали во дворе. Решили они по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гулять.  Друзья взяли санки и зашагали по тро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22760" y="2500200"/>
            <a:ext cx="899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и горка. Уселись мальчики на санки и пок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из. Только снежок заскрипел и закружился за са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друг Вася вылетел из санок и свалился в сугроб.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льно ударил ногу и не мог сам вс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-9360" y="4143240"/>
            <a:ext cx="894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иша усадил товарища на санки и повёз в больн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рачи оказали Васе помощ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Рисунок10.pn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2" descr=""/>
          <p:cNvPicPr/>
          <p:nvPr/>
        </p:nvPicPr>
        <p:blipFill>
          <a:blip r:embed="rId2"/>
          <a:stretch/>
        </p:blipFill>
        <p:spPr>
          <a:xfrm>
            <a:off x="-171360" y="103320"/>
            <a:ext cx="9516960" cy="823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10120" y="1857240"/>
            <a:ext cx="2803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уч   ли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варищ   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руж   лс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ш   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ни   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угро   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вё   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руз   я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003760" y="300024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2289600" y="242892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289520" y="407196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1360800" y="350028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503720" y="514368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1575360" y="457200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1432440" y="571500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1360800" y="185724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2661480" y="1857240"/>
            <a:ext cx="39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щ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иши с «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3804480" y="3357720"/>
            <a:ext cx="41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ж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ш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иши с «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1360440" y="1857240"/>
            <a:ext cx="4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2288880" y="242892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3085920" y="2428920"/>
            <a:ext cx="39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у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щу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иши с «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2003040" y="2928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1360080" y="350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авая фигурная скобка 20"/>
          <p:cNvSpPr/>
          <p:nvPr/>
        </p:nvSpPr>
        <p:spPr>
          <a:xfrm>
            <a:off x="3214800" y="3286080"/>
            <a:ext cx="428400" cy="7146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714600"/>
              <a:gd name="textAreaBottom" fmla="*/ 7034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0"/>
                  <a:pt x="10800" y="1080"/>
                </a:cubicBezTo>
                <a:lnTo>
                  <a:pt x="10800" y="9720"/>
                </a:lnTo>
                <a:cubicBezTo>
                  <a:pt x="10800" y="10260"/>
                  <a:pt x="16200" y="10800"/>
                  <a:pt x="21600" y="10800"/>
                </a:cubicBezTo>
                <a:cubicBezTo>
                  <a:pt x="16200" y="10800"/>
                  <a:pt x="10800" y="11340"/>
                  <a:pt x="10800" y="11880"/>
                </a:cubicBezTo>
                <a:lnTo>
                  <a:pt x="10800" y="20520"/>
                </a:lnTo>
                <a:cubicBezTo>
                  <a:pt x="10800" y="2106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1289160" y="4071960"/>
            <a:ext cx="3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077200" y="407196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ни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3"/>
          <p:cNvSpPr/>
          <p:nvPr/>
        </p:nvSpPr>
        <p:spPr>
          <a:xfrm>
            <a:off x="1574640" y="464328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4"/>
          <p:cNvSpPr/>
          <p:nvPr/>
        </p:nvSpPr>
        <p:spPr>
          <a:xfrm>
            <a:off x="2438280" y="457200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угро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5"/>
          <p:cNvSpPr/>
          <p:nvPr/>
        </p:nvSpPr>
        <p:spPr>
          <a:xfrm>
            <a:off x="1503360" y="5143680"/>
            <a:ext cx="3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6"/>
          <p:cNvSpPr/>
          <p:nvPr/>
        </p:nvSpPr>
        <p:spPr>
          <a:xfrm>
            <a:off x="2220840" y="5143680"/>
            <a:ext cx="12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е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7"/>
          <p:cNvSpPr/>
          <p:nvPr/>
        </p:nvSpPr>
        <p:spPr>
          <a:xfrm>
            <a:off x="1431720" y="5715000"/>
            <a:ext cx="4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2364120" y="5715000"/>
            <a:ext cx="43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делительный «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Рисунок10.pn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" descr=""/>
          <p:cNvPicPr/>
          <p:nvPr/>
        </p:nvPicPr>
        <p:blipFill>
          <a:blip r:embed="rId2"/>
          <a:stretch/>
        </p:blipFill>
        <p:spPr>
          <a:xfrm>
            <a:off x="23760" y="42840"/>
            <a:ext cx="9406080" cy="110340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510840" y="1571760"/>
            <a:ext cx="252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ш   г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 дв   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 тр   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к   т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   ж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скр   п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   н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581720" y="1571760"/>
            <a:ext cx="2396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л   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   ли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с   д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   льн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р   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к   з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002960" y="4000680"/>
            <a:ext cx="4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1004400" y="4000680"/>
            <a:ext cx="5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360800" y="3429000"/>
            <a:ext cx="4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285920" y="3429000"/>
            <a:ext cx="5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1646280" y="2786040"/>
            <a:ext cx="45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1576080" y="2786040"/>
            <a:ext cx="5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1717920" y="2143080"/>
            <a:ext cx="45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1647360" y="2214720"/>
            <a:ext cx="5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1432440" y="1571760"/>
            <a:ext cx="4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1361520" y="1571760"/>
            <a:ext cx="5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4790520" y="3429000"/>
            <a:ext cx="5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714240" y="52149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718920" y="5214960"/>
            <a:ext cx="5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1718280" y="4643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1719000" y="4643280"/>
            <a:ext cx="5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5075640" y="2786040"/>
            <a:ext cx="4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5005080" y="2786040"/>
            <a:ext cx="5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3"/>
          <p:cNvSpPr/>
          <p:nvPr/>
        </p:nvSpPr>
        <p:spPr>
          <a:xfrm>
            <a:off x="5075640" y="2143080"/>
            <a:ext cx="4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4"/>
          <p:cNvSpPr/>
          <p:nvPr/>
        </p:nvSpPr>
        <p:spPr>
          <a:xfrm>
            <a:off x="5005080" y="2143080"/>
            <a:ext cx="5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5"/>
          <p:cNvSpPr/>
          <p:nvPr/>
        </p:nvSpPr>
        <p:spPr>
          <a:xfrm>
            <a:off x="5503680" y="1571760"/>
            <a:ext cx="4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5433480" y="1571760"/>
            <a:ext cx="5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5147280" y="4643280"/>
            <a:ext cx="4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8"/>
          <p:cNvSpPr/>
          <p:nvPr/>
        </p:nvSpPr>
        <p:spPr>
          <a:xfrm>
            <a:off x="5076360" y="4643280"/>
            <a:ext cx="5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9"/>
          <p:cNvSpPr/>
          <p:nvPr/>
        </p:nvSpPr>
        <p:spPr>
          <a:xfrm>
            <a:off x="5147280" y="4000680"/>
            <a:ext cx="4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0"/>
          <p:cNvSpPr/>
          <p:nvPr/>
        </p:nvSpPr>
        <p:spPr>
          <a:xfrm>
            <a:off x="5076360" y="4071960"/>
            <a:ext cx="5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861080" y="3357720"/>
            <a:ext cx="45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Рисунок10.png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573120" y="92160"/>
            <a:ext cx="791856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" descr=""/>
          <p:cNvPicPr/>
          <p:nvPr/>
        </p:nvPicPr>
        <p:blipFill>
          <a:blip r:embed="rId3"/>
          <a:stretch/>
        </p:blipFill>
        <p:spPr>
          <a:xfrm>
            <a:off x="-328680" y="1255680"/>
            <a:ext cx="9637920" cy="525456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5" descr=""/>
          <p:cNvPicPr/>
          <p:nvPr/>
        </p:nvPicPr>
        <p:blipFill>
          <a:blip r:embed="rId4"/>
          <a:stretch/>
        </p:blipFill>
        <p:spPr>
          <a:xfrm>
            <a:off x="444600" y="2511360"/>
            <a:ext cx="5949720" cy="5922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6" descr=""/>
          <p:cNvPicPr/>
          <p:nvPr/>
        </p:nvPicPr>
        <p:blipFill>
          <a:blip r:embed="rId5"/>
          <a:stretch/>
        </p:blipFill>
        <p:spPr>
          <a:xfrm>
            <a:off x="585720" y="4011480"/>
            <a:ext cx="8240760" cy="59076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7" descr=""/>
          <p:cNvPicPr/>
          <p:nvPr/>
        </p:nvPicPr>
        <p:blipFill>
          <a:blip r:embed="rId6"/>
          <a:stretch/>
        </p:blipFill>
        <p:spPr>
          <a:xfrm>
            <a:off x="658800" y="5583240"/>
            <a:ext cx="51814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 В. Яшкова</dc:creator>
  <dc:description/>
  <dc:language>en-US</dc:language>
  <cp:lastModifiedBy>И В. Яшкова</cp:lastModifiedBy>
  <dcterms:modified xsi:type="dcterms:W3CDTF">2012-08-27T13:46:38Z</dcterms:modified>
  <cp:revision>30</cp:revision>
  <dc:subject/>
  <dc:title>Слайд 1</dc:title>
</cp:coreProperties>
</file>