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16D-F48B-4FFE-A892-0A174D3B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0DB5-FFEF-4D07-86A7-191233AD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F62-86A5-4F4F-A26A-99D0ECB2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A6F-1813-4EE9-9900-D91AC7E4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CA92-CEE4-4FFC-96BD-E7978BAB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D35B-D165-48E6-B693-B450C120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8269-4D7C-429E-B8E8-D543F722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22B5-BBF0-4CEE-87F2-C877B764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CC99-797D-4675-A288-22A1F78C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78AE-89E5-46B7-ABA8-81FD233D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E0B7-93E9-426D-8137-3F16E514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2D3-4AEA-493A-87C9-627AD8D8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4105-DA7C-4A6F-A03C-636F3539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E0BE-984C-4713-BEC9-C856150B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C8EB-22A2-46E5-A9B4-8FA1F691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2F9C-3F35-418D-A396-84D7294D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0E40-56D4-4E59-866C-1344AA44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665-B02C-4F25-A810-7CD97623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688-4956-4AD9-A69B-DEAD9B0A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CCD-AEF1-4C08-BF34-1C14835E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DDA-9C3B-44E5-9BC5-6C63B25B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5F8-CF70-4C24-AB99-AF11D39C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674-BE07-4ECB-8C44-DA07B7AC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C28-2706-4395-A54F-B0DCA7D1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085E-CEC4-46D1-B97F-BAB860193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A892-36D4-43D0-95A7-D286D0A9E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ВИДЫ ТРЕУГОЛЬКОВ ПО УГЛА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и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ла и провел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илкул Е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строение треугольника с помощью циркуля и линей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7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6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 – 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5867280"/>
            <a:ext cx="312408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715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362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4582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880" y="3048120"/>
            <a:ext cx="228528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7743200">
            <a:off x="6100200" y="3222360"/>
            <a:ext cx="228528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334120" y="3200400"/>
            <a:ext cx="1600200" cy="2666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857640" y="3200400"/>
            <a:ext cx="1600200" cy="2666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54864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строуго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резать из цветной бумаги треуголь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клеить их в тетрадь в такой же последова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писать название каждого треуголь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 rot="8302800">
            <a:off x="5637960" y="3351960"/>
            <a:ext cx="2481480" cy="2141640"/>
          </a:xfrm>
          <a:prstGeom prst="rtTriangl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219320"/>
            <a:ext cx="1600200" cy="14475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860000" y="4506480"/>
            <a:ext cx="4272840" cy="1249200"/>
            <a:chOff x="4860000" y="4506480"/>
            <a:chExt cx="4272840" cy="1249200"/>
          </a:xfrm>
        </p:grpSpPr>
        <p:sp>
          <p:nvSpPr>
            <p:cNvPr id="193" name=""/>
            <p:cNvSpPr/>
            <p:nvPr/>
          </p:nvSpPr>
          <p:spPr>
            <a:xfrm flipH="1">
              <a:off x="4860000" y="4506480"/>
              <a:ext cx="2005200" cy="1249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65200" y="4506840"/>
              <a:ext cx="2267640" cy="11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860000" y="5697000"/>
              <a:ext cx="4272840" cy="58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ВСПОМНИМ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виды углов и их построе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УЗНАЕМ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общее и различие треугольников по видам угл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БУДЕМ УЧИТЬСЯ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строить треугольники с помощью циркуля и линей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ОПРЕДЕЛИТЕ ВИД УГЛ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66680" y="1828800"/>
            <a:ext cx="1981440" cy="1676520"/>
            <a:chOff x="1066680" y="1828800"/>
            <a:chExt cx="1981440" cy="1676520"/>
          </a:xfrm>
        </p:grpSpPr>
        <p:sp>
          <p:nvSpPr>
            <p:cNvPr id="87" name=""/>
            <p:cNvSpPr/>
            <p:nvPr/>
          </p:nvSpPr>
          <p:spPr>
            <a:xfrm>
              <a:off x="1066680" y="1828800"/>
              <a:ext cx="0" cy="167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66680" y="3505320"/>
              <a:ext cx="198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682680" y="4275360"/>
            <a:ext cx="1406880" cy="2574360"/>
            <a:chOff x="6682680" y="4275360"/>
            <a:chExt cx="1406880" cy="2574360"/>
          </a:xfrm>
        </p:grpSpPr>
        <p:sp>
          <p:nvSpPr>
            <p:cNvPr id="90" name=""/>
            <p:cNvSpPr/>
            <p:nvPr/>
          </p:nvSpPr>
          <p:spPr>
            <a:xfrm flipH="1">
              <a:off x="6682680" y="4275360"/>
              <a:ext cx="1406880" cy="91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2680" y="5187240"/>
              <a:ext cx="1077120" cy="1662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28600" y="4495680"/>
            <a:ext cx="3809880" cy="1447920"/>
            <a:chOff x="228600" y="4495680"/>
            <a:chExt cx="3809880" cy="1447920"/>
          </a:xfrm>
        </p:grpSpPr>
        <p:sp>
          <p:nvSpPr>
            <p:cNvPr id="93" name=""/>
            <p:cNvSpPr/>
            <p:nvPr/>
          </p:nvSpPr>
          <p:spPr>
            <a:xfrm>
              <a:off x="1676520" y="5943600"/>
              <a:ext cx="2361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228600" y="4495680"/>
              <a:ext cx="1447920" cy="144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349240" y="1637280"/>
            <a:ext cx="2941200" cy="2821320"/>
            <a:chOff x="5349240" y="1637280"/>
            <a:chExt cx="2941200" cy="2821320"/>
          </a:xfrm>
        </p:grpSpPr>
        <p:sp>
          <p:nvSpPr>
            <p:cNvPr id="96" name=""/>
            <p:cNvSpPr/>
            <p:nvPr/>
          </p:nvSpPr>
          <p:spPr>
            <a:xfrm flipH="1">
              <a:off x="5349240" y="2324880"/>
              <a:ext cx="1012320" cy="2133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361560" y="1637280"/>
              <a:ext cx="1928880" cy="68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733920" y="1981080"/>
            <a:ext cx="1600200" cy="1828800"/>
            <a:chOff x="3733920" y="1981080"/>
            <a:chExt cx="1600200" cy="1828800"/>
          </a:xfrm>
        </p:grpSpPr>
        <p:sp>
          <p:nvSpPr>
            <p:cNvPr id="99" name=""/>
            <p:cNvSpPr/>
            <p:nvPr/>
          </p:nvSpPr>
          <p:spPr>
            <a:xfrm>
              <a:off x="3733920" y="2057400"/>
              <a:ext cx="609480" cy="1752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343400" y="1981080"/>
              <a:ext cx="990720" cy="1828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11520" y="4574880"/>
            <a:ext cx="1748160" cy="1917360"/>
            <a:chOff x="4511520" y="4574880"/>
            <a:chExt cx="1748160" cy="1917360"/>
          </a:xfrm>
        </p:grpSpPr>
        <p:sp>
          <p:nvSpPr>
            <p:cNvPr id="102" name=""/>
            <p:cNvSpPr/>
            <p:nvPr/>
          </p:nvSpPr>
          <p:spPr>
            <a:xfrm flipH="1" flipV="1">
              <a:off x="4511520" y="4574880"/>
              <a:ext cx="1748160" cy="621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11520" y="4574880"/>
              <a:ext cx="806040" cy="1917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04920" y="3200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2590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7913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638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5638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6765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Установите сколько углов на рисунке. </a:t>
            </a:r>
            <a:br>
              <a:rPr sz="3600"/>
            </a:b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Определите вид каждого угла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819520" y="2819160"/>
            <a:ext cx="3661560" cy="3837960"/>
            <a:chOff x="2819520" y="2819160"/>
            <a:chExt cx="3661560" cy="3837960"/>
          </a:xfrm>
        </p:grpSpPr>
        <p:grpSp>
          <p:nvGrpSpPr>
            <p:cNvPr id="112" name=""/>
            <p:cNvGrpSpPr/>
            <p:nvPr/>
          </p:nvGrpSpPr>
          <p:grpSpPr>
            <a:xfrm>
              <a:off x="3620520" y="2959560"/>
              <a:ext cx="2860560" cy="3697560"/>
              <a:chOff x="3620520" y="2959560"/>
              <a:chExt cx="2860560" cy="369756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3620520" y="2959560"/>
                <a:ext cx="972720" cy="26460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20520" y="5605560"/>
                <a:ext cx="2860560" cy="1051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 flipV="1">
              <a:off x="2819520" y="2819160"/>
              <a:ext cx="838080" cy="2819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248520" y="2209680"/>
            <a:ext cx="19810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тр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ям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уп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ыделите треугольник с прямым угл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rot="2632200">
            <a:off x="1218960" y="1447920"/>
            <a:ext cx="1523880" cy="25146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806400">
            <a:off x="6095880" y="1524240"/>
            <a:ext cx="2666880" cy="1904760"/>
          </a:xfrm>
          <a:prstGeom prst="rtTriangl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6969600">
            <a:off x="2133720" y="3429000"/>
            <a:ext cx="2666880" cy="1905120"/>
          </a:xfrm>
          <a:prstGeom prst="rtTriangl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029200" y="4647960"/>
            <a:ext cx="3657600" cy="1447920"/>
            <a:chOff x="5029200" y="4647960"/>
            <a:chExt cx="3657600" cy="1447920"/>
          </a:xfrm>
        </p:grpSpPr>
        <p:sp>
          <p:nvSpPr>
            <p:cNvPr id="122" name=""/>
            <p:cNvSpPr/>
            <p:nvPr/>
          </p:nvSpPr>
          <p:spPr>
            <a:xfrm>
              <a:off x="6324480" y="6095880"/>
              <a:ext cx="236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029200" y="4647960"/>
              <a:ext cx="1295280" cy="144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29200" y="4648320"/>
              <a:ext cx="3657600" cy="144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3733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2666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4800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1828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04920" y="304920"/>
          <a:ext cx="8458200" cy="605772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  <a:gridCol w="28195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 выглядит треуголь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ие у треугольника уг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треуголь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rot="4996200">
            <a:off x="1104480" y="1180800"/>
            <a:ext cx="1218960" cy="22100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352680"/>
            <a:ext cx="1600200" cy="1295640"/>
          </a:xfrm>
          <a:prstGeom prst="rtTriangl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6840" y="4876920"/>
            <a:ext cx="2514960" cy="1295280"/>
            <a:chOff x="456840" y="4876920"/>
            <a:chExt cx="2514960" cy="1295280"/>
          </a:xfrm>
        </p:grpSpPr>
        <p:sp>
          <p:nvSpPr>
            <p:cNvPr id="133" name=""/>
            <p:cNvSpPr/>
            <p:nvPr/>
          </p:nvSpPr>
          <p:spPr>
            <a:xfrm>
              <a:off x="1347480" y="6172200"/>
              <a:ext cx="1623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56840" y="4876920"/>
              <a:ext cx="890280" cy="1295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4876920"/>
              <a:ext cx="2514600" cy="1295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76720" y="19810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се углы остр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2057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СТРОУГ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657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дин угол прям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3657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ЯМОУГО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5105520"/>
            <a:ext cx="236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дин угол туп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257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УПОУГ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строение треугольников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809880"/>
            <a:ext cx="259092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066680" y="1676520"/>
            <a:ext cx="0" cy="213336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676520"/>
            <a:ext cx="2590920" cy="213336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19051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ЯМОУГОЛЬ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6477120"/>
            <a:ext cx="312444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09480" y="5105520"/>
            <a:ext cx="2362320" cy="1371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105520"/>
            <a:ext cx="5334120" cy="1371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46483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ТУПОУГОЛЬ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990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3200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4343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3200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57913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60199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СТРОЕНИЕ ТРЕУГОЛЬНИК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638680"/>
            <a:ext cx="3429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33520" y="2438280"/>
            <a:ext cx="1447560" cy="32004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981080" y="2361960"/>
            <a:ext cx="1981440" cy="327636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2209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СТРОУГОЛЬ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1523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48769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00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строение треуголь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ол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рям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 – 6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5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5257800"/>
            <a:ext cx="289548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2590920"/>
            <a:ext cx="0" cy="2666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5410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5181480"/>
            <a:ext cx="0" cy="15264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2819520"/>
            <a:ext cx="228600" cy="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2819520"/>
            <a:ext cx="2438280" cy="24382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51814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ЯМОУГО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8-11-17T08:55:4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