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32C-734A-43AF-9862-FF29088A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1CA-408F-4081-8649-91F6D327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C9A-82A8-4AFD-BBC9-82E4E00D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EF2-5EA9-49C8-BE68-BCD997C3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FF20-57A8-4FD8-99E7-B04C1E71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7B16-359D-4796-BF16-10E65AD1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690C-FD39-414F-8BD5-2A1DA9D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F261-B436-4FBB-AF8E-B50B3AF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A380-5CE2-4592-B56A-7BE95AC2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5812-DB34-418E-BDDA-BA6CDD2C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DDA-E63E-47AC-9245-D8C8571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13F-E015-4FA6-907A-9103A5DD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5FF3-B50F-4BCC-BDFE-2E34D45B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D90D-79FA-4ED4-A694-108E9B2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07E1-F05B-4B80-9A9D-3DDB16C9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7C83-1CC3-415E-82E2-A626693B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8391-018B-43FB-A88C-35331D8C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516-3800-4351-AD28-3D84BB9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FDE-8E11-47B8-9476-5C64E8E2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D89-FDF9-4D58-A2BF-BFBF8C76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C94-81B0-4B90-83A3-967AD58E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687-4A66-4461-8AC5-E0108A7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721-A1D6-4085-8067-A14C0D7D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1DE-9B5F-4D23-92A5-554F177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CD59-241F-45AA-AEE9-F0C2AE45E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4832-BEE0-44E7-BF4B-0C7BE562D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ti-deti.com/zagadki-pro-osen/" TargetMode="External"/><Relationship Id="rId2" Type="http://schemas.openxmlformats.org/officeDocument/2006/relationships/hyperlink" Target="http://zagadka.yaxy.ru/zagadki_pro_osen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гадки про осен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спита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латонова Виктория Викторов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БДОУ №25           Санкт-Петербур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74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жд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то всю ночь по крыше бьё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а постукивает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бормочет, и поёт, убаюкивает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Дождь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360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тернет ресурс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eti-deti.com/zagadki-pro-osen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http://zagadka.yaxy.ru/zagadki_pro_osen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http://yandex.ru/image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Осень – прекрасная и яркая пора год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 помощью загадок про осень в игре с детьми, вы поможете ребенку больше узнать о ее особенностях, о ее красоте и о том, какие явления природы происходят в эту пору. Разгадывая загадки – дети становятся умнее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сен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усты поля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кнет земля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ждь поливает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гда это бывает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Осенью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22720" y="160020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4121280"/>
            <a:ext cx="3313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ревья осень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анжевые, красны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 солнышке блестят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х листья, словно бабочк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ужатся и парят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Деревья осенью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7400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яб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лед за августом приходит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 листопадом хороводи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богат он урожаем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ы его, конечно, знаем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Сентябрь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288144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208480" y="3941640"/>
            <a:ext cx="2916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ст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ут — зеленеют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падут — пожелтеют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лежат — почернеют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Листья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03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ктяб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е мрачней лицо природы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чернели огороды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голяются лес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кнут птичьи голос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ишка в спячку завалилс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за месяц к нам явился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Октябрь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16520" y="1600200"/>
            <a:ext cx="350208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932360" y="3941640"/>
            <a:ext cx="345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стоп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истья желтые летят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дают, кружатся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под ноги просто так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 ковер ложатся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то за желтый снегопад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то просто 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листопад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4038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яб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 чёрно-белым стало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дает то дождь, то снег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ещё похолодало —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ьдом сковало воды рек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ёрзнет в поле озимь рж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за месяц, подскажи?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Ноябрь 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59280" y="3941640"/>
            <a:ext cx="32688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59280" y="1600200"/>
            <a:ext cx="3268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8:40:57Z</dcterms:created>
  <dc:creator>Немо</dc:creator>
  <dc:description/>
  <dc:language>en-US</dc:language>
  <cp:lastModifiedBy>Немо</cp:lastModifiedBy>
  <dcterms:modified xsi:type="dcterms:W3CDTF">2014-10-01T20:37:45Z</dcterms:modified>
  <cp:revision>5</cp:revision>
  <dc:subject/>
  <dc:title>Загадки про осень</dc:title>
</cp:coreProperties>
</file>