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5BC5C-C94B-45BB-B995-69463B294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B9DDE-53BB-423A-8337-7A21B8A7A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BF455-175F-461D-AE1E-64009B373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10E5E-90F7-4FE3-94C0-DCF569099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09540-B880-4CE5-8E29-81A9ADC61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4787B-BE55-44A9-B6E2-707A0C7C0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ED5C7-4EF6-46F9-A323-046462205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0CC7C-12C1-4B02-A5D3-856303ABC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6CA1B-B941-47F7-BE42-EC9FD4993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28CE3-FC81-4F42-B094-1F0FC568D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2E89A-B53C-4500-8C8C-041EFF4D7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245E1-F3E5-413B-ADEC-8B7576824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EB6C8-2295-4A64-B860-11499A668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A5076-7180-4F36-AD62-FF8159B1D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82AA8-B33A-4C7A-8FBD-911C9B59A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35902-AE77-482F-9391-4C028791F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2A51A-5A69-4D17-B773-2B6ED22B0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AD817C-DDC2-4F31-AC47-C85555934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2AB7D5-BD08-44EC-AE71-E8F1C5A81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5EB2A5-8807-40F2-8863-5800A1D3E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8E93DE-FC71-4C40-8559-F8E154F62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25289B-375B-409B-B273-348C87422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78C94-4A32-4041-ABC1-A4EEBC9E1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1AA51C-1EA9-42DF-AC04-D3BC36FAD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91ACAF-904B-4FE7-81E1-E9DCEA72D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A9D3B9-6F11-4829-93F8-28764A29F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8656A8-A6C9-435F-BD07-12FBF0D89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082144-6ED6-43C1-BD6B-8C565B1CB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00923E-E128-45AE-BA61-F8D800D02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480CD0-9F71-48DC-9439-889696A9C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B59B4-BC71-4228-A327-FCB1D4A82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F7C34-35FF-4A16-9098-27750BBBD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E4BAA-4206-4BA9-893B-0AD02C539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52949-156B-4636-A955-21AAE31FF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DE28D-4CB1-480B-B105-A537EC3A3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8159F-3E44-4A10-A8E1-3322983E7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E7DAF-30E7-422E-83E2-4395B2702E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D3C7C-23BB-4B72-B269-9F39C752DEB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59842-E618-4773-9798-588B7D88F44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uchilkin-blog.ru/?p=190" TargetMode="External"/><Relationship Id="rId3" Type="http://schemas.openxmlformats.org/officeDocument/2006/relationships/hyperlink" Target="http://uchilkin-blog.ru/?p=190" TargetMode="External"/><Relationship Id="rId4" Type="http://schemas.openxmlformats.org/officeDocument/2006/relationships/hyperlink" Target="http://uchilkin-blog.ru/?p=190" TargetMode="External"/><Relationship Id="rId5" Type="http://schemas.openxmlformats.org/officeDocument/2006/relationships/hyperlink" Target="http://uchilkin-blog.ru/?p=190" TargetMode="External"/><Relationship Id="rId6" Type="http://schemas.openxmlformats.org/officeDocument/2006/relationships/hyperlink" Target="http://www.internet-school.ru/Enc.ashx?item=11142" TargetMode="External"/><Relationship Id="rId7" Type="http://schemas.openxmlformats.org/officeDocument/2006/relationships/hyperlink" Target="http://www.internet-school.ru/Enc.ashx?item=345636" TargetMode="External"/><Relationship Id="rId8" Type="http://schemas.openxmlformats.org/officeDocument/2006/relationships/hyperlink" Target="http://www.internet-school.ru/Enc.ashx?item=345636" TargetMode="External"/><Relationship Id="rId9" Type="http://schemas.openxmlformats.org/officeDocument/2006/relationships/hyperlink" Target="http://www.internet-school.ru/Enc.ashx?item=345636" TargetMode="External"/><Relationship Id="rId10" Type="http://schemas.openxmlformats.org/officeDocument/2006/relationships/hyperlink" Target="http://www.internet-school.ru/Enc.ashx?item=345636" TargetMode="External"/><Relationship Id="rId11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Box 3"/>
          <p:cNvSpPr/>
          <p:nvPr/>
        </p:nvSpPr>
        <p:spPr>
          <a:xfrm>
            <a:off x="611280" y="836640"/>
            <a:ext cx="806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984807"/>
                </a:solidFill>
                <a:latin typeface="Georgia"/>
              </a:rPr>
              <a:t>Урок русского язык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Georgia"/>
              </a:rPr>
              <a:t>в  9 класс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Рисунок 7" descr="kniga52.jpg"/>
          <p:cNvPicPr/>
          <p:nvPr/>
        </p:nvPicPr>
        <p:blipFill>
          <a:blip r:embed="rId2"/>
          <a:stretch/>
        </p:blipFill>
        <p:spPr>
          <a:xfrm>
            <a:off x="3203640" y="4005360"/>
            <a:ext cx="3076560" cy="2000160"/>
          </a:xfrm>
          <a:prstGeom prst="rect">
            <a:avLst/>
          </a:prstGeom>
          <a:ln w="0">
            <a:noFill/>
          </a:ln>
        </p:spPr>
      </p:pic>
      <p:sp>
        <p:nvSpPr>
          <p:cNvPr id="127" name="TextBox 4"/>
          <p:cNvSpPr/>
          <p:nvPr/>
        </p:nvSpPr>
        <p:spPr>
          <a:xfrm>
            <a:off x="326880" y="6308640"/>
            <a:ext cx="576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Автор: Очирова Т. Н. , учитель школы №49 г. Улан-Уд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11280" y="2349360"/>
            <a:ext cx="7921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Georgia"/>
              </a:rPr>
              <a:t>Сжати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Georgia"/>
              </a:rPr>
              <a:t>как вид информационной переработки текс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292720" y="333360"/>
            <a:ext cx="288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Подготовка к ГИ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Интернет-ресурсы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 u="sng">
                <a:solidFill>
                  <a:srgbClr val="336699"/>
                </a:solidFill>
                <a:uFillTx/>
                <a:latin typeface="Georgia"/>
                <a:hlinkClick r:id="rId2"/>
              </a:rPr>
              <a:t>http</a:t>
            </a:r>
            <a:r>
              <a:rPr b="0" lang="ru-RU" sz="2100" spc="-1" strike="noStrike" u="sng">
                <a:solidFill>
                  <a:srgbClr val="336699"/>
                </a:solidFill>
                <a:uFillTx/>
                <a:latin typeface="Georgia"/>
                <a:hlinkClick r:id="rId3"/>
              </a:rPr>
              <a:t>://</a:t>
            </a:r>
            <a:r>
              <a:rPr b="0" lang="ru-RU" sz="2100" spc="-1" strike="noStrike" u="sng">
                <a:solidFill>
                  <a:srgbClr val="336699"/>
                </a:solidFill>
                <a:uFillTx/>
                <a:latin typeface="Georgia"/>
                <a:hlinkClick r:id="rId4"/>
              </a:rPr>
              <a:t>uchilkin-blog.ru</a:t>
            </a:r>
            <a:r>
              <a:rPr b="0" lang="ru-RU" sz="2100" spc="-1" strike="noStrike" u="sng">
                <a:solidFill>
                  <a:srgbClr val="336699"/>
                </a:solidFill>
                <a:uFillTx/>
                <a:latin typeface="Georgia"/>
                <a:hlinkClick r:id="rId5"/>
              </a:rPr>
              <a:t>/?p=190</a:t>
            </a: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http://www.edu.murmansk.ru/www/to_teacher/ege/rus_yaz/izlojenie.htm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Материалы Телешколы: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 u="sng">
                <a:solidFill>
                  <a:srgbClr val="336699"/>
                </a:solidFill>
                <a:uFillTx/>
                <a:latin typeface="Georgia"/>
                <a:hlinkClick r:id="rId6"/>
              </a:rPr>
              <a:t>http://www.internet-school.ru/Enc.ashx?item=11142</a:t>
            </a: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 u="sng">
                <a:solidFill>
                  <a:srgbClr val="336699"/>
                </a:solidFill>
                <a:uFillTx/>
                <a:latin typeface="Georgia"/>
                <a:hlinkClick r:id="rId7"/>
              </a:rPr>
              <a:t>http</a:t>
            </a:r>
            <a:r>
              <a:rPr b="0" lang="ru-RU" sz="1900" spc="-1" strike="noStrike" u="sng">
                <a:solidFill>
                  <a:srgbClr val="336699"/>
                </a:solidFill>
                <a:uFillTx/>
                <a:latin typeface="Georgia"/>
                <a:hlinkClick r:id="rId8"/>
              </a:rPr>
              <a:t>://</a:t>
            </a:r>
            <a:r>
              <a:rPr b="0" lang="ru-RU" sz="1900" spc="-1" strike="noStrike" u="sng">
                <a:solidFill>
                  <a:srgbClr val="336699"/>
                </a:solidFill>
                <a:uFillTx/>
                <a:latin typeface="Georgia"/>
                <a:hlinkClick r:id="rId9"/>
              </a:rPr>
              <a:t>www.internet-school.ru</a:t>
            </a:r>
            <a:r>
              <a:rPr b="0" lang="ru-RU" sz="1900" spc="-1" strike="noStrike" u="sng">
                <a:solidFill>
                  <a:srgbClr val="336699"/>
                </a:solidFill>
                <a:uFillTx/>
                <a:latin typeface="Georgia"/>
                <a:hlinkClick r:id="rId10"/>
              </a:rPr>
              <a:t>/Enc.ashx?item=345636</a:t>
            </a: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  и т. д.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В презентации 35 слайдов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Снова в школу. Школьные доски"/>
          <p:cNvPicPr/>
          <p:nvPr/>
        </p:nvPicPr>
        <p:blipFill>
          <a:blip r:embed="rId1"/>
          <a:srcRect l="0" t="0" r="0" b="23471"/>
          <a:stretch/>
        </p:blipFill>
        <p:spPr>
          <a:xfrm>
            <a:off x="0" y="0"/>
            <a:ext cx="9144000" cy="701208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539640" y="549360"/>
            <a:ext cx="8136000" cy="579240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eorgia"/>
              </a:rPr>
              <a:t>План уро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095480" y="2225520"/>
            <a:ext cx="70056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1. Что такое текст? Типы текста. Виды связи в текст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2. Сжатие как вид информационной переработки текс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3</a:t>
            </a: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. Практическая рабо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rcRect l="6205" t="7623" r="51774" b="6279"/>
          <a:stretch/>
        </p:blipFill>
        <p:spPr>
          <a:xfrm>
            <a:off x="0" y="0"/>
            <a:ext cx="4500720" cy="685800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rcRect l="52265" t="7623" r="7012" b="6279"/>
          <a:stretch/>
        </p:blipFill>
        <p:spPr>
          <a:xfrm>
            <a:off x="4500720" y="0"/>
            <a:ext cx="4643280" cy="685800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Что такое текст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Текст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- от лат.</a:t>
            </a:r>
            <a:r>
              <a:rPr b="0" lang="et-EE" sz="3200" spc="-1" strike="noStrike">
                <a:solidFill>
                  <a:srgbClr val="000000"/>
                </a:solidFill>
                <a:latin typeface="Georgia"/>
              </a:rPr>
              <a:t>textum-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 ткань; связь,соедин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Текст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 – это несколько предложений или абзацев,связанных в целое темой и основной мысль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Предложения между собой соединены по смыслу и грамматическ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rcRect l="6205" t="7623" r="51774" b="6279"/>
          <a:stretch/>
        </p:blipFill>
        <p:spPr>
          <a:xfrm>
            <a:off x="0" y="0"/>
            <a:ext cx="4500720" cy="685800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rcRect l="52265" t="7623" r="7012" b="6279"/>
          <a:stretch/>
        </p:blipFill>
        <p:spPr>
          <a:xfrm>
            <a:off x="4500720" y="0"/>
            <a:ext cx="4643280" cy="685800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сновные признаки текс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Тематическое и композиционное единство част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Наличие грамматической связи между частями (</a:t>
            </a:r>
            <a:r>
              <a:rPr b="0" i="1" lang="en-US" sz="3200" spc="-1" strike="noStrike">
                <a:solidFill>
                  <a:srgbClr val="000000"/>
                </a:solidFill>
                <a:latin typeface="Georgia"/>
              </a:rPr>
              <a:t>цепная, параллельная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Смысловая целост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Относительная законченность (может состоять из 1 абзаца, а может быть статьёй, книгой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rcRect l="15589" t="79756" r="40607" b="12856"/>
          <a:stretch/>
        </p:blipFill>
        <p:spPr>
          <a:xfrm>
            <a:off x="395280" y="4292640"/>
            <a:ext cx="6840720" cy="8650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43" name="" descr=""/>
          <p:cNvPicPr/>
          <p:nvPr/>
        </p:nvPicPr>
        <p:blipFill>
          <a:blip r:embed="rId2"/>
          <a:srcRect l="15589" t="54541" r="39680" b="39932"/>
          <a:stretch/>
        </p:blipFill>
        <p:spPr>
          <a:xfrm>
            <a:off x="324000" y="2133720"/>
            <a:ext cx="6984720" cy="6476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44" name="" descr=""/>
          <p:cNvPicPr/>
          <p:nvPr/>
        </p:nvPicPr>
        <p:blipFill>
          <a:blip r:embed="rId3"/>
          <a:srcRect l="15589" t="34247" r="40138" b="58995"/>
          <a:stretch/>
        </p:blipFill>
        <p:spPr>
          <a:xfrm>
            <a:off x="395280" y="260280"/>
            <a:ext cx="6913440" cy="7923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145" name="" descr=""/>
          <p:cNvPicPr/>
          <p:nvPr/>
        </p:nvPicPr>
        <p:blipFill>
          <a:blip r:embed="rId4"/>
          <a:srcRect l="17568" t="40154" r="44084" b="52547"/>
          <a:stretch/>
        </p:blipFill>
        <p:spPr>
          <a:xfrm>
            <a:off x="468360" y="1125360"/>
            <a:ext cx="6913440" cy="93996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5"/>
          <a:srcRect l="18775" t="60447" r="44690" b="29015"/>
          <a:stretch/>
        </p:blipFill>
        <p:spPr>
          <a:xfrm>
            <a:off x="468360" y="2924280"/>
            <a:ext cx="6408720" cy="129204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6"/>
          <a:srcRect l="18775" t="87242" r="45291" b="1541"/>
          <a:stretch/>
        </p:blipFill>
        <p:spPr>
          <a:xfrm>
            <a:off x="611280" y="5229360"/>
            <a:ext cx="5976720" cy="140004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 txBox="1"/>
          <p:nvPr/>
        </p:nvSpPr>
        <p:spPr>
          <a:xfrm rot="5400000">
            <a:off x="4992840" y="3151800"/>
            <a:ext cx="6191280" cy="5540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Как доказать, что это текст</a:t>
            </a:r>
            <a:endParaRPr b="0" i="1" lang="en-US" sz="2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rcRect l="11606" t="36221" r="38185" b="5710"/>
          <a:stretch/>
        </p:blipFill>
        <p:spPr>
          <a:xfrm>
            <a:off x="684360" y="189000"/>
            <a:ext cx="7127640" cy="618336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150" name=""/>
          <p:cNvSpPr/>
          <p:nvPr/>
        </p:nvSpPr>
        <p:spPr>
          <a:xfrm>
            <a:off x="5867280" y="3429000"/>
            <a:ext cx="2592360" cy="45972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Типы текс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rcRect l="3695" t="29320" r="29492" b="963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684360" y="1700280"/>
            <a:ext cx="7869240" cy="3753000"/>
          </a:xfrm>
          <a:prstGeom prst="rect">
            <a:avLst/>
          </a:prstGeom>
          <a:solidFill>
            <a:srgbClr val="ff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Когда мне было шесть с половиной лет. Я совершенно не знал, кем же я в конце концов буд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Georgia"/>
              </a:rPr>
              <a:t>То я хотел быть астрономо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cc00"/>
                </a:solidFill>
                <a:latin typeface="Georgia"/>
              </a:rPr>
              <a:t>То я мечтал стать капитаном дальнего плава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Georgia"/>
              </a:rPr>
              <a:t>А то мне до смерти хотелось превратиться в машиниста метро или начальника станц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Georgia"/>
              </a:rPr>
              <a:t>А то мне казалось, что неплохо бы стать отважным путешественником. </a:t>
            </a: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Мне все люди вокруг очень нравились и работы тоже. У меня в голове тогда была ужасная путаница, я был какой-то растерянный и никак не мог толком решить, за что мне принимать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92200" y="282600"/>
            <a:ext cx="527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39640" y="260280"/>
            <a:ext cx="599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А теперь исключим детали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rcRect l="0" t="4054" r="0" b="0"/>
          <a:stretch/>
        </p:blipFill>
        <p:spPr>
          <a:xfrm>
            <a:off x="0" y="28440"/>
            <a:ext cx="9144000" cy="6829560"/>
          </a:xfrm>
          <a:prstGeom prst="rect">
            <a:avLst/>
          </a:prstGeom>
          <a:ln w="0">
            <a:noFill/>
          </a:ln>
        </p:spPr>
      </p:pic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рактическая рабо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24000" y="1413000"/>
            <a:ext cx="835164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С самого начала своей научной деятельности М. В. Ломоносов руководствовался принципом сохранения вещества и движения (силы), который составлял неотъемлемую часть его представлений о явлениях, которые изучают естественные наук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Georgia"/>
              </a:rPr>
              <a:t>Что нам стало известно из данного предложения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95280" y="3716280"/>
            <a:ext cx="8137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М. В. Ломоносов руководствовался принципом сохранения вещества и движения (силы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95280" y="4581360"/>
            <a:ext cx="78692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Georgia"/>
              </a:rPr>
              <a:t>А зачем автор сообщает об остальной информации?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«Все пояснения автора, идущие после слов </a:t>
            </a:r>
            <a:r>
              <a:rPr b="0" i="1" lang="en-US" sz="2000" spc="-1" strike="noStrike">
                <a:solidFill>
                  <a:srgbClr val="000000"/>
                </a:solidFill>
                <a:latin typeface="Georgia"/>
              </a:rPr>
              <a:t>который 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и </a:t>
            </a:r>
            <a:r>
              <a:rPr b="0" i="1" lang="en-US" sz="2000" spc="-1" strike="noStrike">
                <a:solidFill>
                  <a:srgbClr val="000000"/>
                </a:solidFill>
                <a:latin typeface="Georgia"/>
              </a:rPr>
              <a:t>которые 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и являющиеся придаточными предложениями, не являются неинтересными или неважными, но это лишь дополнение к основной информации предложения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7740720" y="360360"/>
            <a:ext cx="1079280" cy="10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Закрепляем умение находить  главную информацию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539640" y="1722600"/>
            <a:ext cx="820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I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. </a:t>
            </a:r>
            <a:r>
              <a:rPr b="0" lang="ru-RU" sz="2400" spc="-1" strike="noStrike">
                <a:solidFill>
                  <a:srgbClr val="990000"/>
                </a:solidFill>
                <a:latin typeface="Georgia"/>
              </a:rPr>
              <a:t>Прочитайте предложения и подчеркните в них главную информацию. Используя прием свертывания, сократите текс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а) Многие вещества биологического происхождения, основой которых является вода, имеют жидкокристаллическую структур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Запись должна выглядеть так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Georgia"/>
              </a:rPr>
              <a:t>Многие вещества биологического происхождения,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основой которых является вода,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Georgia"/>
              </a:rPr>
              <a:t>имеют жидкокристаллическую структуру.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39640" y="4941720"/>
            <a:ext cx="7940880" cy="1557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Georgia"/>
              </a:rPr>
              <a:t>Многие вещества биологического происхождения имеют жидкокристаллическую структур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4T13:45:12Z</dcterms:created>
  <dc:creator>Админ</dc:creator>
  <dc:description/>
  <dc:language>en-US</dc:language>
  <cp:lastModifiedBy>Админ</cp:lastModifiedBy>
  <dcterms:modified xsi:type="dcterms:W3CDTF">2010-11-25T13:10:21Z</dcterms:modified>
  <cp:revision>2</cp:revision>
  <dc:subject/>
  <dc:title>Слайд 1</dc:title>
</cp:coreProperties>
</file>