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D3E6-28C1-4B82-A2B0-845D2BED8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4230-6D51-4472-AA1F-41EA062F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FACF-2792-4F8E-A98D-AD8C26FF0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8534-C3A4-45C6-8DF0-842F015A6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3F73-2159-4E6F-8C8F-EE9C1943B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818C-3174-437D-B5F4-13963A50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7A50-A834-4989-A0E6-F2904F61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B0805-83A6-4DD0-B603-F97C29F6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E150-3DAB-4272-B01E-F643D894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8DAE-427F-4DD3-A2EE-FA353C6A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718F-B580-41DE-AE4F-0D972D57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5F67-8657-4318-A1FD-789B7E2F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2441-D4A8-407D-9E65-6D4B23AF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08BC-8109-4537-8231-310AD8DA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7D258-06CA-4DCA-81ED-491E8FDE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58EC-8773-494E-9320-376ED4BC8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96E2-D703-4577-A5DD-98C63D286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EAC64-CD20-4195-A7F5-FEC6FCCA8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A8D92-F70E-4B49-8BD6-F7740865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C4426-3DA2-4515-BC17-193C7987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B0C0C-9B70-4E1B-A65C-C0F13529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806F3-720F-4089-A752-BDE6C326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C9B8-963B-43C8-8BBA-51DAA0D8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CC03E-5E2A-487A-9289-77A3179B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EEC7C-C94E-4577-9734-3216BBF6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4A546-0412-456B-8877-0176597C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9567B-23AA-425D-A807-F63C15B1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4E608-ED8B-4955-923F-885AEE93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846E4-9633-4FFF-80B0-50AA5020F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0A088-C84E-4DB1-8CEB-48964BD94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F821-913F-4B77-BF1A-1EBF2044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4156-4A97-4195-AC76-697311FB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D2DB-4950-497E-860F-60F97139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5623-E559-4072-8C0B-669BBC62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D027-87D7-46D5-BE30-74EE6CC3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F58D-D6EA-4BB3-89F2-E4FADCC9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F398-6A2E-4A43-843F-0A2C6078D9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81C05-5C6E-48E2-A65D-E512E3B0256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5CE7-4356-4EF6-A6A9-9012821CCEE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rcRect l="22659" t="24398" r="22659" b="2134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468360" y="404640"/>
            <a:ext cx="8351640" cy="64940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onotype Corsiva"/>
              </a:rPr>
              <a:t>Сочинение – рассуждение</a:t>
            </a: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eorgia"/>
              </a:rPr>
              <a:t>Русский  язык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Georgia"/>
              </a:rPr>
              <a:t>9 клас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Georgia"/>
              </a:rPr>
              <a:t>Хорошо писать - это в то же время хорошо мыслить, хорошо чувствовать и хорошо передавать</a:t>
            </a:r>
            <a:r>
              <a:rPr b="0" lang="ru-RU" sz="2400" spc="-1" strike="noStrike">
                <a:solidFill>
                  <a:srgbClr val="ffcc00"/>
                </a:solidFill>
                <a:latin typeface="Georgia"/>
              </a:rPr>
              <a:t>…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Georgia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ffcc00"/>
                </a:solidFill>
                <a:latin typeface="Georgia"/>
              </a:rPr>
              <a:t>Жан-Луи Бюфф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4000" y="2133720"/>
            <a:ext cx="784836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33"/>
                </a:solidFill>
                <a:latin typeface="Georgia"/>
              </a:rPr>
              <a:t>Государственный экзамен в 9 классе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требует от учащихся умения работать с текстом с позиций определения темы, идеи и проблемы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бщая направленность экзамена заключается в проверке следующих умений и навыков: писать изложения разных видов, читать и анализировать текст, выполнять тестовые задания, проверяющие знания и умения в разных областях школьного курса русского язы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1798920" cy="1963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26-090135-ekstazi-1"/>
          <p:cNvPicPr/>
          <p:nvPr/>
        </p:nvPicPr>
        <p:blipFill>
          <a:blip r:embed="rId2"/>
          <a:srcRect l="0" t="11338" r="9335" b="13076"/>
          <a:stretch/>
        </p:blipFill>
        <p:spPr>
          <a:xfrm>
            <a:off x="6732720" y="549360"/>
            <a:ext cx="172692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4ea"/>
            </a:gs>
            <a:gs pos="100000">
              <a:srgbClr val="ff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250920" y="158760"/>
            <a:ext cx="8642160" cy="632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"/>
          <p:cNvPicPr/>
          <p:nvPr/>
        </p:nvPicPr>
        <p:blipFill>
          <a:blip r:embed="rId1"/>
          <a:srcRect l="22659" t="24398" r="22659" b="2134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611280" y="1125360"/>
            <a:ext cx="8064360" cy="31431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Задание С2.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Напишите </a:t>
            </a:r>
            <a:r>
              <a:rPr b="1" lang="ru-RU" sz="2000" spc="-1" strike="noStrike">
                <a:solidFill>
                  <a:srgbClr val="ffcc00"/>
                </a:solidFill>
                <a:latin typeface="Georgia"/>
              </a:rPr>
              <a:t>сочинение-рассужд</a:t>
            </a:r>
            <a:r>
              <a:rPr b="0" lang="ru-RU" sz="2000" spc="-1" strike="noStrike">
                <a:solidFill>
                  <a:srgbClr val="ffcc00"/>
                </a:solidFill>
                <a:latin typeface="Georgia"/>
              </a:rPr>
              <a:t>ение.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Объясните, как вы понимаете смысл последних слов текста:  &lt;...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Приведите в сочинении два аргумента из прочитанного текста, подтверждающих ваши рассужд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Приводя примеры, указывайте номера нужных предложений  или применяйте цитирова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Объём сочинения должен составлять не менее 50 сл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684360" y="4292640"/>
            <a:ext cx="792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Georgia"/>
              </a:rPr>
              <a:t>Итак, нам нужно написать сочинение-рассуждение.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Тип текста </a:t>
            </a:r>
            <a:r>
              <a:rPr b="1" i="1" lang="ru-RU" sz="2000" spc="-1" strike="noStrike">
                <a:solidFill>
                  <a:srgbClr val="ffffff"/>
                </a:solidFill>
                <a:latin typeface="Georgia"/>
              </a:rPr>
              <a:t>рассуждение 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должен обязательно иметь следующую структур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1166760" y="352440"/>
            <a:ext cx="6789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eorgia"/>
              </a:rPr>
              <a:t>Вчитаемся в задани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684360" y="404640"/>
            <a:ext cx="799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Композиция сочинения- рассужд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395280" y="1341360"/>
            <a:ext cx="8207280" cy="1366920"/>
          </a:xfrm>
          <a:prstGeom prst="downArrowCallout">
            <a:avLst>
              <a:gd name="adj1" fmla="val -132694"/>
              <a:gd name="adj2" fmla="val 150105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Тезис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(то есть то, что вы будете раскрывать в сочин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нашем случае это та фраза, которая предложена вам в текст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амого задан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468360" y="3068640"/>
            <a:ext cx="8207280" cy="1512720"/>
          </a:xfrm>
          <a:prstGeom prst="downArrowCallout">
            <a:avLst>
              <a:gd name="adj1" fmla="val -119904"/>
              <a:gd name="adj2" fmla="val 135638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Аргументация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(те доказательства, которые нужно приве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подтверждение;  в нашем случае — опора на данные текс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 указанием номеров предложений или цитаты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7"/>
          <p:cNvSpPr/>
          <p:nvPr/>
        </p:nvSpPr>
        <p:spPr>
          <a:xfrm>
            <a:off x="539640" y="4941720"/>
            <a:ext cx="8136000" cy="1368720"/>
          </a:xfrm>
          <a:prstGeom prst="downArrowCallout">
            <a:avLst>
              <a:gd name="adj1" fmla="val -133821"/>
              <a:gd name="adj2" fmla="val 148606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Вывод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(собственно, итог того, ради чего писался текс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еобходимо обозначить, что тезис подтверждён примерам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44677950_1244098172_book"/>
          <p:cNvPicPr/>
          <p:nvPr/>
        </p:nvPicPr>
        <p:blipFill>
          <a:blip r:embed="rId1"/>
          <a:srcRect l="7012" t="7623" r="52703" b="6279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44677950_1244098172_book"/>
          <p:cNvPicPr/>
          <p:nvPr/>
        </p:nvPicPr>
        <p:blipFill>
          <a:blip r:embed="rId2"/>
          <a:srcRect l="54009" t="7623" r="7012" b="6279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6"/>
          <p:cNvSpPr/>
          <p:nvPr/>
        </p:nvSpPr>
        <p:spPr>
          <a:xfrm>
            <a:off x="808200" y="639720"/>
            <a:ext cx="772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ежду тезисом и аргументами должна бы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468360" y="1268280"/>
            <a:ext cx="4032360" cy="52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Логическая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(смысловая)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вязь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: все приводимые факты должны быть убедительны для каждого и подтверждать выдвинутый тези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Факт, аргумент – самое бесспорное доказательство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праведливо говорят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«Поставить перед факто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4911840" y="1432080"/>
            <a:ext cx="3692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Грамматическая связь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: использование вводных слов (во – первых,…, наконец, итак, следовательно, таким образом), предложений с союзами (однако, хотя, несмотря на, потому что, так как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4911840" y="5465880"/>
            <a:ext cx="354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м. подробно следующий слай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44677950_1244098172_book"/>
          <p:cNvPicPr/>
          <p:nvPr/>
        </p:nvPicPr>
        <p:blipFill>
          <a:blip r:embed="rId1"/>
          <a:srcRect l="54009" t="7623" r="7012" b="8650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44677950_1244098172_book"/>
          <p:cNvPicPr/>
          <p:nvPr/>
        </p:nvPicPr>
        <p:blipFill>
          <a:blip r:embed="rId2"/>
          <a:srcRect l="7012" t="7623" r="52703" b="8650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6"/>
          <p:cNvSpPr/>
          <p:nvPr/>
        </p:nvSpPr>
        <p:spPr>
          <a:xfrm>
            <a:off x="900000" y="836640"/>
            <a:ext cx="7344000" cy="54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Сове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— 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если не уверены в том, что точно можете правильно поставить все знаки препинания при цитировании, </a:t>
            </a:r>
            <a:r>
              <a:rPr b="0" i="1" lang="ru-RU" sz="2000" spc="-1" strike="noStrike">
                <a:solidFill>
                  <a:srgbClr val="800000"/>
                </a:solidFill>
                <a:latin typeface="Georgia"/>
              </a:rPr>
              <a:t>пишите аргумент своими словами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, а в скобках указывайте номер того предложения, в котором вы это вычитал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0" i="1" lang="ru-RU" sz="2000" spc="-1" strike="noStrike">
                <a:solidFill>
                  <a:srgbClr val="800000"/>
                </a:solidFill>
                <a:latin typeface="Georgia"/>
              </a:rPr>
              <a:t>следите за точностью логики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: сбивов, перескакиваний, потери нити мысли быть не должн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0" i="1" lang="ru-RU" sz="2000" spc="-1" strike="noStrike">
                <a:solidFill>
                  <a:srgbClr val="800000"/>
                </a:solidFill>
                <a:latin typeface="Georgia"/>
              </a:rPr>
              <a:t>следите за структурой текста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: тезис-аргументация-вывод, никаких других вариан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0" i="1" lang="ru-RU" sz="2000" spc="-1" strike="noStrike">
                <a:solidFill>
                  <a:srgbClr val="800000"/>
                </a:solidFill>
                <a:latin typeface="Georgia"/>
              </a:rPr>
              <a:t>следите за объёмом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: если задание требует 50 слов, нормой считается 50-100; объём свыше указанного рассматривается как избыточный, что не идёт на пользу автору текста, потому что не соответствует поставленной задач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755640" y="1700280"/>
            <a:ext cx="79405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работе не должно быть резких переходов от одной мысли к другой. Каждую часть работы можно сопроводить принятым клиш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1" i="1" lang="ru-RU" sz="2000" spc="-1" strike="noStrike">
                <a:solidFill>
                  <a:srgbClr val="800000"/>
                </a:solidFill>
                <a:latin typeface="Georgia"/>
              </a:rPr>
              <a:t>1. Какие проблемы поднимает автор?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                     …посвящён проблемам…;  …задумывается над вопросом…; …на первый план выдвигается мысль о…; …в центре внимания автора находятся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i="1" lang="ru-RU" sz="2000" spc="-1" strike="noStrike">
                <a:solidFill>
                  <a:srgbClr val="800000"/>
                </a:solidFill>
                <a:latin typeface="Georgia"/>
              </a:rPr>
              <a:t>2.Разделяете ли вы позицию автора?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…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эти слова хорошо объясняют позицию автора…; … произведение, призвано  хотя бы в некоторой степени помочь  читателю… ; …текст многое объясняет… ; …автор приглашает к разговору… ; …это интересное и нужное произведение… ; …интересно, что автор… ; …может быть , особенно сильное впечатление связано с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900000" y="404640"/>
            <a:ext cx="743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Еще несколько советов в написании сочинения части С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611280" y="2637000"/>
            <a:ext cx="7904160" cy="478656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Georgia"/>
              </a:rPr>
              <a:t>Какие проблемы поднимает автор?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Arial"/>
              </a:rPr>
              <a:t>●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…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свящён проблемам…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Arial"/>
              </a:rPr>
              <a:t>●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адумывается над вопросом…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Arial"/>
              </a:rPr>
              <a:t>●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 первый план выдвигается мысль о…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Arial"/>
              </a:rPr>
              <a:t>●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центре внимания автора находятс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От вас потребуется немало работы"/>
          <p:cNvPicPr/>
          <p:nvPr/>
        </p:nvPicPr>
        <p:blipFill>
          <a:blip r:embed="rId1"/>
          <a:stretch/>
        </p:blipFill>
        <p:spPr>
          <a:xfrm>
            <a:off x="6804000" y="4869000"/>
            <a:ext cx="2160720" cy="17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"/>
          <p:cNvPicPr/>
          <p:nvPr/>
        </p:nvPicPr>
        <p:blipFill>
          <a:blip r:embed="rId1"/>
          <a:srcRect l="18262" t="23419" r="24154" b="18492"/>
          <a:stretch/>
        </p:blipFill>
        <p:spPr>
          <a:xfrm>
            <a:off x="0" y="0"/>
            <a:ext cx="9144000" cy="67834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5"/>
          <p:cNvSpPr/>
          <p:nvPr/>
        </p:nvSpPr>
        <p:spPr>
          <a:xfrm>
            <a:off x="539640" y="33336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Нужно ли в наши дни читать книги?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(макет сочин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395280" y="1557360"/>
            <a:ext cx="381636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Georgia"/>
              </a:rPr>
              <a:t>Тези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акую мысль мы будем доказыва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Georgia"/>
              </a:rPr>
              <a:t>Аргумен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акие доводы мы выскажем, какие приведем доказательст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Georgia"/>
              </a:rPr>
              <a:t>Приме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Georgia"/>
              </a:rPr>
              <a:t>Выв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4356000" y="1484280"/>
            <a:ext cx="45626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ниги читать необходимо. Это несомнен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.Книги расширяют кругозор. В книге полнее содерж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2.Книга дает возможность восхищаться языком: можно перечитать понравившее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3.Телевидение даёт нам готовый зрительный образ, который действует на наши чувства; чтение же  заставляет думать, развивает мышл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аша жизнь обеднела бы без кни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8"/>
          <p:cNvSpPr/>
          <p:nvPr/>
        </p:nvSpPr>
        <p:spPr>
          <a:xfrm>
            <a:off x="2411280" y="1773360"/>
            <a:ext cx="1729080" cy="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9"/>
          <p:cNvSpPr/>
          <p:nvPr/>
        </p:nvSpPr>
        <p:spPr>
          <a:xfrm>
            <a:off x="2843280" y="2708280"/>
            <a:ext cx="1512720" cy="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0"/>
          <p:cNvSpPr/>
          <p:nvPr/>
        </p:nvSpPr>
        <p:spPr>
          <a:xfrm>
            <a:off x="2340000" y="4653000"/>
            <a:ext cx="1728720" cy="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1"/>
          <p:cNvSpPr/>
          <p:nvPr/>
        </p:nvSpPr>
        <p:spPr>
          <a:xfrm>
            <a:off x="2195640" y="5877000"/>
            <a:ext cx="1728720" cy="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10:24:17Z</dcterms:created>
  <dc:creator>Лукьянов</dc:creator>
  <dc:description/>
  <dc:language>en-US</dc:language>
  <cp:lastModifiedBy>User</cp:lastModifiedBy>
  <dcterms:modified xsi:type="dcterms:W3CDTF">2018-02-01T09:40:45Z</dcterms:modified>
  <cp:revision>25</cp:revision>
  <dc:subject/>
  <dc:title>Рассуждение</dc:title>
</cp:coreProperties>
</file>