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E56-11DB-4BD8-B602-02A77DE1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0A6-792F-4861-81AD-D6B7F542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51E-33EF-48A0-9063-E328BD03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529-E89A-4D6B-BB8F-0579273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8D4-D298-4363-8014-A8187DD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BBA-F241-4E0F-B212-29A95E60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7DC-15F2-405F-BD68-77A9170B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046-F0A1-4F4F-B964-8847310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F6A-1CAF-4E13-96EA-BD8F77C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A61-016A-4B5D-87E3-7C978AB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E9D-7109-44FE-964F-1D2EF65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D43-8C42-4580-80C2-FB0003A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EBB-5E0A-4FF2-9F79-E08F0C27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Предпринимательство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Georgia"/>
              </a:rPr>
              <a:t>§ 1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979640" y="476280"/>
            <a:ext cx="5400720" cy="93672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4000" y="1989000"/>
            <a:ext cx="3600360" cy="439128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076720" y="1989000"/>
            <a:ext cx="3600720" cy="439272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195640" y="62064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Comic Sans MS"/>
              </a:rPr>
              <a:t>Государственное регулирование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1280" y="20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ямое рег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95280" y="2421000"/>
            <a:ext cx="331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обходимость государственной регистрации предпринимателей, получение лицензии (специального разрешения) как условие осуществления лицензируемого вида деятельности, получение сертификата в случае обязательной сертификации продукции, товаров и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48360" y="2060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свен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219640" y="2565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едоставление льготных кредитов, льгот по налогооблож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324000" y="2421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076720" y="242100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2627280" y="1773360"/>
            <a:ext cx="42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262728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442764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Чтобы открыть «свое дело» 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ть усло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ть начальный кап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бизнес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сти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 нормативной б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егистрировать свою предпринимательск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Какими качествами должен обладать предприним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ые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ые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24000" y="1916280"/>
            <a:ext cx="4762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воплощать свои замыслы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б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уководящ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Serge\AppData\Local\Microsoft\Windows\Temporary Internet Files\Content.IE5\D49DNOWJ\MC900238282[1].wmf"/>
          <p:cNvPicPr/>
          <p:nvPr/>
        </p:nvPicPr>
        <p:blipFill>
          <a:blip r:embed="rId2"/>
          <a:stretch/>
        </p:blipFill>
        <p:spPr>
          <a:xfrm>
            <a:off x="900000" y="3429000"/>
            <a:ext cx="20178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d1b1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c0c0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c0c0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c0c0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Сформулируйте, что недопустимо в предпринимательст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Лжепредприним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лучение кредита путем об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граничение конку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лостное и фиктивное банкро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клонение от уплаты 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С чего начинать предпринимател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468360" y="1700280"/>
            <a:ext cx="215892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ть на учет в налоговую инспек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3417840" y="1700280"/>
            <a:ext cx="216072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 соответствующие 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6227640" y="1700280"/>
            <a:ext cx="237672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форму деятельности и подготовить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611280" y="3357720"/>
            <a:ext cx="201600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3417840" y="3357720"/>
            <a:ext cx="216072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счет в б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6227640" y="3357720"/>
            <a:ext cx="2376720" cy="10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свиде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06 -0.0007 C 0.15069 0.00995 0.15087 0.01134 0.15573 0.03101 C 0.1566 0.03426 0.15729 0.03726 0.15816 0.04051 C 0.15903 0.04375 0.16059 0.05023 0.16059 0.05023 C 0.15885 0.09328 0.16163 0.15787 0.15104 0.1993 C 0.15191 0.22152 0.15347 0.24375 0.15347 0.26597 C 0.15347 0.27569 0.15191 0.28518 0.15104 0.29467 C 0.14913 0.31481 0.14444 0.33194 0.14149 0.35162 C 0.13889 0.36851 0.14028 0.38379 0.12726 0.38981 C 0.11615 0.40393 0.11458 0.41435 0.09861 0.42152 C 0.0875 0.4368 0.06597 0.43588 0.05104 0.44051 C 0.00938 0.43518 -0.00278 0.43333 -0.05608 0.43101 C -0.08246 0.4324 -0.11424 0.4324 -0.14184 0.4375 C -0.15139 0.43935 -0.16094 0.44444 -0.17049 0.44699 C -0.18611 0.44467 -0.20035 0.44074 -0.21562 0.4375 C -0.22865 0.43171 -0.25608 0.42801 -0.25608 0.42801 C -0.29288 0.43264 -0.32292 0.43842 -0.36094 0.44051 C -0.36337 0.44166 -0.36806 0.44375 -0.36806 0.44375 E">
                                      <p:cBhvr>
                                        <p:cTn id="14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16 -0.00394 C 0.16059 -0.00602 0.1625 -0.00949 0.16528 -0.01019 C 0.17135 -0.01158 0.17517 -0.00324 0.17708 0.00254 C 0.18837 0.03634 0.17604 0.00949 0.18663 0.03101 C 0.1875 0.03842 0.18906 0.04583 0.18906 0.05324 C 0.18906 0.09328 0.18767 0.12731 0.17951 0.16435 C 0.17639 0.1787 0.17552 0.19166 0.16771 0.20254 C 0.16354 0.23449 0.15781 0.26597 0.1533 0.29768 C 0.14861 0.33148 0.14305 0.36273 0.13663 0.39606 C 0.13437 0.40787 0.11024 0.41921 0.1033 0.42152 C 0.08559 0.4375 0.08003 0.43032 0.0533 0.42801 C 0.03663 0.42893 0.01996 0.43194 0.0033 0.43101 C -0.00174 0.43078 -0.01094 0.42476 -0.01094 0.42476 C -0.02691 0.42777 -0.04288 0.42893 -0.05851 0.43426 C -0.07448 0.4331 -0.09045 0.43333 -0.10625 0.43101 C -0.16997 0.42199 -0.08073 0.42662 -0.14427 0.42152 C -0.16493 0.4199 -0.18559 0.41944 -0.20625 0.41828 C -0.22552 0.4162 -0.24219 0.41296 -0.26094 0.40879 C -0.27292 0.40995 -0.2849 0.41041 -0.2967 0.41203 C -0.3007 0.4125 -0.30452 0.41458 -0.30851 0.41527 C -0.32361 0.41782 -0.35382 0.42152 -0.35382 0.42152 C -0.35851 0.42361 -0.36806 0.42801 -0.36806 0.42801 E"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49 0.00533 C 0.13733 0.00417 0.13959 0.00139 0.14202 0.00209 C 0.14427 0.00278 0.14566 0.00579 0.1467 0.00857 C 0.15174 0.02223 0.15677 0.04352 0.15868 0.05926 C 0.16198 0.08773 0.16198 0.12338 0.16823 0.15139 C 0.16945 0.15672 0.17275 0.17454 0.17761 0.17986 C 0.1823 0.18496 0.19775 0.19051 0.20382 0.1926 C 0.20539 0.19584 0.20625 0.2 0.20868 0.20209 C 0.21146 0.2044 0.21511 0.20417 0.21823 0.20533 C 0.22309 0.20718 0.22778 0.20949 0.23247 0.21158 C 0.24653 0.21783 0.26111 0.22269 0.27535 0.22755 C 0.30365 0.25255 0.34028 0.2507 0.37292 0.25301 C 0.4 0.25973 0.36667 0.25301 0.40625 0.25301 C 0.41424 0.25301 0.42205 0.2551 0.43004 0.25602 C 0.43559 0.2551 0.44115 0.25417 0.4467 0.25301 C 0.45625 0.25093 0.47535 0.24653 0.47535 0.24653 C 0.48473 0.24236 0.49427 0.24028 0.50382 0.23704 C 0.51268 0.2257 0.5066 0.23102 0.52535 0.22755 C 0.55591 0.22199 0.54584 0.22431 0.58959 0.22107 C 0.6007 0.21621 0.60886 0.21343 0.61823 0.20533 C 0.63125 0.17894 0.61407 0.20949 0.63004 0.1926 C 0.6323 0.19028 0.63334 0.18635 0.6349 0.1831 C 0.63733 0.17269 0.63716 0.17685 0.63716 0.17037 E">
                                      <p:cBhvr>
                                        <p:cTn id="15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0.08194 C -0.00069 0.10231 0.00642 0.2074 0.00695 0.21828 C 0.00712 0.22291 0.01163 0.24699 0.01163 0.24699 C 0.01024 0.24976 0.00608 0.24652 0.00451 0.24375 C 0.00313 0.2412 0.00451 0.2375 0.00451 0.23426 E">
                                      <p:cBhvr>
                                        <p:cTn id="15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1116000" y="2133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З. § 1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 89 номер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3212640"/>
            <a:ext cx="5400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33"/>
                </a:solidFill>
                <a:latin typeface="Arial"/>
              </a:rPr>
              <a:t>«Все можно сделать лучше, чем делалось до сих пор.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енри  Форд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легендарный американский промышленник, основатель компании Ford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motorpage.ru/Photos/800/210.jpg"/>
          <p:cNvPicPr/>
          <p:nvPr/>
        </p:nvPicPr>
        <p:blipFill>
          <a:blip r:embed="rId2"/>
          <a:srcRect l="15718" t="0" r="8835" b="-592"/>
          <a:stretch/>
        </p:blipFill>
        <p:spPr>
          <a:xfrm>
            <a:off x="601200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348000" y="549360"/>
            <a:ext cx="53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« БИЗНЕС - ЭТО ВЕЛИЧАЙЧАЯ ИГРА В МИРЕ - ЕСЛИ ВЫ ЗНАЕТЕ, КАК В НЕЕ ИГРАТЬ»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Булг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kosino-uhtomski.mos.ru/upload/medialibrary/e6d/bulgakov.jpg"/>
          <p:cNvPicPr/>
          <p:nvPr/>
        </p:nvPicPr>
        <p:blipFill>
          <a:blip r:embed="rId3"/>
          <a:stretch/>
        </p:blipFill>
        <p:spPr>
          <a:xfrm>
            <a:off x="1187280" y="476280"/>
            <a:ext cx="1927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"/>
              </a:rPr>
              <a:t>Предпринимательство-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стоятельная, инициативная деятельность людей, направленная на получение прибы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19.jpg_978943467.jpg"/>
          <p:cNvPicPr/>
          <p:nvPr/>
        </p:nvPicPr>
        <p:blipFill>
          <a:blip r:embed="rId2"/>
          <a:stretch/>
        </p:blipFill>
        <p:spPr>
          <a:xfrm>
            <a:off x="5651640" y="3357720"/>
            <a:ext cx="1873080" cy="186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предпин.jpg"/>
          <p:cNvPicPr/>
          <p:nvPr/>
        </p:nvPicPr>
        <p:blipFill>
          <a:blip r:embed="rId3"/>
          <a:srcRect l="3654" t="0" r="3654" b="0"/>
          <a:stretch/>
        </p:blipFill>
        <p:spPr>
          <a:xfrm>
            <a:off x="1619280" y="3789360"/>
            <a:ext cx="3117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84360" y="1413000"/>
            <a:ext cx="8135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вобода в выборе хозяйственной деятельности и ее мет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амосто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иск и ответственность за принимаемые решения и их послед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риентация на достижение экономического и морального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03280" y="620640"/>
            <a:ext cx="655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Comic Sans MS"/>
              </a:rPr>
              <a:t>Черты предприним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Законодательная б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5338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Конституция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 РФ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Глава 2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 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Статья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татья 34. Каждый имеет право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вободное использование сво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собностей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Каждый имеет право на 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Не допускается экономическая деятельность, направленная на монополизацию и недобросовестную конкурен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скачанные файлы.jpg"/>
          <p:cNvPicPr/>
          <p:nvPr/>
        </p:nvPicPr>
        <p:blipFill>
          <a:blip r:embed="rId2"/>
          <a:stretch/>
        </p:blipFill>
        <p:spPr>
          <a:xfrm>
            <a:off x="5580000" y="1197000"/>
            <a:ext cx="271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2"/>
          <p:cNvSpPr/>
          <p:nvPr/>
        </p:nvSpPr>
        <p:spPr>
          <a:xfrm>
            <a:off x="3995640" y="1557360"/>
            <a:ext cx="5148360" cy="482436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79280" y="1557360"/>
            <a:ext cx="3600720" cy="388764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56000" y="4762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Предприниматель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2987640" y="105264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219640" y="105264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79280" y="1628640"/>
            <a:ext cx="36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Субъекты предпринимательств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Частные лица( граждане РФ, граждане иностранных государств, лица без гражданства), различные ассоциации( объединения, акционерные общества, арендные коллективы, кооперативы),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140360" y="1628640"/>
            <a:ext cx="500364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Объекты предпринимательства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Любые виды хозяйствен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производительная деятельность (шитье одежды, выпечка хлеб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оказание услуг (ремонт, парикмахерские услуг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коммерческое посредничество( т.е. заключение по чьему-то поручению коммерческих сдел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торгово-закупочная деятельность (организация закупки и продажи гриб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операции с ценными бумагами( продажа и покупка акций предприят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. ПРИВЛЕЧЕНИЕ КРУПНЫХ ДЕНЕЖНЫХ СРЕДСТВ В РАЗНЫЕ ОТРАСЛИ НАРОДНОГО ХОЗЯЙСТВА, РАЗВИТИЕ ЭКОНОМИКИ;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2. СОЗДАНИЕ ДОПОЛНИТЕЛЬНЫХ РАБОЧИХ МЕСТ;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3. ВЛИЯЕТ НА БЛАГОСОСТОЯНИЕ ГОСУДАРСТВА (ПРЕДПРИНИМАТЕЛИ ПЛАТЯТ НАЛОГИ  В ГОС.КАЗНУ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Arial"/>
              </a:rPr>
              <a:t>Функции предпринимательск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sovetclub.ru/tim/2564279888e6504340fefccc010d08a2.jpg"/>
          <p:cNvPicPr/>
          <p:nvPr/>
        </p:nvPicPr>
        <p:blipFill>
          <a:blip r:embed="rId2"/>
          <a:srcRect l="0" t="0" r="-948" b="12383"/>
          <a:stretch/>
        </p:blipFill>
        <p:spPr>
          <a:xfrm>
            <a:off x="611280" y="620640"/>
            <a:ext cx="7964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1835280" y="476280"/>
            <a:ext cx="5400720" cy="93672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4000" y="1557360"/>
            <a:ext cx="3313080" cy="158436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324000" y="3284640"/>
            <a:ext cx="3313080" cy="158436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24000" y="5084640"/>
            <a:ext cx="3384360" cy="158292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4859280" y="1557360"/>
            <a:ext cx="3745080" cy="165564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859280" y="3284640"/>
            <a:ext cx="3745080" cy="158436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4932360" y="5084640"/>
            <a:ext cx="3672000" cy="1584360"/>
          </a:xfrm>
          <a:prstGeom prst="rect">
            <a:avLst/>
          </a:prstGeom>
          <a:solidFill>
            <a:srgbClr val="d9d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979640" y="62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Comic Sans MS"/>
              </a:rPr>
              <a:t>Основные принципы, регулирующие предпринимательску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468360" y="184464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вобода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468360" y="350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учение прибыли как главная цель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68360" y="530064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Законность в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5364000" y="184464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ициативная и самостоятельная дея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932360" y="328464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Юридическое равенство различных форм собственности, используемые в предприним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5076720" y="5300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вобода конкуренции и ограничение монополист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3635280" y="2349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3708360" y="57340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3635280" y="393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17:53Z</dcterms:created>
  <dc:creator>катя</dc:creator>
  <dc:description/>
  <dc:language>en-US</dc:language>
  <cp:lastModifiedBy>Johny</cp:lastModifiedBy>
  <dcterms:modified xsi:type="dcterms:W3CDTF">2018-01-15T17:47:15Z</dcterms:modified>
  <cp:revision>46</cp:revision>
  <dc:subject/>
  <dc:title>Социальная структура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