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63E-9F67-4C8C-907F-78128904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21F-0551-4EDC-9D63-F46A88BB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0E9-AC54-4599-AA0A-CF85DD81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4C9-8B9E-4D80-894D-D9F726CE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460-64B6-4CB4-B1CD-5BF69D68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FEC-BC67-4277-BD3D-0E4F1D31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755-D2AC-4515-A037-37E68CF4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D01-41A1-4CE4-BC83-1A858582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171-F260-450E-B76A-25A1FA12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191-083A-4BF1-BBEF-2EA745C5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DB9D-F140-4F55-AD44-B4826F91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039-207E-44EE-AB99-8C7BA78B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7C35-278F-4756-AF54-D46EDA352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Картинка 131 из 128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2"/>
          <a:stretch/>
        </p:blipFill>
        <p:spPr>
          <a:xfrm>
            <a:off x="-291960" y="-30240"/>
            <a:ext cx="92278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ь.jpg"/>
          <p:cNvPicPr/>
          <p:nvPr/>
        </p:nvPicPr>
        <p:blipFill>
          <a:blip r:embed="rId1"/>
          <a:stretch/>
        </p:blipFill>
        <p:spPr>
          <a:xfrm>
            <a:off x="1042920" y="1830240"/>
            <a:ext cx="720108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5" descr="23.jpg"/>
          <p:cNvPicPr/>
          <p:nvPr/>
        </p:nvPicPr>
        <p:blipFill>
          <a:blip r:embed="rId1"/>
          <a:stretch/>
        </p:blipFill>
        <p:spPr>
          <a:xfrm>
            <a:off x="1187280" y="1557360"/>
            <a:ext cx="7056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Картинка 150 из 128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5" descr=""/>
          <p:cNvPicPr/>
          <p:nvPr/>
        </p:nvPicPr>
        <p:blipFill>
          <a:blip r:embed="rId2"/>
          <a:stretch/>
        </p:blipFill>
        <p:spPr>
          <a:xfrm>
            <a:off x="353880" y="420840"/>
            <a:ext cx="8582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Картинка 508 из 32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208080" y="158760"/>
            <a:ext cx="8654760" cy="15778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3"/>
          <p:cNvSpPr/>
          <p:nvPr/>
        </p:nvSpPr>
        <p:spPr>
          <a:xfrm>
            <a:off x="214200" y="1643040"/>
            <a:ext cx="850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c"/>
                <a:ea typeface="Arial"/>
              </a:rPr>
              <a:t>Выпей чайку — забудешь тос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c"/>
                <a:ea typeface="Arial"/>
              </a:rPr>
              <a:t>За чаем не скучаем — по семь чашек выпива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c"/>
                <a:ea typeface="Arial"/>
              </a:rPr>
              <a:t>Чай не пить, так на свете не ж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c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c"/>
                <a:ea typeface="Arial"/>
              </a:rPr>
              <a:t>Чай пить — не дрова руб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c"/>
                <a:ea typeface="Arial"/>
              </a:rPr>
              <a:t>Чай не пьешь - откуда силу возьмеш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c"/>
                <a:ea typeface="Arial"/>
              </a:rPr>
              <a:t>Где есть чай, там и под елью ра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c"/>
                <a:ea typeface="Arial"/>
              </a:rPr>
              <a:t>С чая лиха не бывает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ген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D:\Documents and Settings\Admin.MICROSOF-074BA1\Рабочий стол\Мои документы\shennong.PNG"/>
          <p:cNvPicPr/>
          <p:nvPr/>
        </p:nvPicPr>
        <p:blipFill>
          <a:blip r:embed="rId1"/>
          <a:stretch/>
        </p:blipFill>
        <p:spPr>
          <a:xfrm>
            <a:off x="1403280" y="1916280"/>
            <a:ext cx="6408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Картинка 508 из 32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1596960" y="109440"/>
            <a:ext cx="6230880" cy="11034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571680" y="1571760"/>
            <a:ext cx="807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4400" spc="-1" strike="noStrike">
                <a:solidFill>
                  <a:srgbClr val="1e1c11"/>
                </a:solidFill>
                <a:latin typeface="Calibri"/>
              </a:rPr>
              <a:t>Черный ч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e1c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e1c11"/>
                </a:solidFill>
                <a:latin typeface="Calibri"/>
              </a:rPr>
              <a:t>   </a:t>
            </a:r>
            <a:r>
              <a:rPr b="0" i="1" lang="ru-RU" sz="4400" spc="-1" strike="noStrike">
                <a:solidFill>
                  <a:srgbClr val="1e1c11"/>
                </a:solidFill>
                <a:latin typeface="Calibri"/>
              </a:rPr>
              <a:t>Зелёный ча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e1c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e1c11"/>
                </a:solidFill>
                <a:latin typeface="Calibri"/>
              </a:rPr>
              <a:t>   </a:t>
            </a:r>
            <a:r>
              <a:rPr b="0" i="1" lang="ru-RU" sz="4400" spc="-1" strike="noStrike">
                <a:solidFill>
                  <a:srgbClr val="1e1c11"/>
                </a:solidFill>
                <a:latin typeface="Calibri"/>
              </a:rPr>
              <a:t>Красный ча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e1c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e1c11"/>
                </a:solidFill>
                <a:latin typeface="Calibri"/>
              </a:rPr>
              <a:t>   </a:t>
            </a:r>
            <a:r>
              <a:rPr b="0" i="1" lang="ru-RU" sz="4400" spc="-1" strike="noStrike">
                <a:solidFill>
                  <a:srgbClr val="1e1c11"/>
                </a:solidFill>
                <a:latin typeface="Calibri"/>
              </a:rPr>
              <a:t>Лечебный ч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e1c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e1c11"/>
                </a:solidFill>
                <a:latin typeface="Calibri"/>
              </a:rPr>
              <a:t>   </a:t>
            </a:r>
            <a:r>
              <a:rPr b="0" i="1" lang="ru-RU" sz="4400" spc="-1" strike="noStrike">
                <a:solidFill>
                  <a:srgbClr val="1e1c11"/>
                </a:solidFill>
                <a:latin typeface="Calibri"/>
              </a:rPr>
              <a:t>Ароматизированный   ч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Картинка 508 из 32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картина чаепития"/>
          <p:cNvPicPr/>
          <p:nvPr/>
        </p:nvPicPr>
        <p:blipFill>
          <a:blip r:embed="rId2"/>
          <a:stretch/>
        </p:blipFill>
        <p:spPr>
          <a:xfrm>
            <a:off x="357120" y="1643040"/>
            <a:ext cx="4353120" cy="48578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4786200" y="1000080"/>
            <a:ext cx="41436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e1c11"/>
                </a:solidFill>
                <a:latin typeface="Ariac"/>
              </a:rPr>
              <a:t>Долгое время этот напиток считался редким и был принадлежностью знати.  Чай в России для крестьян был недоступен. Поэтому возникло выражение "чайком побаловаться". Многие бедняки даже не знали, как заваривать чай. В середине </a:t>
            </a:r>
            <a:r>
              <a:rPr b="0" i="1" lang="en-US" sz="2800" spc="-1" strike="noStrike">
                <a:solidFill>
                  <a:srgbClr val="1e1c11"/>
                </a:solidFill>
                <a:latin typeface="Ariac"/>
              </a:rPr>
              <a:t>XIX </a:t>
            </a:r>
            <a:r>
              <a:rPr b="0" i="1" lang="ru-RU" sz="2800" spc="-1" strike="noStrike">
                <a:solidFill>
                  <a:srgbClr val="1e1c11"/>
                </a:solidFill>
                <a:latin typeface="Ariac"/>
              </a:rPr>
              <a:t>века были такие шуточные стих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e1c11"/>
                </a:solidFill>
                <a:latin typeface="Aria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4" descr=""/>
          <p:cNvPicPr/>
          <p:nvPr/>
        </p:nvPicPr>
        <p:blipFill>
          <a:blip r:embed="rId3"/>
          <a:stretch/>
        </p:blipFill>
        <p:spPr>
          <a:xfrm>
            <a:off x="1895400" y="231840"/>
            <a:ext cx="512784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захское чаеп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казах.jpg"/>
          <p:cNvPicPr/>
          <p:nvPr/>
        </p:nvPicPr>
        <p:blipFill>
          <a:blip r:embed="rId1"/>
          <a:stretch/>
        </p:blipFill>
        <p:spPr>
          <a:xfrm>
            <a:off x="1042920" y="1413000"/>
            <a:ext cx="71294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Картинка 508 из 32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357120" y="1643040"/>
            <a:ext cx="3916440" cy="4714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"/>
          <p:cNvSpPr/>
          <p:nvPr/>
        </p:nvSpPr>
        <p:spPr>
          <a:xfrm>
            <a:off x="4286160" y="1000080"/>
            <a:ext cx="45007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e1c11"/>
                </a:solidFill>
                <a:latin typeface="Ariac"/>
              </a:rPr>
              <a:t>Английские традиции чаепития известны во всем мире. Англичане неизменно начинают утро с чашки хорошего чая. Причем этот чай особый, — крепкая смесь мелкого ломаного чайного листа из Цейлона, Кении и Индии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e1c11"/>
                </a:solidFill>
                <a:latin typeface="Ariac"/>
              </a:rPr>
              <a:t>Известное английское чаепитие в 5 часов вечера ("five-o-clock") впервые появилось в 1840 году. Герцогиня Анна Бедфордская Седьмая предложила утолять легкий голод, возникающий между завтраком и поздним английским обедом, в 4 часа дня чашкой чая с легкими закусками. Позже чаепитие переместилось на 5 часов вече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4" descr=""/>
          <p:cNvPicPr/>
          <p:nvPr/>
        </p:nvPicPr>
        <p:blipFill>
          <a:blip r:embed="rId3"/>
          <a:stretch/>
        </p:blipFill>
        <p:spPr>
          <a:xfrm>
            <a:off x="1390680" y="195120"/>
            <a:ext cx="6168960" cy="9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артинка 508 из 32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8" descr=""/>
          <p:cNvPicPr/>
          <p:nvPr/>
        </p:nvPicPr>
        <p:blipFill>
          <a:blip r:embed="rId2"/>
          <a:stretch/>
        </p:blipFill>
        <p:spPr>
          <a:xfrm>
            <a:off x="781200" y="152280"/>
            <a:ext cx="7729560" cy="908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214200" y="1500120"/>
            <a:ext cx="400068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4500720" y="2071800"/>
            <a:ext cx="4143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1e1c11"/>
                </a:solidFill>
                <a:latin typeface="Ariac"/>
              </a:rPr>
              <a:t>Родина чая – Китай. Молодой листочек по – китайские называется «тцайей». Отсюда и произошло слово «чай». В Китае чай пьют уже более двух тысячелетий. В 19 веке чай проник  из Китая в Япо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8:36:18Z</dcterms:created>
  <dc:creator>Admin</dc:creator>
  <dc:description/>
  <dc:language>en-US</dc:language>
  <cp:lastModifiedBy>user</cp:lastModifiedBy>
  <dcterms:modified xsi:type="dcterms:W3CDTF">2018-02-01T06:22:00Z</dcterms:modified>
  <cp:revision>25</cp:revision>
  <dc:subject/>
  <dc:title>Слайд 1</dc:title>
</cp:coreProperties>
</file>