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9D3-A9CC-4A73-9283-5ADDD50B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315-1402-42D1-A7F6-8F52E6F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804-898C-4BD5-8FB2-068EE2A6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C9-D906-47FD-85EC-FDAFF0F9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94E-D70C-4E42-B292-AF50675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ED1-D419-4DF7-A1D6-EDCD1FAF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640-AC81-48E0-9D01-99A9D41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CC7-17B8-4BEF-A51F-B964298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73F-E86F-42D4-A376-4B0A1950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395-F76C-4CA2-BBE8-C400B0E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894-650C-4F32-BDB4-E1FD53A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AD9-C8A9-4727-98EA-028FF00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F37C-9FE8-4A1A-AB8A-DAF949F76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Речевые разминки и портреты писателей к урокам «Литературное чтение» </a:t>
            </a:r>
            <a:br>
              <a:rPr sz="2400"/>
            </a:b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6600"/>
                </a:solidFill>
                <a:latin typeface="Arial"/>
              </a:rPr>
              <a:t>учебник Л.Ф. Климановой и др., «Школа России»</a:t>
            </a:r>
            <a:br>
              <a:rPr sz="2400"/>
            </a:b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2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Кружение бабочек"/>
          <p:cNvPicPr/>
          <p:nvPr/>
        </p:nvPicPr>
        <p:blipFill>
          <a:blip r:embed="rId1"/>
          <a:stretch/>
        </p:blipFill>
        <p:spPr>
          <a:xfrm>
            <a:off x="6095880" y="5410080"/>
            <a:ext cx="28576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1676520" y="3276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здел 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Люблю природу русскую. 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905120" y="44197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486400" y="251460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уил Яковлевич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7-196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Маршак"/>
          <p:cNvPicPr/>
          <p:nvPr/>
        </p:nvPicPr>
        <p:blipFill>
          <a:blip r:embed="rId2"/>
          <a:stretch/>
        </p:blipFill>
        <p:spPr>
          <a:xfrm>
            <a:off x="914400" y="914400"/>
            <a:ext cx="41324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5. И. Бунин «Мате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 Милу с мылом мы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глаз попало Миле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 Миле говор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е сердись, дочурка Мил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-Не сержусь, - сказала Мила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Я выплакиваю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. Демья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Научитесь читать стихотворение скороговорк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затем выразительно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5791320" y="25909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Алексеевич Буни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0-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bunin"/>
          <p:cNvPicPr/>
          <p:nvPr/>
        </p:nvPicPr>
        <p:blipFill>
          <a:blip r:embed="rId2"/>
          <a:stretch/>
        </p:blipFill>
        <p:spPr>
          <a:xfrm>
            <a:off x="380880" y="68580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6. А. Плещеев  «В бур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казки слушать я люб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казки слушать я любл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Маму вечером мол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Почитай мне эти сказ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Я потом закрою глаз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Будет сниться мне во сн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Будто на лихом к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Я скачу на бой с Кощее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ли с трёхголовым Зме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Побеждаю в сказке з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Людям делаю доб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Все ребята это знаю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казки в жизни помог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Быть нам честными всег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Не бояться никог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лабым помогать в пу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К людям с добротой ид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О. Чусовит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-Прочитайте стихотворение вполгол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Начните читать медленно и постепенно ускоряйте те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читайте стихотворение с разной интонацие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5486400" y="2514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ей Николаевич Плещ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25-189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2017115_Plescheev"/>
          <p:cNvPicPr/>
          <p:nvPr/>
        </p:nvPicPr>
        <p:blipFill>
          <a:blip r:embed="rId2"/>
          <a:stretch/>
        </p:blipFill>
        <p:spPr>
          <a:xfrm>
            <a:off x="762120" y="609480"/>
            <a:ext cx="3813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7. Е Благинина «Посидим в тиши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понедельник я стир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л во вторник подм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среду я пекла кала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есь четверг искала мя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ашки в пятницу помы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 в субботу торт куп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сех подружек в воскрес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вала на день рожд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. Башм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-Прочитайте стихотворение медл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читайте с разной интонацие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-1731"/>
          <p:cNvPicPr/>
          <p:nvPr/>
        </p:nvPicPr>
        <p:blipFill>
          <a:blip r:embed="rId1"/>
          <a:stretch/>
        </p:blipFill>
        <p:spPr>
          <a:xfrm>
            <a:off x="380880" y="53352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638680" y="2514600"/>
            <a:ext cx="3048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ена Александровна Благин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03-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Кружение бабочек"/>
          <p:cNvPicPr/>
          <p:nvPr/>
        </p:nvPicPr>
        <p:blipFill>
          <a:blip r:embed="rId2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8. Э. Мошковская «Я маму свою обиде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ма по комна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фартуке бел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оропливо пойдё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дит по комна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нята д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, между дел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ё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шки и блю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мыв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е улыбну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забы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напе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вот сегод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лос знакомы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овно совсем и не т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ма по-прежнему ходит по д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по-иному поё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лос знакомы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особен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друг зазвучал в тиш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рое что-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ердце вносил он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разреветься бы м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. Барто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(  Начните читать медленно и постепенно ускоряйте темп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638680" y="2514600"/>
            <a:ext cx="3048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ма Эфраимовна Мошко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6-198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foto"/>
          <p:cNvPicPr/>
          <p:nvPr/>
        </p:nvPicPr>
        <p:blipFill>
          <a:blip r:embed="rId2"/>
          <a:stretch/>
        </p:blipFill>
        <p:spPr>
          <a:xfrm>
            <a:off x="1066680" y="1371600"/>
            <a:ext cx="3608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рок №100. Люблю природу русскую. Вес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ы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ютуют ночные моро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Холодные ветры свист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сины, дубы и берё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 зябкими звёздами спят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в воздухе есть переме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ни разбудили сос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голочки, словно антен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же уловили вес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В.Ор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очитайте стихотворение с разной интонацией (с удивлением, восхищением, весело, сердито, вопросительно, утвердительно)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162920" y="4648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0. Стихи Ф.И.Тютчева о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838080" y="1066680"/>
            <a:ext cx="792504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е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ка глубо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 небом голуб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туман растая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олубой как д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удто бы к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руглой гол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ьёт сойка голуб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з лужи голу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Л. Лонш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-Как по вашему называется это стихотвор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-Прочитайте стихотворение с удивлением, ещё: с раздражением, задорно, груст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jutchev"/>
          <p:cNvPicPr/>
          <p:nvPr/>
        </p:nvPicPr>
        <p:blipFill>
          <a:blip r:embed="rId1"/>
          <a:stretch/>
        </p:blipFill>
        <p:spPr>
          <a:xfrm>
            <a:off x="644400" y="762120"/>
            <a:ext cx="424044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486400" y="251460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ёдор Иванович Тютче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03-18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Кружение бабочек"/>
          <p:cNvPicPr/>
          <p:nvPr/>
        </p:nvPicPr>
        <p:blipFill>
          <a:blip r:embed="rId2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1. Стихи А.Плещеева о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есенняя го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илая певу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асточка род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 нам домой верну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з чуж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 окошком вь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 песенкой жив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Я весну и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инесла с собою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. Ль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рочитайте стихотворение «жужжащим способо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Начните читать медленно и постепенно ускор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читайте стихотворение с разной интонацией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486400" y="25146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ей Николаевич Плещ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25-189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52017115_Plescheev"/>
          <p:cNvPicPr/>
          <p:nvPr/>
        </p:nvPicPr>
        <p:blipFill>
          <a:blip r:embed="rId2"/>
          <a:stretch/>
        </p:blipFill>
        <p:spPr>
          <a:xfrm>
            <a:off x="762120" y="609480"/>
            <a:ext cx="3813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3. А. Блок «На лу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838080" y="1447920"/>
            <a:ext cx="79250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Здравствуй,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ешний цветик в травк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Шуршит ласковый глаз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ел щеглёнок на кле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Зеленеющий су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юбо птичке желтогруд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ясном блеске выш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етит солнце, радость всюду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Здравствуй, милая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. Городе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-Подумайте как это стихотворение может назы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Прочитайте стихотворение с интонацией удивления, раздражения, ещё: вопросительно, утвердительно, весело, задорно, выраз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486400" y="251460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 Александрович 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0-192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ружение бабочек"/>
          <p:cNvPicPr/>
          <p:nvPr/>
        </p:nvPicPr>
        <p:blipFill>
          <a:blip r:embed="rId1"/>
          <a:stretch/>
        </p:blipFill>
        <p:spPr>
          <a:xfrm>
            <a:off x="6019920" y="502920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a123e7c324149035b30543769c2c2d3"/>
          <p:cNvPicPr/>
          <p:nvPr/>
        </p:nvPicPr>
        <p:blipFill>
          <a:blip r:embed="rId2"/>
          <a:stretch/>
        </p:blipFill>
        <p:spPr>
          <a:xfrm>
            <a:off x="762120" y="685800"/>
            <a:ext cx="349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рок №104. С.  Маршак «Снег теперь уже не то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ечев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арту дремлется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скрылись чёрные дорог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лнце греет горяч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в сугробе, как в берло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рту дремлется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 нему ещё на лыж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бегают смельч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пит он сладко и не слыш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то смеются ру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Г. Нов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рочитайте стихотворение «жужжащим способо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Начните читать медленно и постепенно ускор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читайте стихотворение с разной интонацией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Цветы мать и мачехи с бабочкой"/>
          <p:cNvPicPr/>
          <p:nvPr/>
        </p:nvPicPr>
        <p:blipFill>
          <a:blip r:embed="rId1"/>
          <a:stretch/>
        </p:blipFill>
        <p:spPr>
          <a:xfrm>
            <a:off x="7315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8-02-01T15:48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