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10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50.wmf" ContentType="image/x-wmf"/>
  <Override PartName="/ppt/media/image35.jpeg" ContentType="image/jpeg"/>
  <Override PartName="/ppt/media/image68.wmf" ContentType="image/x-wmf"/>
  <Override PartName="/ppt/media/image40.wmf" ContentType="image/x-wmf"/>
  <Override PartName="/ppt/media/image34.jpeg" ContentType="image/jpeg"/>
  <Override PartName="/ppt/media/image58.wmf" ContentType="image/x-wmf"/>
  <Override PartName="/ppt/media/image31.wmf" ContentType="image/x-wmf"/>
  <Override PartName="/ppt/media/image2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77.jpeg" ContentType="image/jpeg"/>
  <Override PartName="/ppt/media/image22.wmf" ContentType="image/x-wmf"/>
  <Override PartName="/ppt/media/image59.wmf" ContentType="image/x-wmf"/>
  <Override PartName="/ppt/media/image27.wmf" ContentType="image/x-wmf"/>
  <Override PartName="/ppt/media/image76.wmf" ContentType="image/x-wmf"/>
  <Override PartName="/ppt/media/image70.wmf" ContentType="image/x-wmf"/>
  <Override PartName="/ppt/media/image45.jpeg" ContentType="image/jpeg"/>
  <Override PartName="/ppt/media/image64.wmf" ContentType="image/x-wmf"/>
  <Override PartName="/ppt/media/image75.wmf" ContentType="image/x-wmf"/>
  <Override PartName="/ppt/media/image63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36.jpeg" ContentType="image/jpeg"/>
  <Override PartName="/ppt/media/image60.wmf" ContentType="image/x-wmf"/>
  <Override PartName="/ppt/media/image66.png" ContentType="image/png"/>
  <Override PartName="/ppt/media/image23.wmf" ContentType="image/x-wmf"/>
  <Override PartName="/ppt/media/image71.wmf" ContentType="image/x-wmf"/>
  <Override PartName="/ppt/media/image29.wmf" ContentType="image/x-wmf"/>
  <Override PartName="/ppt/media/image65.wmf" ContentType="image/x-wmf"/>
  <Override PartName="/ppt/media/image67.jpeg" ContentType="image/jpeg"/>
  <Override PartName="/ppt/media/image26.wmf" ContentType="image/x-wmf"/>
  <Override PartName="/ppt/media/image46.jpeg" ContentType="image/jpeg"/>
  <Override PartName="/ppt/media/image15.wmf" ContentType="image/x-wmf"/>
  <Override PartName="/ppt/media/image3.wmf" ContentType="image/x-wmf"/>
  <Override PartName="/ppt/media/image16.wmf" ContentType="image/x-wmf"/>
  <Override PartName="/ppt/media/image4.wmf" ContentType="image/x-wmf"/>
  <Override PartName="/ppt/media/image17.wmf" ContentType="image/x-wmf"/>
  <Override PartName="/ppt/media/image5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33.jpeg" ContentType="image/jpeg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2AF-68E0-4610-B7C7-6F6A252E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22C-429E-4149-A4D1-812DC5E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67F-0220-4871-AEC0-20AB9A20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888-FBFB-486F-A029-04A33D7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2AC-3F7F-4105-B7C2-1F1C0FD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2AA-F5FB-4260-9652-FE636CE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A1F-DF23-4CF7-8927-5AD34098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905-2FC2-4B5C-B3A9-A22022B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5E7-BAF6-4D7A-AE0E-43B741E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73B-D40F-4591-9A90-E6003E0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328-60A7-4875-9D26-EC742029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33A-F9E6-498C-B923-72B82997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3BA-86E7-4BBD-945B-FE46CCC71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image" Target="../media/image74.wmf"/><Relationship Id="rId8" Type="http://schemas.openxmlformats.org/officeDocument/2006/relationships/image" Target="../media/image75.wmf"/><Relationship Id="rId9" Type="http://schemas.openxmlformats.org/officeDocument/2006/relationships/image" Target="../media/image76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чевые разминки и портреты писателей к урокам «Литературное чтение»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2 класс</a:t>
            </a:r>
            <a:br>
              <a:rPr sz="2800"/>
            </a:br>
            <a:r>
              <a:rPr b="0" i="1" lang="ru-RU" sz="1600" spc="-1" strike="noStrike">
                <a:solidFill>
                  <a:srgbClr val="000066"/>
                </a:solidFill>
                <a:latin typeface="Arial"/>
              </a:rPr>
              <a:t>учебник Л.Ф. Климановой и др., «Школа России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819160"/>
            <a:ext cx="7010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дел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Люблю природу русскую. Зим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SNOWFLK4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228600" y="22860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" name="Picture 21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543800" y="2133720"/>
            <a:ext cx="52236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Picture 21" descr="SNOWFLK4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1143000" y="2133720"/>
            <a:ext cx="52236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Picture 17" descr="SNOWFLK4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543800" y="510552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Picture 25" descr="SNOWFLK4"/>
          <p:cNvPicPr/>
          <p:nvPr/>
        </p:nvPicPr>
        <p:blipFill>
          <a:blip r:embed="rId5">
            <a:lum bright="4000"/>
          </a:blip>
          <a:stretch/>
        </p:blipFill>
        <p:spPr>
          <a:xfrm>
            <a:off x="2209680" y="38862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1066680" y="533412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6400800" y="38862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4267080" y="579132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Picture 25" descr="SNOWFLK4"/>
          <p:cNvPicPr/>
          <p:nvPr/>
        </p:nvPicPr>
        <p:blipFill>
          <a:blip r:embed="rId9">
            <a:lum bright="4000"/>
          </a:blip>
          <a:stretch/>
        </p:blipFill>
        <p:spPr>
          <a:xfrm>
            <a:off x="4419720" y="4572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Picture 25" descr="SNOWFLK4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5334120" y="22096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25" descr="SNOWFLK4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048120" y="22096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Picture 25" descr="SNOWFLK4"/>
          <p:cNvPicPr/>
          <p:nvPr/>
        </p:nvPicPr>
        <p:blipFill>
          <a:blip r:embed="rId12">
            <a:lum bright="4000"/>
          </a:blip>
          <a:stretch/>
        </p:blipFill>
        <p:spPr>
          <a:xfrm>
            <a:off x="6477120" y="3808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23920" y="1295280"/>
            <a:ext cx="44197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95-19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346725_esenin"/>
          <p:cNvPicPr/>
          <p:nvPr/>
        </p:nvPicPr>
        <p:blipFill>
          <a:blip r:embed="rId1"/>
          <a:stretch/>
        </p:blipFill>
        <p:spPr>
          <a:xfrm>
            <a:off x="609480" y="762120"/>
            <a:ext cx="3559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69. С.В. Михалков «Новогодняя быль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99"/>
                </a:solidFill>
                <a:latin typeface="Arial"/>
              </a:rPr>
              <a:t>Ёл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Есть одна игра для ва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Я начну стихи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Я начну, а вы конч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ором дружно отвечайт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а дворе снежок идё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коро праздник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Новы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ягко светятся игол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войный дух идёт от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ё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етви слабо шелестя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усы яркие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блест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качаются  игруш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лаги, звёздочки,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хлопуш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верхушку украша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м сияет, как всег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чень яркая, больша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ятикрылая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звезда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.Благи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Начните читать медленно и постепенно ускоряйте те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читайте стихотворение с разной интонацие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SNOWFLK4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4038480" y="563868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21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24680" y="38088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25" descr="SNOWFLK4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3200400" y="49528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7" name="Picture 25" descr="SNOWFLK4"/>
          <p:cNvPicPr/>
          <p:nvPr/>
        </p:nvPicPr>
        <p:blipFill>
          <a:blip r:embed="rId4">
            <a:lum bright="4000"/>
          </a:blip>
          <a:stretch/>
        </p:blipFill>
        <p:spPr>
          <a:xfrm>
            <a:off x="6858000" y="144792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25" descr="SNOWFLK4"/>
          <p:cNvPicPr/>
          <p:nvPr/>
        </p:nvPicPr>
        <p:blipFill>
          <a:blip r:embed="rId5">
            <a:lum bright="4000"/>
          </a:blip>
          <a:stretch/>
        </p:blipFill>
        <p:spPr>
          <a:xfrm>
            <a:off x="8305920" y="58672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5943600" y="13716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1066680" y="38088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1" name="Picture 21" descr="SNOWFLK4"/>
          <p:cNvPicPr/>
          <p:nvPr/>
        </p:nvPicPr>
        <p:blipFill>
          <a:blip r:embed="rId8">
            <a:lum bright="-100000"/>
          </a:blip>
          <a:stretch/>
        </p:blipFill>
        <p:spPr>
          <a:xfrm>
            <a:off x="4343400" y="175248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2" name="Picture 17" descr="SNOWFLK4"/>
          <p:cNvPicPr/>
          <p:nvPr/>
        </p:nvPicPr>
        <p:blipFill>
          <a:blip r:embed="rId9">
            <a:lum bright="-100000"/>
          </a:blip>
          <a:stretch/>
        </p:blipFill>
        <p:spPr>
          <a:xfrm>
            <a:off x="5029200" y="335268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Picture 13" descr="bf5e1e43c2a0"/>
          <p:cNvPicPr/>
          <p:nvPr/>
        </p:nvPicPr>
        <p:blipFill>
          <a:blip r:embed="rId10"/>
          <a:stretch/>
        </p:blipFill>
        <p:spPr>
          <a:xfrm>
            <a:off x="6400800" y="2209680"/>
            <a:ext cx="2336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гей Владимирович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халко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13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С"/>
          <p:cNvPicPr/>
          <p:nvPr/>
        </p:nvPicPr>
        <p:blipFill>
          <a:blip r:embed="rId1"/>
          <a:stretch/>
        </p:blipFill>
        <p:spPr>
          <a:xfrm>
            <a:off x="380880" y="390600"/>
            <a:ext cx="47674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70. А. Л. Барто «Дело было в январе…»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ты делаешь, Зи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ты делаешь, Зи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ою чудо тере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ыплю снежным сереб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крашаю всё к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кружится карус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лихватская метел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араюсь, чтоб с 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кучала детв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ы ёлочка зажг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ы тройка пронесла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 Зимы не счесть з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коро праздник – Новый год!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. Фарх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рочитайте с разной интонацией (с удивлением, восхищением, весело, сердито, вопросительно, утвердительно)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5" descr="SNOWFLK4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6705720" y="38862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7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1523880" y="53352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17" descr="SNOWFLK4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4648320" y="373392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21" descr="SNOWFLK4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7238880" y="518148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Picture 21" descr="SNOWFLK4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00600" y="182880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3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7391520" y="22096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4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8153280" y="6858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5867280" y="29718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Picture 25" descr="SNOWFLK4"/>
          <p:cNvPicPr/>
          <p:nvPr/>
        </p:nvPicPr>
        <p:blipFill>
          <a:blip r:embed="rId9">
            <a:lum bright="4000"/>
          </a:blip>
          <a:stretch/>
        </p:blipFill>
        <p:spPr>
          <a:xfrm>
            <a:off x="1219320" y="624852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81120" y="1066680"/>
            <a:ext cx="3429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гния Львовна Барт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06-1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А"/>
          <p:cNvPicPr/>
          <p:nvPr/>
        </p:nvPicPr>
        <p:blipFill>
          <a:blip r:embed="rId1"/>
          <a:stretch/>
        </p:blipFill>
        <p:spPr>
          <a:xfrm>
            <a:off x="685800" y="380880"/>
            <a:ext cx="492120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129528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64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юблю природу русскую. Зима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т перв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крыт букварь з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го ещё не прочит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уже на чистую стра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порхнула пёстрой буквиной с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а звенит, как маленький зв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будто первый начался ур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. Горбу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- Прочитайте стихотворение, разделяя слова на сло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читайте плавно, певуч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медленно и постепенно ускор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читайте стихотворение выраз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SNOWFLK4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4038480" y="152388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Picture 21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990720" y="380880"/>
            <a:ext cx="52200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Picture 21" descr="SNOWFLK4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315200" y="4648320"/>
            <a:ext cx="52236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Picture 25" descr="SNOWFLK4"/>
          <p:cNvPicPr/>
          <p:nvPr/>
        </p:nvPicPr>
        <p:blipFill>
          <a:blip r:embed="rId4">
            <a:lum bright="4000"/>
          </a:blip>
          <a:stretch/>
        </p:blipFill>
        <p:spPr>
          <a:xfrm>
            <a:off x="3962520" y="45720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Picture 25" descr="SNOWFLK4"/>
          <p:cNvPicPr/>
          <p:nvPr/>
        </p:nvPicPr>
        <p:blipFill>
          <a:blip r:embed="rId5">
            <a:lum bright="4000"/>
          </a:blip>
          <a:stretch/>
        </p:blipFill>
        <p:spPr>
          <a:xfrm>
            <a:off x="380880" y="601992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6781680" y="36576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5791320" y="24382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7772400" y="12952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Picture 25" descr="SNOWFLK4"/>
          <p:cNvPicPr/>
          <p:nvPr/>
        </p:nvPicPr>
        <p:blipFill>
          <a:blip r:embed="rId9">
            <a:lum bright="4000"/>
          </a:blip>
          <a:stretch/>
        </p:blipFill>
        <p:spPr>
          <a:xfrm>
            <a:off x="5638680" y="495288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Picture 17" descr="SNOWFLK4"/>
          <p:cNvPicPr/>
          <p:nvPr/>
        </p:nvPicPr>
        <p:blipFill>
          <a:blip r:embed="rId10">
            <a:lum bright="-100000"/>
          </a:blip>
          <a:stretch/>
        </p:blipFill>
        <p:spPr>
          <a:xfrm>
            <a:off x="5943600" y="91440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129528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65. Стихи о первом снеге.</a:t>
            </a:r>
            <a:br>
              <a:rPr sz="24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еж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етают снежи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чти невидим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много всегда их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от я снежи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ушистую льди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ймал наконец-то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плакала ти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рустальная льдинк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тёплой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алась слезинка.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кадий Мель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   - Начните читать медленно и постепенно ускор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быстро и постепенно замедляйте тем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шёпотом и постепенно усиливайте гол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ните читать громко и постепенно переходите на шёп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читайте стихотворение с разной интонацией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SNOWFLK4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3124080" y="1447920"/>
            <a:ext cx="52236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21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990720" y="380880"/>
            <a:ext cx="52200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Picture 21" descr="SNOWFLK4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7315200" y="4648320"/>
            <a:ext cx="52236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Picture 25" descr="SNOWFLK4"/>
          <p:cNvPicPr/>
          <p:nvPr/>
        </p:nvPicPr>
        <p:blipFill>
          <a:blip r:embed="rId4">
            <a:lum bright="4000"/>
          </a:blip>
          <a:stretch/>
        </p:blipFill>
        <p:spPr>
          <a:xfrm>
            <a:off x="3962520" y="45720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3" name="Picture 25" descr="SNOWFLK4"/>
          <p:cNvPicPr/>
          <p:nvPr/>
        </p:nvPicPr>
        <p:blipFill>
          <a:blip r:embed="rId5">
            <a:lum bright="4000"/>
          </a:blip>
          <a:stretch/>
        </p:blipFill>
        <p:spPr>
          <a:xfrm>
            <a:off x="380880" y="601992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4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6781680" y="36576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6019920" y="28954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6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7772400" y="12952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7" name="Picture 25" descr="SNOWFLK4"/>
          <p:cNvPicPr/>
          <p:nvPr/>
        </p:nvPicPr>
        <p:blipFill>
          <a:blip r:embed="rId9">
            <a:lum bright="4000"/>
          </a:blip>
          <a:stretch/>
        </p:blipFill>
        <p:spPr>
          <a:xfrm>
            <a:off x="5638680" y="495288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8" name="Picture 17" descr="SNOWFLK4"/>
          <p:cNvPicPr/>
          <p:nvPr/>
        </p:nvPicPr>
        <p:blipFill>
          <a:blip r:embed="rId10">
            <a:lum bright="-100000"/>
          </a:blip>
          <a:stretch/>
        </p:blipFill>
        <p:spPr>
          <a:xfrm>
            <a:off x="5943600" y="91440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09720" y="990360"/>
            <a:ext cx="3429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ван Алексеевич Буни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70-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bunin"/>
          <p:cNvPicPr/>
          <p:nvPr/>
        </p:nvPicPr>
        <p:blipFill>
          <a:blip r:embed="rId1"/>
          <a:stretch/>
        </p:blipFill>
        <p:spPr>
          <a:xfrm>
            <a:off x="-228600" y="228600"/>
            <a:ext cx="57816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47960" y="761760"/>
            <a:ext cx="3429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тантин Дмитриевич Бальмон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67-19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f01"/>
          <p:cNvPicPr/>
          <p:nvPr/>
        </p:nvPicPr>
        <p:blipFill>
          <a:blip r:embed="rId1"/>
          <a:stretch/>
        </p:blipFill>
        <p:spPr>
          <a:xfrm>
            <a:off x="304920" y="457200"/>
            <a:ext cx="4341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4572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ов Лазаревич Аки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Аким"/>
          <p:cNvPicPr/>
          <p:nvPr/>
        </p:nvPicPr>
        <p:blipFill>
          <a:blip r:embed="rId1"/>
          <a:stretch/>
        </p:blipFill>
        <p:spPr>
          <a:xfrm>
            <a:off x="609480" y="838080"/>
            <a:ext cx="3603600" cy="509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648320" y="2362320"/>
            <a:ext cx="3809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66.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.И. Тютчев «Чародейкою Зимою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 ботинки, не сапо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 их тоже носят но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них мы бегаем зи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тром в шко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нём домой.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В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Прочитайте загадку с разной интонац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с удивлением, восхищением, вес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рдито, вопросительно, утвердительно)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SNOWFLK4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7010280" y="160020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21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62120" y="533520"/>
            <a:ext cx="52200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25" descr="SNOWFLK4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8229600" y="6858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17" descr="SNOWFLK4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676520" y="541008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21" descr="SNOWFLK4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2895480" y="472428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4495680" y="518148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4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6172200" y="16002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5638680" y="27432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13" descr="13265336355581"/>
          <p:cNvPicPr/>
          <p:nvPr/>
        </p:nvPicPr>
        <p:blipFill>
          <a:blip r:embed="rId9"/>
          <a:stretch/>
        </p:blipFill>
        <p:spPr>
          <a:xfrm>
            <a:off x="5715000" y="32767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05520" y="8377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ёдор Иванович Тютче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03-18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tjutchev"/>
          <p:cNvPicPr/>
          <p:nvPr/>
        </p:nvPicPr>
        <p:blipFill>
          <a:blip r:embed="rId1"/>
          <a:stretch/>
        </p:blipFill>
        <p:spPr>
          <a:xfrm>
            <a:off x="152280" y="228600"/>
            <a:ext cx="5300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к № 67. С.Есенин «Поёт зима - аукает…»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чевая разминк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этом имени - слово «есен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ень, ясень, осенний цв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-то есть в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 русских пес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небесье, тихие вес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инь берё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синь – рас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-то есть в 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от весен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усти, ю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чистоты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 какой фамилии идёт речь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олько скажу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Сергей Есенин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сей России встают черты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. Бра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рочитайте с разной интонацией (с удивлением, восхищением, весело, сердито, вопросительно, утвердительно)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5" descr="SNOWFLK4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2971800" y="274320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7" descr="SNOWFLK4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086600" y="480060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17" descr="SNOWFLK4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4267080" y="3581280"/>
            <a:ext cx="782640" cy="86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21" descr="SNOWFLK4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1219320" y="6019920"/>
            <a:ext cx="522000" cy="57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21" descr="SNOWFLK4"/>
          <p:cNvPicPr/>
          <p:nvPr/>
        </p:nvPicPr>
        <p:blipFill>
          <a:blip r:embed="rId5">
            <a:lum bright="-100000"/>
          </a:blip>
          <a:stretch/>
        </p:blipFill>
        <p:spPr>
          <a:xfrm>
            <a:off x="4800600" y="1143000"/>
            <a:ext cx="522360" cy="5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Picture 25" descr="SNOWFLK4"/>
          <p:cNvPicPr/>
          <p:nvPr/>
        </p:nvPicPr>
        <p:blipFill>
          <a:blip r:embed="rId6">
            <a:lum bright="4000"/>
          </a:blip>
          <a:stretch/>
        </p:blipFill>
        <p:spPr>
          <a:xfrm>
            <a:off x="7391520" y="2209680"/>
            <a:ext cx="32688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7" name="Picture 25" descr="SNOWFLK4"/>
          <p:cNvPicPr/>
          <p:nvPr/>
        </p:nvPicPr>
        <p:blipFill>
          <a:blip r:embed="rId7">
            <a:lum bright="4000"/>
          </a:blip>
          <a:stretch/>
        </p:blipFill>
        <p:spPr>
          <a:xfrm>
            <a:off x="8153280" y="6858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25" descr="SNOWFLK4"/>
          <p:cNvPicPr/>
          <p:nvPr/>
        </p:nvPicPr>
        <p:blipFill>
          <a:blip r:embed="rId8">
            <a:lum bright="4000"/>
          </a:blip>
          <a:stretch/>
        </p:blipFill>
        <p:spPr>
          <a:xfrm>
            <a:off x="5867280" y="297180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Picture 25" descr="SNOWFLK4"/>
          <p:cNvPicPr/>
          <p:nvPr/>
        </p:nvPicPr>
        <p:blipFill>
          <a:blip r:embed="rId9">
            <a:lum bright="4000"/>
          </a:blip>
          <a:stretch/>
        </p:blipFill>
        <p:spPr>
          <a:xfrm>
            <a:off x="1066680" y="380880"/>
            <a:ext cx="327240" cy="3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8-02-01T15:51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