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6C2-D742-41F0-9BAE-8E13203A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5F8-466C-47F8-9854-2D46D643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B5064-357A-4AB6-9304-04C5DF3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A4BDE-D476-4BDA-A5E8-DB7797D8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03177-128A-4C6A-AB4E-F0DDE80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F0CC9-4F8F-48A5-8B83-5B737DE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FA1B6-02AB-406C-93FF-A5991B7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A47A3-F784-44FE-80D7-556412C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DA051-109E-4581-94EE-0AE31A2A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9367F-658A-4E5B-9434-81E5FDBE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44052-F0EE-4FD6-9AE2-25A6C083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55792-EC3A-42F6-B9DB-C0F648DE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C3C-8E18-4B83-9CF0-D42D787E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67B8D-33DA-49BA-9A6B-DDF7A977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C0DCE-86A8-4675-AD35-206280E5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FB8E0-2B64-46BD-9BCC-261F6040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4DEA3-1269-4E4F-BDEA-27A9E6C9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0D018-E9EA-404A-954D-898AA293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7E846-BAB8-476C-8DA1-042B00D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4FFEF-AB0F-418C-A936-743A966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01E9C-A513-463D-B5DA-DF086043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26785-BCE9-4696-BC8A-5783365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59BE9-155A-47C5-90AF-71CBAF12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237-F91F-467E-966B-4D6719AA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9983A-C786-47E5-BAC2-E7554C39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D7F7B-503B-4151-BB00-A1E25574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5C358-1BDE-4FDA-9DB6-87728847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F7DB1-5204-420F-A8CA-E7FCC98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660A9-7AE5-44B7-9437-9A8CBA08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F8D88-AFCA-4040-B061-84CD0632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08CE9-E3C2-4EEB-8E07-408DE73F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81E31-7BE6-4352-8742-06E499D7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EF44A-F59F-4938-975B-FD385C4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3DF00-9788-4431-AB5C-D1368618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7B8B-8DBA-4FD7-B6A5-9B6A4085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8CE21-E55F-4E11-BB27-3153F8CB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69FF1-5662-47D6-95D3-76870A4A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34894-073E-42F0-9066-0F27C0F6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2867A-E721-4B2C-A8D8-726AF398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F8C45-1C41-421D-B72F-C20B4DB4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25039-B0E1-442E-ABC2-CB4AD62C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CD9EA-1F42-48CA-827D-B7107167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9E1DF-AC9C-4133-85EE-82337B45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F73FF-1101-4D84-9A3C-16252E1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0A292-BDE9-41D3-9087-C317C618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BD80-4D65-4DF2-8E95-222F4FA4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40C9A-BF06-4CFF-83EA-D0EF460B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6D2F6-CA2E-4732-8974-EA6AED5C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F3BF4-CB75-44D7-BF53-95D6D7E3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6186C-E938-4401-8C28-6B2A183D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9344C-5329-42BE-8301-DC12E5C0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35DB-3BC6-4BDF-B99E-59E6C3BF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C3C0-865A-4F80-93F4-1646212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9DEC-AB13-4E6F-B9AB-A9B3A820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FF4A-0103-47CD-B5F1-4FCC1D18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F374-EDA9-4C22-AE9D-93DA80AC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292-BAE1-4540-AEA9-E7F34672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6D9B-56F2-45C5-B0FF-3F23177A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6137-BEC4-4439-8345-EFF0C15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FAAA-7704-4AD0-AF74-BE45DDF3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DE26-1CAF-4903-9409-39CF019A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700A-04AE-417E-B137-E0A716C0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5539-9FC3-4847-B914-731B3360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49C5-368E-4A1E-8670-F75393F9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D87E-FA84-4C91-96A0-BFF074B5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09E7-A60E-4811-9F2E-D035A595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C852-C90D-45A4-863A-4EF1CC4F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FFF-E4BE-461F-B22A-E74E9CF4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4224-76B1-4C10-B68C-D3FE2FBE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FC95-56E1-4238-A13F-1F8125DD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586D-111D-4C09-9FFF-D7A0422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9D16-2770-46DB-9900-284A962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6E40-1E8A-4F01-91A6-321C2884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AB3E-77EF-41E4-9868-4F55A221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E910-7829-4DB3-B359-F25C0B16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B751-9229-4726-B0DC-156F54A4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52CE-840B-4337-A1AE-F5BE435B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DD8B-7F87-43BD-A603-A56929A6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625-3A02-4D6D-997E-716EEAC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8FBE5-CDAF-4FD9-98E7-193F0493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8FDDD-C32D-4AEB-B725-C05554F3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E00F-AA68-4967-AE0F-EE2D9C2B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2B3B0-063D-47EE-A66F-30ED90CD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8AB2-1C90-4B17-BF5C-0DECD855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484F-2A3C-4818-B34F-EE7F977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3237B-FE04-44EB-8D75-E88650E4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4876-4F2C-4536-BEB9-A98B27C5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B0671-B619-4B94-970C-341F11DD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99D2A-881C-4DDD-B251-80AF2206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CAC-286B-41AD-B9CE-714BFB46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56C88-01A8-4D72-9BD0-02F8548F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3B801-5C7D-4E71-926A-FC712BD3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A6BE6-E714-41BD-B6A2-F5155578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6BAE-23ED-48DF-9D90-02930D55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C780E-661D-49BF-A0C3-B88A5983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C98B-B112-4365-A856-136D14D0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8BCC1-15E4-4372-99D5-589E077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D61A-6899-4CC4-94E2-6B00FFD1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008E-63DD-4D9D-AD94-CEDD5119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4C6C9-BD18-49A1-A261-D8D6BE9C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125-643B-490F-AB85-5824C8CA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1EE97-FB93-484C-961E-4A6C8F00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039C-F0C4-4616-A829-D672955C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C1C90-ADF6-469F-A7D1-4D9415B1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4510B-F1B0-46D1-9D8A-48AE479F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4536-9028-48EF-A27A-D57DADE8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A6F3C-0992-4BF1-818B-17EC62AA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AFE10-8E14-42D8-A1A4-1259B459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99FCF-AEF5-407A-ABEE-7A06C0C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F84E4-5588-4ABA-BB8B-7EBA01DF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BE65-B4D6-4144-B800-D69F4D5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999-4D62-46E4-90D2-CC951C6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5FB7-83A5-40D1-9743-C338D00E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EE8E7-30F4-4CBE-AC44-D7D0419F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3208-1BDB-4564-B829-DF979097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DC49D-1C5A-4072-9EF4-1195E27E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09B5E-3C72-4EB4-8F33-B257AC47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2F9F6-4E39-40C8-80A2-42E64A14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0AB96-A505-4EBD-8670-D8FD72B6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00BA0-7338-4ACC-9B7B-7039320D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1880A-A365-4510-A07F-E6915BBD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5B67-4198-4BC0-820E-D0BC88A5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617-7434-4DA5-9C52-3BDEEF0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30E4-C381-4408-8E11-F72B90BC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969A8-BFE2-4135-B83C-B35E26C7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878D-CA87-448C-812D-4D676F77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0833-673F-47B2-AB61-82DA53D2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EBD7C-CA68-411C-8110-7071F0E5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36E1-ECF2-4C25-BBE4-9C266D5A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96DAE-0AA0-4A84-A3E5-115001AC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4DD1D-E1BE-41AD-BCEC-A3096107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460DD-B471-4BA7-9C95-DF479E14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4F40B-BE0B-4EE2-8A45-5E91EBF8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B24-449E-4B16-B4B6-8FF5663A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5544D-B59A-4915-A3BE-E348A2F6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6636-EB4E-4D49-BC27-1E5CA91F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02E06-CD3B-45F6-B7AB-6FF3A919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AF55F-2CAB-4E88-B847-33FE2A1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6EFE1-76A3-4B66-A159-91BDF68D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33354-B3BD-4396-A37D-ADB6E0D4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A8DE-5601-4201-B5B1-1ED4368F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AE8E3-1CF8-4890-BE76-E8D8CD31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6380C-04C3-4E36-8F8F-015B8538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69BA4-BF9D-483E-9269-A9B230C4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2E8C-6EC8-40FE-A39C-7B328DD86C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167C-8D26-4433-A460-DDACC0D44C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D588-18C5-480E-A331-A8A2F8C645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49B8-3E0C-46C9-B235-978279E3BD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CE33-8EE0-43A1-8C83-28AB6DDCD5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D37C-9151-4A24-9FAB-733A5879A7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7C4F-61F3-4724-AD0E-A777A6952F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04A1-6CD8-43A3-AA55-B0597A443C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EE28-6C8D-45F6-80F9-5A3884E135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F6EA-6DFB-4EF1-AD54-D7421E4E9A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5141-0FC5-4E68-8992-9B0ADDF68D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EFAC-FB90-4DD3-951B-047143B9FF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МИДОВЫ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инатели горного д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сравнительно короткий срок отец и сын добились на Урале многого. Невьянский завод, за который они расплатились поставками железа и оружия по низким ценам, вскоре превратился в крупнейшее металлургическое предприятие и давал чугуна и железа иногда в 5-10 раз больше, чем все казенные заводы Урала вместе взятые. Более того, он вышел на первое место в России не только по количеству, но и по качеству выпускаемого металла. А потому в 1713 году правительство, разорвав контракты с другими заводчиками, дало большой заказ Никите Демидову на поставку артиллерийских снарядов, а в 1715 году ему же поручили ставить железо для морского ведом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716-1720 гг. были пущены Верхнетагильский чугуноплавильный, Шуралинский и Быньговский молотовые заводы. В 1720 году началось строительство Выйского доменного завода, где двумя годами позже был получен первый чугун из железной руды Высокогорского месторождения. В 1722 году был построен Нижнелайский молотовый завод, а в 1725 году вступил в строй Нижнетагильский чугуноплавильный и железоделательный завод с самой крупной в Европе доменной печью. Никита Демидов не дожил до пуска первой нижнетагильской домны 37 дней. Скончался он 17 ноября 1725 года в Туле и был похоронен в приходе Николо-Зарецкой церкви, как полагают, рядом с могилой от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инфий Никитич Деми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.-Г.Гроот. Портр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инфия Никитича Демидова. 1741-1745 гг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лст, масло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жнетагильский музей-заповед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414360" y="1268280"/>
            <a:ext cx="412416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ыкновенно точную характеристику дал Акинфию Демидову Д.Н.Мамин-Сибиряк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...главным носителем и осуществителем широких замыслов царя (Петра) являлся гениальный сын Никиты Демидова - Акинфий Никитич Демидов. Это был alter ego царя-работника, его недремлющее око. Было много общего в этих натурах: оба работали до кровавого пота и, кажется, не знали границ своим замысла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726 году близ озера Колывань он строит свой первый на Алтае медеплавильный завод, а несколько позже при впадении р. Барнаулки в Обь возводит Барнаульский сереброплавильный за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Акинфии Демидове в юго-западной части Алтайских гор было открыто свыше 30 рудных месторождений, в том числе и знаменитое Змеиногорское, из руд которого в 1743 году было получено первое российское серебро, а несколько позднее и золото. Так, благодаря Акинфию Демидову, начиная со второй половины XVIII века, Россия смогла себе позволить начать поставки золота за рубеж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свое состояние, оцененное в 2,8 миллиона рублей, что в ценах конца XIX века составило 25 миллионов, Акинфий завещал своему младшему сыну Никите. Завещание, однако, выполнено не было. После ходатайства остальных двух братьев о несправедливости раздела Императрица Елизавета I издала именной указ, повелев поделить имущество Акинфия, включая вотчины и заводы, между всеми братьями поровну. Это было сделано, хотя и заняло почти тринадцать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3860280"/>
            <a:ext cx="843588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19 лет интенсивной разработки из нижнетагильских россыпей было добыто и поставлено в казну 568 пудов золота. Количество же добытой платины превысило 1500 пудов, что позволило Демидовым, используя свои связи, добиться чеканки русской государственной платиновой монеты, которая производилась с 1828 по 1845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54000" y="981000"/>
            <a:ext cx="87757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кофий Акинфиевич Деми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.Г.Левицкий. Портр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кофия Акинфиевич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мидова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773 г. Холст, масло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тьяковская галере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73068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строительство и нужды Московского Воспитательного дома один только Прокофий Демидов пожертвовал 1 107 000 рублей серебром. На его средства при Воспитательном доме было создано родовспомогательное отделение, а в 1773 году открыто первое в России коммерческое училище для купеческих детей. 70 тысяч рублей Прокофий пожертвовал на основание дома для подкидышей в Петербурге и больницу, предназначенную для бедных рожениц. Общая сумма его пожертвований на благотворительные цели превысила 4 млн. руб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питательны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колокольней церкви Святой Софии здесь виден Воспитательный дом (одно из крупнейших московских зданий второй половины XVIII века; здание построено в 1764 – 1770 годах в стиле классицизма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 Октябрьской революции это был детский дом, приют для незаконнорожденных детей и детей бедняков, где они находились до 18 лет – жили и получали образование: мальчиков готовили к поступлению на медицинский факультет университета, а девочек выучивали на акушерок и гувернант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3749760" y="1370160"/>
            <a:ext cx="4762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аткая родословная рода Демидов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2651040" y="1600200"/>
            <a:ext cx="384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анный домик в Нескучном сад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скучный двор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592200" y="2246400"/>
            <a:ext cx="3771720" cy="3809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2"/>
          <a:stretch/>
        </p:blipFill>
        <p:spPr>
          <a:xfrm>
            <a:off x="4645080" y="2276640"/>
            <a:ext cx="404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игорий Акинфиевич Деми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ной брат Прокофия - Григорий Акинфиевич Демидов, хотя и продолжил дело отца, построив и реконструировав несколько заводов, больше известен как создатель первого в России научного ботанического сада под Соликамском и как корреспондент выдающегося шведского ученого Карла Линне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668160" y="1309680"/>
            <a:ext cx="36165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ита Акинфиевич Деми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.Токке. Портр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киты Акинфиевича Демид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756-1758 гг. Холст, масло. Русский муз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754200" y="1197000"/>
            <a:ext cx="34448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ладший из братьев, Никита Акинфиевич Демидов, оказался достойным сыном своего отца. С юности он проявлял интерес к семейному делу и ко времени смерти Акинфия (Никите в то время было 19 лет) уже обладал деловой хваткой и необходимыми знаниями в области горного дела и металлургии. Полученные по наследству заводы Никита Акинфиевич не только не растерял, но и приумножил. К шести доставшимся ему по разделу нижнетагильским заводам он прибавил еще три - Нижне- и Верхнесалдинские и Висимо-Уткинский, которые в совокупности давали чугуна и железа много больше, чем все заводы его отца вместе взяты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ие суммы тратил Н.А.Демидов на обучение молодых дарований. Немало крепостных художников по его указанию было направлено из Нижнего Тагила на учебу в Петербург в Академию художеств и даже за границу. В Академии же художеств он учредил медаль «За успехи в механике» для поощрения развития технического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олай Никитич Деми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12920" y="5950080"/>
            <a:ext cx="774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.Морелли. Портре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иколая Никитича Демидов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1840 г. Холст, масло. Нижнетагильский музей-заповедни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3248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ледником гигантского состояния Никиты Акинфиевича стал его сын Николай, у которого благотворительность и меценатство были уже, что называется, в кров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емясь найти более широкий сбыт железа, Николай Демидов завязывает торговые отношения с Англией и для этой цели приобретает в Италии корабль. В Таганроге же он строит собственную флотилию из пяти судов для плавания по Черному и Средиземному морям и неоднократно использует ее для оказания услуг правительству по перевозке казенных грузов между приморскими крепостя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Нижнем Тагиле он строит школу, больницу, приют, преобразует горнозаводскую школу в Выйское училище, где готовятся высококвалифицированные кадры для заводов, а в 1806 году создает художественную шко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свои средства Николай Демидов строит четыре чугунных моста в Петербург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скве он дарит свой «Слободской дворец»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100 тысяч рублей для устройства в нем дома трудолюбия, а несколько раньше преподносит в дар правительству каменный дом в Гатчине, чтобы разместить в нем благотворительный прию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асный мост в Санкт-Петербург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390600" y="1125360"/>
            <a:ext cx="83628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вел Павлович Деми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292360" y="1201680"/>
            <a:ext cx="361476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вел Павлович Демидов. Гравю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книги «Демидовы. Родословная роспис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катеринбург, 1992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468360" y="1244520"/>
            <a:ext cx="401616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менем Павла Павловича Демидова связано создание на Урале первого в России цеха по выпуску бессемеровской стали. В 1880 году Павел Павлович продает на аукционе виллу Сан-Донато вместе во всем ее содержимым, подарив русской православной церкви во Флоренции богатую церковную утварь, иконы, деревянные панели и великолепные резные двери работы знаменитых братьев Барбетти из домовой церкви Демидов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нимаясь хозяйственными делами, Павел Николаевич не забывал о семейной традиции благотворительности. Многочисленные пожертвования на разные нужды делались им на протяжении всей его жизни; он считал своей обязанностью «быть по возможности полезным человечеству сколь в своем отечестве, а также и в других местах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1829 году он жертвует 500 тысяч рублей на помощь вдовам и сиротам офицеров и солдат, погибших в ходе русско-турецкой войны 1828-1829 г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 октября 1830 года Павел Демидов обратился к Николаю I с просьбой принять пожертвование для учреждения в Императорской академии наук престижных Демидовских премий, призванных содействовать «преуспеянию наук, словесности и промышленности в своем Отечестве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череде славных 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оду Демидовых было много ученых, политиков, государственных деятелей и писателей, меценатов и коллекционеров, но совсем мало – металлургов. К началу XX века большинство старых демидовских заводов, а всего их было около пятидесяти, либо продали, либо заложили. От предпринимательства династия перешла к общественно-политической деятельности. Получился некий российский аналог Рокфеллеров и Ротшильдов, о которых сейчас сложно сказать, чем же они занимаются. Потомки Никиты Демидова разъехались по всему свету, породнились с королевскими фамилиями, вошли в элитарные круги. Большая часть династии постоянно или почти постоянно проживала за пределами Российской империи – в Италии, во Франции, в Германии. Там же находились и их деньги. Поэтому революционные события 1917 года многие из Демидовых пережили спокойно. От возвращения на родину они отказали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5614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ерб Демидовых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79280" y="1542960"/>
            <a:ext cx="6756480" cy="53150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75280" y="1557000"/>
            <a:ext cx="2268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гербе Демидовых изображены старинный шлем и щит, в верхней части которого на серебряном поле расположены три зеленые рудоискательные лозы, а в нижней – серебряный молот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ита Деми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15880" y="1197000"/>
            <a:ext cx="3921120" cy="533232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известный художник XVIII в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трет Ники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мидович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юфеева(Деми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Холст, мас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тория рода Демидовых уходит корнями в петровскую эпоху и ведет свое начало от тульского кузнеца Демида Григорьева сына Антюфеева. Сын его, Никита Демидович, оружейных дел мастер, человек яркой и необыкновенной судьбы, лично известный Петру I, в 1720 году получив за заслуги перед Отечеством дворянство с фамилией Демидов, стал родоначальником знаменитой династии уральских горнозаводчиков Демидовых и дал жизнь мощному родословному древу, ветви которого растут и умножаются в течение вот уже трех столет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695 году Никита Демидович пускает свой первый металлургический завод в Туле, а в 1702 году, получив во владение казенный Невьянский завод, перебирается на Урал, где приступает к закладке новых заводов. Интересы страны, прежде всего военные, требовали металла и снаряжения гораздо больше, чем давали действующие казенные заводы, и требовали немедленно. Еще в 1701 году Петр I писал посланному на Урал думному дьяку Андрею Виниусу: «Ради бога, поспешайте с артиллериею, как возможно: время яко смерть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правительственных привилегий развернуть железное дело на Урале было невозможно. И Никита Демидов их получает. Так, ему разрешалось «владеть лесами, землями и угодьями … во все стороны от Невьянского завода ... по тридцать верст», а также несколькими слободами в Верхнетурском уезде с селами и деревнями, в которых насчитывалось около трехсот крестьянских дворов и более тысячи душ мужского по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 Невьянского зав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500040" y="1197000"/>
            <a:ext cx="81439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5:29:49Z</dcterms:created>
  <dc:creator>s0rInb</dc:creator>
  <dc:description/>
  <dc:language>en-US</dc:language>
  <cp:lastModifiedBy>s0rInb</cp:lastModifiedBy>
  <dcterms:modified xsi:type="dcterms:W3CDTF">2013-02-13T06:57:14Z</dcterms:modified>
  <cp:revision>7</cp:revision>
  <dc:subject/>
  <dc:title>Слайд 1</dc:title>
</cp:coreProperties>
</file>