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964-29EA-410F-AB5B-B93DB6A2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A13-BB1A-4CD5-BD45-56958513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174-F1FF-4F74-A960-E74FC095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09E-D36B-4E99-B68C-4FEC401F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E737-9F57-4E79-9D7D-400B4B5F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3C98-D270-4967-8F5A-DFD650AE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5552-98DD-48E4-B0AE-10EED01C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6216-2243-46DB-8D9E-12584BD8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E8C7-D267-4461-A3C7-87583C0C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49F1-28BA-4EE9-A555-3BB10625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7D89-B937-4FB1-995A-9658C75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1F4-CEE7-4AE8-B2E6-A91F9112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C719-CEBD-4B2F-81D6-D8D414F0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FBF2-C736-4DB9-993A-5B43B483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CA02-7B34-44DA-8B23-06CD5604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AC82-7416-412F-883D-F7C3E9F8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B609-7905-4DE3-A224-2EC2ECD0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D6F-7693-4526-A0CE-A857B69E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E3D4-1B23-470F-8189-7297559B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826-80C0-4375-874C-663C8A42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3EF-49F9-4A26-949F-52CF0ADC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D3E-705E-4FD5-88C6-3867594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D46-2FA2-4ED4-A4AD-7BFC16C2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15A-4BFF-4D8D-9D78-C15213E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8F6A-CF36-4E26-8EEF-633B683A9FDC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C519-D334-4DE8-A9D3-692481DF3868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Формы взаимодействия учителя-логопеда и семьи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по речевому развитию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771280" y="5157360"/>
            <a:ext cx="59374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entury Gothic"/>
              </a:rPr>
              <a:t>                 </a:t>
            </a:r>
            <a:r>
              <a:rPr b="1" lang="ru-RU" sz="1800" spc="-1" strike="noStrike">
                <a:solidFill>
                  <a:srgbClr val="808080"/>
                </a:solidFill>
                <a:latin typeface="Century Gothic"/>
              </a:rPr>
              <a:t>Захарова Оксана Юрьевна</a:t>
            </a: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entury Gothic"/>
              </a:rPr>
              <a:t>           </a:t>
            </a:r>
            <a:r>
              <a:rPr b="1" lang="ru-RU" sz="1800" spc="-1" strike="noStrike">
                <a:solidFill>
                  <a:srgbClr val="808080"/>
                </a:solidFill>
                <a:latin typeface="Century Gothic"/>
              </a:rPr>
              <a:t>учитель-логопед МАДОУ  ЦРР д/с № 111</a:t>
            </a: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entury Gothic"/>
              </a:rPr>
              <a:t>       </a:t>
            </a:r>
            <a:r>
              <a:rPr b="1" lang="ru-RU" sz="1800" spc="-1" strike="noStrike">
                <a:solidFill>
                  <a:srgbClr val="808080"/>
                </a:solidFill>
                <a:latin typeface="Century Gothic"/>
              </a:rPr>
              <a:t>г. Калининград</a:t>
            </a: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442760" y="446400"/>
            <a:ext cx="3693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3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cc"/>
                </a:solidFill>
                <a:latin typeface="Century Gothic"/>
                <a:ea typeface="Calibri"/>
              </a:rPr>
              <a:t>«Язык – и стар, и вечно нов!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3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cc"/>
                </a:solidFill>
                <a:latin typeface="Century Gothic"/>
                <a:ea typeface="Calibri"/>
              </a:rPr>
              <a:t> </a:t>
            </a:r>
            <a:r>
              <a:rPr b="0" i="1" lang="ru-RU" sz="1400" spc="-1" strike="noStrike">
                <a:solidFill>
                  <a:srgbClr val="3333cc"/>
                </a:solidFill>
                <a:latin typeface="Century Gothic"/>
                <a:ea typeface="Calibri"/>
              </a:rPr>
              <a:t>И это так прекрасно –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3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cc"/>
                </a:solidFill>
                <a:latin typeface="Century Gothic"/>
                <a:ea typeface="Calibri"/>
              </a:rPr>
              <a:t>В огромном море – море слов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3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cc"/>
                </a:solidFill>
                <a:latin typeface="Century Gothic"/>
                <a:ea typeface="Calibri"/>
              </a:rPr>
              <a:t>Купаться ежечасно!»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3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cc"/>
                </a:solidFill>
                <a:latin typeface="Century Gothic"/>
                <a:ea typeface="Calibri"/>
              </a:rPr>
              <a:t>                                                       </a:t>
            </a:r>
            <a:r>
              <a:rPr b="0" i="1" lang="ru-RU" sz="1400" spc="-1" strike="noStrike">
                <a:solidFill>
                  <a:srgbClr val="3333cc"/>
                </a:solidFill>
                <a:latin typeface="Century Gothic"/>
                <a:ea typeface="Calibri"/>
              </a:rPr>
              <a:t>(А. Шибаев)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2" descr="C:\Documents and Settings\Татьяна\Мои документы\Мои рисунки\p_05.gif"/>
          <p:cNvPicPr/>
          <p:nvPr/>
        </p:nvPicPr>
        <p:blipFill>
          <a:blip r:embed="rId1"/>
          <a:stretch/>
        </p:blipFill>
        <p:spPr>
          <a:xfrm>
            <a:off x="901800" y="401760"/>
            <a:ext cx="201276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entury Gothic"/>
              </a:rPr>
              <a:t>«Педагогическая гостиная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Century Gothic"/>
              </a:rPr>
              <a:t>для родителей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Century Gothic"/>
              </a:rPr>
              <a:t>детей старшего дошкольного возраста»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042920" y="2349000"/>
            <a:ext cx="73454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внедрение и распространение педагогических знаний о воспитании и речевом развитии детей старшего дошкольного возраста среди родителей через организацию современных видов работы с родителями воспитанников.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1. Реконструктировать, оптимизировать детско-родительские отношения.</a:t>
            </a: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2. Оказать консультативно-методическую помощь родителям в речевом развитии и воспитании детей.</a:t>
            </a: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3. Побуждать к осознанной деятельности по общему и речевому развитию ребенка в семье.</a:t>
            </a: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4. Повысить логопедическую культуру родителей.</a:t>
            </a: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5. Приобщать родителей к участию в жизни детского сада, через поиск и внедрение наиболее современных и эффективных форм работы.</a:t>
            </a: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/>
          <p:cNvSpPr/>
          <p:nvPr/>
        </p:nvSpPr>
        <p:spPr>
          <a:xfrm>
            <a:off x="5076720" y="476280"/>
            <a:ext cx="3527640" cy="1441440"/>
          </a:xfrm>
          <a:prstGeom prst="flowChartMultidocument">
            <a:avLst/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гровая олимпиада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для родителей и дете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«В гостях у сказки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1" name="Picture 5" descr="Изображение 023"/>
          <p:cNvPicPr/>
          <p:nvPr/>
        </p:nvPicPr>
        <p:blipFill>
          <a:blip r:embed="rId1"/>
          <a:stretch/>
        </p:blipFill>
        <p:spPr>
          <a:xfrm>
            <a:off x="2987640" y="2308320"/>
            <a:ext cx="3527640" cy="2550960"/>
          </a:xfrm>
          <a:prstGeom prst="rect">
            <a:avLst/>
          </a:prstGeom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</p:pic>
      <p:pic>
        <p:nvPicPr>
          <p:cNvPr id="192" name="Picture 6" descr="Изображение 026"/>
          <p:cNvPicPr/>
          <p:nvPr/>
        </p:nvPicPr>
        <p:blipFill>
          <a:blip r:embed="rId2"/>
          <a:stretch/>
        </p:blipFill>
        <p:spPr>
          <a:xfrm>
            <a:off x="6240600" y="4076640"/>
            <a:ext cx="2158920" cy="2154240"/>
          </a:xfrm>
          <a:prstGeom prst="rect">
            <a:avLst/>
          </a:prstGeom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</p:pic>
      <p:pic>
        <p:nvPicPr>
          <p:cNvPr id="193" name="Picture 8" descr="Изображение 034"/>
          <p:cNvPicPr/>
          <p:nvPr/>
        </p:nvPicPr>
        <p:blipFill>
          <a:blip r:embed="rId3"/>
          <a:stretch/>
        </p:blipFill>
        <p:spPr>
          <a:xfrm>
            <a:off x="1116000" y="765000"/>
            <a:ext cx="2138400" cy="1917720"/>
          </a:xfrm>
          <a:prstGeom prst="rect">
            <a:avLst/>
          </a:prstGeom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</p:pic>
      <p:pic>
        <p:nvPicPr>
          <p:cNvPr id="194" name="Picture 24" descr="AG00326_"/>
          <p:cNvPicPr/>
          <p:nvPr/>
        </p:nvPicPr>
        <p:blipFill>
          <a:blip r:embed="rId4"/>
          <a:stretch/>
        </p:blipFill>
        <p:spPr>
          <a:xfrm>
            <a:off x="6875640" y="2060640"/>
            <a:ext cx="1523880" cy="10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/>
          <p:cNvSpPr/>
          <p:nvPr/>
        </p:nvSpPr>
        <p:spPr>
          <a:xfrm>
            <a:off x="5076720" y="476280"/>
            <a:ext cx="3456000" cy="1584360"/>
          </a:xfrm>
          <a:prstGeom prst="flowChartMultidocument">
            <a:avLst/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5400000"/>
          </a:gra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еминар-практику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«Весёлый язычок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310280" cy="3267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2"/>
          <a:stretch/>
        </p:blipFill>
        <p:spPr>
          <a:xfrm>
            <a:off x="2124000" y="3238560"/>
            <a:ext cx="4376880" cy="3481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3408480" cy="29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То ловишь отзвук древнего напева,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То говор поздних дней,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И слово состоит, подобно древу,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Из веток и корней.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Незыблема его первооснова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На много тысяч лет.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Выходит так, что у любого слова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Есть запах, вкус и цвет.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Слова и фразы нижутся, как звенья,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И так растёт  строка.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И можно различить сердцебиенье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Живого языка.</a:t>
            </a:r>
            <a:br>
              <a:rPr sz="2000"/>
            </a:br>
            <a:r>
              <a:rPr b="1" i="1" lang="ru-RU" sz="2000" spc="-1" strike="noStrike">
                <a:solidFill>
                  <a:srgbClr val="808080"/>
                </a:solidFill>
                <a:latin typeface="Century Gothic"/>
              </a:rPr>
              <a:t>                                                                    М. Матусовский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Татьяна\Мои документы\Мои рисунки\2631_newimg69873.jpg"/>
          <p:cNvPicPr/>
          <p:nvPr/>
        </p:nvPicPr>
        <p:blipFill>
          <a:blip r:embed="rId1"/>
          <a:stretch/>
        </p:blipFill>
        <p:spPr>
          <a:xfrm>
            <a:off x="3635280" y="2637000"/>
            <a:ext cx="1828800" cy="2209680"/>
          </a:xfrm>
          <a:prstGeom prst="rect">
            <a:avLst/>
          </a:prstGeom>
          <a:ln w="0">
            <a:noFill/>
          </a:ln>
        </p:spPr>
      </p:pic>
      <p:sp>
        <p:nvSpPr>
          <p:cNvPr id="137" name="7-конечная звезда 2"/>
          <p:cNvSpPr/>
          <p:nvPr/>
        </p:nvSpPr>
        <p:spPr>
          <a:xfrm>
            <a:off x="1258920" y="907920"/>
            <a:ext cx="2160720" cy="1729080"/>
          </a:xfrm>
          <a:prstGeom prst="pie">
            <a:avLst/>
          </a:prstGeom>
          <a:solidFill>
            <a:srgbClr val="cc3399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логопед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7-конечная звезда 6"/>
          <p:cNvSpPr/>
          <p:nvPr/>
        </p:nvSpPr>
        <p:spPr>
          <a:xfrm>
            <a:off x="5867280" y="907920"/>
            <a:ext cx="1873440" cy="1779840"/>
          </a:xfrm>
          <a:prstGeom prst="pie">
            <a:avLst/>
          </a:prstGeom>
          <a:solidFill>
            <a:srgbClr val="ff6600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7-конечная звезда 7"/>
          <p:cNvSpPr/>
          <p:nvPr/>
        </p:nvSpPr>
        <p:spPr>
          <a:xfrm>
            <a:off x="826920" y="4365720"/>
            <a:ext cx="2160720" cy="1873080"/>
          </a:xfrm>
          <a:prstGeom prst="pie">
            <a:avLst/>
          </a:prstGeom>
          <a:solidFill>
            <a:srgbClr val="ff99cc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ДО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Двойная стрелка вверх/вниз 11"/>
          <p:cNvSpPr/>
          <p:nvPr/>
        </p:nvSpPr>
        <p:spPr>
          <a:xfrm>
            <a:off x="1979640" y="2924280"/>
            <a:ext cx="484200" cy="1216080"/>
          </a:xfrm>
          <a:prstGeom prst="upDown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Двойная стрелка влево/вправо 12"/>
          <p:cNvSpPr/>
          <p:nvPr/>
        </p:nvSpPr>
        <p:spPr>
          <a:xfrm>
            <a:off x="3851280" y="1700280"/>
            <a:ext cx="1217520" cy="485640"/>
          </a:xfrm>
          <a:prstGeom prst="leftRightArrow">
            <a:avLst>
              <a:gd name="adj1" fmla="val 50000"/>
              <a:gd name="adj2" fmla="val 50013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Двойная стрелка влево/вправо 13"/>
          <p:cNvSpPr/>
          <p:nvPr/>
        </p:nvSpPr>
        <p:spPr>
          <a:xfrm>
            <a:off x="3924360" y="5373720"/>
            <a:ext cx="1216080" cy="48564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Двойная стрелка вверх/вниз 14"/>
          <p:cNvSpPr/>
          <p:nvPr/>
        </p:nvSpPr>
        <p:spPr>
          <a:xfrm>
            <a:off x="6443640" y="2924280"/>
            <a:ext cx="484200" cy="1217520"/>
          </a:xfrm>
          <a:prstGeom prst="upDownArrow">
            <a:avLst>
              <a:gd name="adj1" fmla="val 50000"/>
              <a:gd name="adj2" fmla="val 49999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Двойная стрелка влево/вправо 15"/>
          <p:cNvSpPr/>
          <p:nvPr/>
        </p:nvSpPr>
        <p:spPr>
          <a:xfrm rot="19219800">
            <a:off x="5429160" y="2180880"/>
            <a:ext cx="779400" cy="485640"/>
          </a:xfrm>
          <a:prstGeom prst="leftRightArrow">
            <a:avLst>
              <a:gd name="adj1" fmla="val 50000"/>
              <a:gd name="adj2" fmla="val 4984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Двойная стрелка влево/вправо 16"/>
          <p:cNvSpPr/>
          <p:nvPr/>
        </p:nvSpPr>
        <p:spPr>
          <a:xfrm rot="19777800">
            <a:off x="2768760" y="4816440"/>
            <a:ext cx="779400" cy="485640"/>
          </a:xfrm>
          <a:prstGeom prst="leftRightArrow">
            <a:avLst>
              <a:gd name="adj1" fmla="val 50000"/>
              <a:gd name="adj2" fmla="val 50011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Двойная стрелка вверх/вниз 17"/>
          <p:cNvSpPr/>
          <p:nvPr/>
        </p:nvSpPr>
        <p:spPr>
          <a:xfrm rot="18540600">
            <a:off x="3063960" y="2028600"/>
            <a:ext cx="484200" cy="795240"/>
          </a:xfrm>
          <a:prstGeom prst="upDownArrow">
            <a:avLst>
              <a:gd name="adj1" fmla="val 50000"/>
              <a:gd name="adj2" fmla="val 57505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Двойная стрелка вверх/вниз 18"/>
          <p:cNvSpPr/>
          <p:nvPr/>
        </p:nvSpPr>
        <p:spPr>
          <a:xfrm rot="18610800">
            <a:off x="5585400" y="4551480"/>
            <a:ext cx="485640" cy="804960"/>
          </a:xfrm>
          <a:prstGeom prst="upDownArrow">
            <a:avLst>
              <a:gd name="adj1" fmla="val 50000"/>
              <a:gd name="adj2" fmla="val 58036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539640" y="333360"/>
            <a:ext cx="5616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 взаимодействия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ррекционно-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7-конечная звезда 6"/>
          <p:cNvSpPr/>
          <p:nvPr/>
        </p:nvSpPr>
        <p:spPr>
          <a:xfrm>
            <a:off x="5940360" y="4292640"/>
            <a:ext cx="2305080" cy="1995480"/>
          </a:xfrm>
          <a:prstGeom prst="pie">
            <a:avLst/>
          </a:prstGeom>
          <a:solidFill>
            <a:srgbClr val="ffcc00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ий персона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активность + осознанность + самостоятельность + компетенция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Правило взаимодействия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с</a:t>
            </a: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родителями</a:t>
            </a: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: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МЫ ГОТОВЫ </a:t>
            </a:r>
            <a:r>
              <a:rPr b="1" lang="ru-RU" sz="3200" spc="-1" strike="noStrike">
                <a:solidFill>
                  <a:srgbClr val="808080"/>
                </a:solidFill>
                <a:latin typeface="Century Gothic"/>
              </a:rPr>
              <a:t>РАБОТАТЬ</a:t>
            </a: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 ВМЕСТЕ С ВАМИ, НО НЕ ВМЕСТО ВАС!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2" name="Стрелка вниз 4"/>
          <p:cNvSpPr/>
          <p:nvPr/>
        </p:nvSpPr>
        <p:spPr>
          <a:xfrm>
            <a:off x="3924360" y="3789360"/>
            <a:ext cx="1584360" cy="158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424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  <a:ea typeface="Arial"/>
              </a:rPr>
              <a:t>Приказ Министерства образования и науки Российской Федерации (Минобрнауки России) от 17 октября 2013 г. N 1155 "Об утверждении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  <a:ea typeface="Arial"/>
              </a:rPr>
              <a:t>федерального государственного образовательного стандарта дошкольного образования»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5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80"/>
                </a:solidFill>
                <a:latin typeface="Century Gothic"/>
              </a:rPr>
              <a:t>Главными критериями нового стандарта дошкольного образования названы социализация и индивидуальное развитие  детей, а не подготовка к школе.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Ребёнок по новому стандарту развивается в пяти областях: познавательное развитие, речевое развитие, художественно-эстетическое, социально-коммуникативное развитие, физическое развитие.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Отдельно в стандарте прописано уважение педагогов к их воспитанникам и то, что образовательный процесс должен учитывать интересы и возможности каждого ребёнка; прописана защита детей от всех форм физического и психического насилия.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ФГОС ДО </a:t>
            </a:r>
            <a:r>
              <a:rPr b="1" i="1" lang="ru-RU" sz="1600" spc="-1" strike="noStrike">
                <a:solidFill>
                  <a:srgbClr val="808080"/>
                </a:solidFill>
                <a:latin typeface="Century Gothic"/>
              </a:rPr>
              <a:t>учитывает интересы детей с ограниченными возможностями здоровья</a:t>
            </a: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. Для них создаются адаптированные образовательные программы.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Ребёнок должен овладеть умением жить в мире с самим собой, получить в игре навыки индивидуальной работы и группового взаимодействия, </a:t>
            </a:r>
            <a:r>
              <a:rPr b="1" i="1" lang="ru-RU" sz="1800" spc="-1" strike="noStrike">
                <a:solidFill>
                  <a:srgbClr val="808080"/>
                </a:solidFill>
                <a:latin typeface="Century Gothic"/>
              </a:rPr>
              <a:t>научиться учиться</a:t>
            </a: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спользование различных содержательных и структурных вариантов взаимодействия учителя-логопеда и семьи как способа повышения качества коррекционно-образовательной деятельности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Разработать и внедрить в практику работы модель взаимодействия учителя-логопеда и родителей детей с речевой патологией в коррекционно-образовательном процессе.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истематизировать практический материал по работе с семьей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56" name="Picture 4" descr="j0432665"/>
          <p:cNvPicPr/>
          <p:nvPr/>
        </p:nvPicPr>
        <p:blipFill>
          <a:blip r:embed="rId1"/>
          <a:stretch/>
        </p:blipFill>
        <p:spPr>
          <a:xfrm>
            <a:off x="6300720" y="450864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НОВНЫЕ НАПРАВЛЕНИЯ И ФОРМЫ ВЗАИМОДЕЙСТВИЯ С СЕМЬЕЙ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900000" y="1484280"/>
            <a:ext cx="4176720" cy="1152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 аналитический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050920" y="3284640"/>
            <a:ext cx="4176720" cy="115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99cc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онно-педагогического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вещени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987640" y="4941720"/>
            <a:ext cx="5113440" cy="1152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лечения родителе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ррекционно-образовательный процесс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1" name="Picture 8" descr="b119"/>
          <p:cNvPicPr/>
          <p:nvPr/>
        </p:nvPicPr>
        <p:blipFill>
          <a:blip r:embed="rId1"/>
          <a:stretch/>
        </p:blipFill>
        <p:spPr>
          <a:xfrm>
            <a:off x="6012000" y="1413000"/>
            <a:ext cx="246060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Информационно-аналитический блок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755640" y="1413000"/>
            <a:ext cx="432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99cc00"/>
              </a:gs>
              <a:gs pos="100000">
                <a:srgbClr val="ffffcc"/>
              </a:gs>
            </a:gsLst>
            <a:lin ang="5400000"/>
          </a:gradFill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ирование и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кетирование родителе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«Эффективность работы по речевому развитию»,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«Речевые проблемы – они есть или их нет?» и др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826920" y="3860640"/>
            <a:ext cx="3600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00ffff"/>
              </a:gs>
              <a:gs pos="100000">
                <a:srgbClr val="ffffcc"/>
              </a:gs>
            </a:gsLst>
            <a:lin ang="5400000"/>
          </a:gradFill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 анамнестических данных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292720" y="2997360"/>
            <a:ext cx="2952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cc99ff"/>
              </a:gs>
              <a:gs pos="100000">
                <a:srgbClr val="ffffcc"/>
              </a:gs>
            </a:gsLst>
            <a:lin ang="5400000"/>
          </a:gradFill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е бесед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900000" y="5229360"/>
            <a:ext cx="2952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ff0000"/>
              </a:gs>
              <a:gs pos="100000">
                <a:srgbClr val="ffffcc"/>
              </a:gs>
            </a:gsLst>
            <a:lin ang="5400000"/>
          </a:gradFill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и открытых двере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4716360" y="4149720"/>
            <a:ext cx="381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ff9900"/>
              </a:gs>
              <a:gs pos="100000">
                <a:srgbClr val="ffffcc"/>
              </a:gs>
            </a:gsLst>
            <a:lin ang="5400000"/>
          </a:gradFill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ные проспект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нь за днём»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полнительные услуги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яемые ДОУ» и др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8" name="Picture 8" descr="AMORGANI"/>
          <p:cNvPicPr/>
          <p:nvPr/>
        </p:nvPicPr>
        <p:blipFill>
          <a:blip r:embed="rId1"/>
          <a:stretch/>
        </p:blipFill>
        <p:spPr>
          <a:xfrm>
            <a:off x="6804000" y="765000"/>
            <a:ext cx="137952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Блок коррекционно-педагогического просвещения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0" name="Oval 6"/>
          <p:cNvSpPr/>
          <p:nvPr/>
        </p:nvSpPr>
        <p:spPr>
          <a:xfrm>
            <a:off x="971640" y="1916280"/>
            <a:ext cx="237636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упления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одительских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раниях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724360" y="1916280"/>
            <a:ext cx="237672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3399"/>
              </a:gs>
            </a:gsLst>
            <a:lin ang="5400000"/>
          </a:gra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ые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опедические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3348000" y="2708280"/>
            <a:ext cx="237636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54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е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д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900000" y="3500280"/>
            <a:ext cx="2448000" cy="107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ки-передвижки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леты, шпаргалк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724360" y="3357720"/>
            <a:ext cx="2592720" cy="13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5400000"/>
          </a:gra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рнал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 дороге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ану Речи»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3348000" y="4076640"/>
            <a:ext cx="2521080" cy="13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5400000"/>
          </a:gra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чка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 помощь родителям!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айте ДО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971640" y="4869000"/>
            <a:ext cx="237636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5400000"/>
          </a:gra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-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виж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5940360" y="5013360"/>
            <a:ext cx="237672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3348000" y="1484280"/>
            <a:ext cx="2376360" cy="10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опедические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иминутк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Блок привлечения родителей </a:t>
            </a:r>
            <a:br>
              <a:rPr sz="2800"/>
            </a:b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в коррекционно-образовательный процесс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24000" y="1484280"/>
            <a:ext cx="3095640" cy="2519280"/>
          </a:xfrm>
          <a:custGeom>
            <a:avLst/>
            <a:gdLst>
              <a:gd name="textAreaLeft" fmla="*/ 706680 w 3095640"/>
              <a:gd name="textAreaRight" fmla="*/ 2388960 w 3095640"/>
              <a:gd name="textAreaTop" fmla="*/ 574920 h 2519280"/>
              <a:gd name="textAreaBottom" fmla="*/ 19443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-занятие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ебенком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пеньки к успеху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276720" y="4554360"/>
            <a:ext cx="2735280" cy="2303640"/>
          </a:xfrm>
          <a:custGeom>
            <a:avLst/>
            <a:gdLst>
              <a:gd name="textAreaLeft" fmla="*/ 624240 w 2735280"/>
              <a:gd name="textAreaRight" fmla="*/ 2111040 w 2735280"/>
              <a:gd name="textAreaTop" fmla="*/ 525960 h 2303640"/>
              <a:gd name="textAreaBottom" fmla="*/ 17776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ческая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тиная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5364000" y="1197000"/>
            <a:ext cx="3457800" cy="2736720"/>
          </a:xfrm>
          <a:custGeom>
            <a:avLst/>
            <a:gdLst>
              <a:gd name="textAreaLeft" fmla="*/ 789120 w 3457800"/>
              <a:gd name="textAreaRight" fmla="*/ 2668680 w 3457800"/>
              <a:gd name="textAreaTop" fmla="*/ 624600 h 2736720"/>
              <a:gd name="textAreaBottom" fmla="*/ 21121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сессии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репортаж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мные пальчики»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»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468360" y="4149720"/>
            <a:ext cx="3024000" cy="230364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525960 h 2303640"/>
              <a:gd name="textAreaBottom" fmla="*/ 17776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нары-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ум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сёлый язычок»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коро в школу!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5830920" y="3860640"/>
            <a:ext cx="3313080" cy="2592720"/>
          </a:xfrm>
          <a:custGeom>
            <a:avLst/>
            <a:gdLst>
              <a:gd name="textAreaLeft" fmla="*/ 756360 w 3313080"/>
              <a:gd name="textAreaRight" fmla="*/ 2556720 w 3313080"/>
              <a:gd name="textAreaTop" fmla="*/ 591840 h 2592720"/>
              <a:gd name="textAreaBottom" fmla="*/ 200088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авки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х работ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енных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родителям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3203640" y="1413000"/>
            <a:ext cx="2376360" cy="2016000"/>
          </a:xfrm>
          <a:custGeom>
            <a:avLst/>
            <a:gdLst>
              <a:gd name="textAreaLeft" fmla="*/ 542520 w 2376360"/>
              <a:gd name="textAreaRight" fmla="*/ 1833840 w 237636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а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рия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чу задать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!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3132000" y="3068640"/>
            <a:ext cx="2735280" cy="2087640"/>
          </a:xfrm>
          <a:custGeom>
            <a:avLst/>
            <a:gdLst>
              <a:gd name="textAreaLeft" fmla="*/ 624240 w 2735280"/>
              <a:gd name="textAreaRight" fmla="*/ 2111040 w 273528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а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дь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лаем дома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0" y="2637000"/>
            <a:ext cx="2735280" cy="2303280"/>
          </a:xfrm>
          <a:custGeom>
            <a:avLst/>
            <a:gdLst>
              <a:gd name="textAreaLeft" fmla="*/ 624240 w 2735280"/>
              <a:gd name="textAreaRight" fmla="*/ 2111040 w 2735280"/>
              <a:gd name="textAreaTop" fmla="*/ 525600 h 2303280"/>
              <a:gd name="textAreaBottom" fmla="*/ 177768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екты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Моя родословная»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Волшебная шляпа»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6:42:10Z</dcterms:created>
  <dc:creator>Admin</dc:creator>
  <dc:description/>
  <cp:keywords/>
  <dc:language>en-US</dc:language>
  <cp:lastModifiedBy>576 УНР</cp:lastModifiedBy>
  <dcterms:modified xsi:type="dcterms:W3CDTF">2018-02-01T10:02:40Z</dcterms:modified>
  <cp:revision>34</cp:revision>
  <dc:subject/>
  <dc:title>Родительское собр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