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124-4FA2-4D8A-ABF4-7A0471A2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D90-D37A-4E10-A4A8-3B829C2A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A5C-B4AC-49FA-8DB9-AF1FFB89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4BF-270F-450D-97D4-2DF231DD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BF78-73C1-41B7-8344-897472B6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BC18-AFC1-4836-B0A8-40D884C0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0677-4B41-4668-896D-827B421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9C22-5A46-4848-AF27-36E67594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9A26-3583-4C20-8BD3-92A4FC2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94BF-9CA1-4B95-8321-9DED18C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D45C-0E00-4693-8035-0872F87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E7F-96CE-44EB-B83A-FD7189C7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65F-096B-4159-ADED-E71BB6A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288-CB59-4629-A43C-92B95D7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249-5B36-4DBC-A281-7670910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FD8-C6DC-4A94-BC1B-DF3D8FA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BD8-70F5-4DCE-B094-470A151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9868-C2D0-4F16-8A51-B91720BB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B8ED-40C9-4C91-9FF0-0FF4136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B820-74B0-41E5-B5C0-897C454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3520A-F70B-42A4-9906-01BA860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354B-3D05-4369-B9BF-87D0EEA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8F9-7162-4EA9-8D6D-F29DE24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393E-EAB0-4753-8CD2-617783A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A83A-778C-4116-8FCA-B935592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4B80-441A-4B17-B7C1-120CFD8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0A33-5D8F-4512-ADD4-4BFB60E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6AF5-7714-4E69-91B2-F772873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FAC1-B0D6-46D1-A2E5-40665857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C21E-7653-4300-987C-F52C5B17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80FC-8764-48C5-B1DF-6D667A7A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7020-9CF0-403B-AB02-5361096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283C-0CBD-4A50-8FBC-D9B54F6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B71-5BB4-49A9-B300-5901E1B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CA22-67C5-481B-9ECE-C86A187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6D0F-8D3B-4267-9CD1-2892622E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5602-85A4-44CA-87BE-32D8D178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2150-8F6F-4E7C-A736-0EA63A4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3CFF-00D7-4103-8960-5903482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711B4-E1A5-41A9-98DC-A87B0C1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73EB-E34F-493B-853D-BFA5275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2DBC-A323-4BF2-99D3-4D79A39E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5D51-BD06-441F-8D9C-8FFFAD91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4F4-47F6-449C-B1C3-BF53692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8B5-B531-4F1C-8DF7-BE785FFA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610-52A7-462F-8DB1-94B7677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636-4286-418D-B679-52B99F48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D8D-AEA4-4AC0-B3C2-E216A77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D4BE-CF80-487E-BCFD-BF88CEE827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3A5-C81D-4DB5-94EE-0527E1DF99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0EEA-CB27-47EF-90BF-6A8C1C1D4F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DDF-BD3C-466E-BCB1-4D6384DDF1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novumgodom.ru/?p=890" TargetMode="External"/><Relationship Id="rId2" Type="http://schemas.openxmlformats.org/officeDocument/2006/relationships/hyperlink" Target="http://www.snovumgodom.ru/?p=89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4" descr=""/>
          <p:cNvPicPr/>
          <p:nvPr/>
        </p:nvPicPr>
        <p:blipFill>
          <a:blip r:embed="rId1"/>
          <a:stretch/>
        </p:blipFill>
        <p:spPr>
          <a:xfrm>
            <a:off x="1073160" y="-182520"/>
            <a:ext cx="6931080" cy="2565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Users\User\Desktop\Новая папка\IMG_20180119_092323.jpg"/>
          <p:cNvPicPr/>
          <p:nvPr/>
        </p:nvPicPr>
        <p:blipFill>
          <a:blip r:embed="rId2"/>
          <a:stretch/>
        </p:blipFill>
        <p:spPr>
          <a:xfrm>
            <a:off x="1547640" y="1647720"/>
            <a:ext cx="633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000080"/>
            <a:ext cx="4929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ы не сами идем – мы козу веде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де коза ходит, там пшеница родит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де коза хвостом, там жито кустом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де коза ногою, там жито копною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де коза рогом, там жито стог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Елена\Downloads\9IxWWTLQTo.jpg"/>
          <p:cNvPicPr/>
          <p:nvPr/>
        </p:nvPicPr>
        <p:blipFill>
          <a:blip r:embed="rId1"/>
          <a:stretch/>
        </p:blipFill>
        <p:spPr>
          <a:xfrm>
            <a:off x="4929120" y="1500120"/>
            <a:ext cx="40975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Елена\Downloads\christmas-symphony-screensaver.jpg"/>
          <p:cNvPicPr/>
          <p:nvPr/>
        </p:nvPicPr>
        <p:blipFill>
          <a:blip r:embed="rId1"/>
          <a:stretch/>
        </p:blipFill>
        <p:spPr>
          <a:xfrm>
            <a:off x="182520" y="142920"/>
            <a:ext cx="88185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Мы ходили, мы ходили по святой Руси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оздравляли, величали,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Добра, счастья всем желали.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Коляда пришла, всем веселье принесла.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C:\Users\Елена\Downloads\610251c2bb37.jpg"/>
          <p:cNvPicPr/>
          <p:nvPr/>
        </p:nvPicPr>
        <p:blipFill>
          <a:blip r:embed="rId1"/>
          <a:stretch/>
        </p:blipFill>
        <p:spPr>
          <a:xfrm>
            <a:off x="1835280" y="1935000"/>
            <a:ext cx="58719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78920" y="333000"/>
            <a:ext cx="851868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0"/>
            <a:ext cx="5143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   </a:t>
            </a:r>
            <a:r>
              <a:rPr b="0" lang="ru-RU" sz="33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Колядки</a:t>
            </a:r>
            <a:r>
              <a:rPr b="0" lang="ru-RU" sz="3300" spc="-1" strike="noStrike">
                <a:solidFill>
                  <a:srgbClr val="004e6d"/>
                </a:solidFill>
                <a:latin typeface="Constantia"/>
              </a:rPr>
              <a:t> – обрядовые песни, их издавна пели в святую Рождественскую ночь. Этот обряд используют в основном славянские народы. Колядки содержат добрые пожелания благосостояния, доброго здравия, богатого урожая, благополучия в семье… 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C:\Users\Елена\Downloads\rozhd01.jpg"/>
          <p:cNvPicPr/>
          <p:nvPr/>
        </p:nvPicPr>
        <p:blipFill>
          <a:blip r:embed="rId3"/>
          <a:stretch/>
        </p:blipFill>
        <p:spPr>
          <a:xfrm>
            <a:off x="5300640" y="789120"/>
            <a:ext cx="384336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e6d"/>
                </a:solidFill>
                <a:latin typeface="Constantia"/>
              </a:rPr>
              <a:t>С давних времен было принято в Рождество ходить в гости к своим знакомым и друзьям  с гостинцами. В этот святой вечер хозяева не забывали ни о ком, готовили еду для своего хозяйства, за дверьми оставляли мисочки с едой для животных, которые могли бы посетить их дво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-360" y="0"/>
            <a:ext cx="635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e6d"/>
                </a:solidFill>
                <a:latin typeface="Constantia"/>
              </a:rPr>
              <a:t>После всех подготовок и праздничного ужина начиналась любимая</a:t>
            </a:r>
            <a:br>
              <a:rPr sz="3600"/>
            </a:br>
            <a:r>
              <a:rPr b="0" lang="ru-RU" sz="3600" spc="-1" strike="noStrike">
                <a:solidFill>
                  <a:srgbClr val="004e6d"/>
                </a:solidFill>
                <a:latin typeface="Constantia"/>
              </a:rPr>
              <a:t>Рождественская забава – колядование. Молодые люди наряжаются в костюмы животных и нечистой сил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C:\Users\User\Desktop\Новая папка\IMG_20180119_092424.jpg"/>
          <p:cNvPicPr/>
          <p:nvPr/>
        </p:nvPicPr>
        <p:blipFill>
          <a:blip r:embed="rId1"/>
          <a:stretch/>
        </p:blipFill>
        <p:spPr>
          <a:xfrm>
            <a:off x="5791320" y="765000"/>
            <a:ext cx="33462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e6d"/>
                </a:solidFill>
                <a:latin typeface="Calibri"/>
              </a:rPr>
              <a:t>Пришла коляда накануне Рождества!</a:t>
            </a:r>
            <a:br>
              <a:rPr sz="3600"/>
            </a:br>
            <a:r>
              <a:rPr b="0" lang="ru-RU" sz="3600" spc="-1" strike="noStrike">
                <a:solidFill>
                  <a:srgbClr val="004e6d"/>
                </a:solidFill>
                <a:latin typeface="Calibri"/>
              </a:rPr>
              <a:t>Пришла коляда, отворяйте ворота!</a:t>
            </a:r>
            <a:br>
              <a:rPr sz="3600"/>
            </a:br>
            <a:r>
              <a:rPr b="0" lang="ru-RU" sz="3600" spc="-1" strike="noStrike">
                <a:solidFill>
                  <a:srgbClr val="004e6d"/>
                </a:solidFill>
                <a:latin typeface="Calibri"/>
              </a:rPr>
              <a:t>Коляда-Коляда накануне Рождества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C:\Users\User\Desktop\Новая папка\IMG_20180119_092553.jpg"/>
          <p:cNvPicPr/>
          <p:nvPr/>
        </p:nvPicPr>
        <p:blipFill>
          <a:blip r:embed="rId1"/>
          <a:stretch/>
        </p:blipFill>
        <p:spPr>
          <a:xfrm>
            <a:off x="108000" y="2276640"/>
            <a:ext cx="3289320" cy="4389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User\Desktop\Новая папка\IMG_20180119_092453.jpg"/>
          <p:cNvPicPr/>
          <p:nvPr/>
        </p:nvPicPr>
        <p:blipFill>
          <a:blip r:embed="rId2"/>
          <a:stretch/>
        </p:blipFill>
        <p:spPr>
          <a:xfrm>
            <a:off x="3492360" y="2276640"/>
            <a:ext cx="525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Елена\Downloads\kolyadka-300x217.jpg"/>
          <p:cNvPicPr/>
          <p:nvPr/>
        </p:nvPicPr>
        <p:blipFill>
          <a:blip r:embed="rId1"/>
          <a:stretch/>
        </p:blipFill>
        <p:spPr>
          <a:xfrm>
            <a:off x="500040" y="571680"/>
            <a:ext cx="798984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6240" y="0"/>
            <a:ext cx="38577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Господин, господа,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Господинова жена,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вери отворите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 нас одарите!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ирогом, калач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ли чем-нибудь еще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Users\Елена\Downloads\kolyada_final_composition.jpg"/>
          <p:cNvPicPr/>
          <p:nvPr/>
        </p:nvPicPr>
        <p:blipFill>
          <a:blip r:embed="rId1"/>
          <a:stretch/>
        </p:blipFill>
        <p:spPr>
          <a:xfrm>
            <a:off x="0" y="0"/>
            <a:ext cx="521496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User\Desktop\Новая папка\IMG_20180119_092506.jpg"/>
          <p:cNvPicPr/>
          <p:nvPr/>
        </p:nvPicPr>
        <p:blipFill>
          <a:blip r:embed="rId1"/>
          <a:stretch/>
        </p:blipFill>
        <p:spPr>
          <a:xfrm>
            <a:off x="179280" y="981000"/>
            <a:ext cx="328932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User\Desktop\Новая папка\IMG_20180119_092723.jpg"/>
          <p:cNvPicPr/>
          <p:nvPr/>
        </p:nvPicPr>
        <p:blipFill>
          <a:blip r:embed="rId2"/>
          <a:stretch/>
        </p:blipFill>
        <p:spPr>
          <a:xfrm>
            <a:off x="3924360" y="3068640"/>
            <a:ext cx="49435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8616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– маленький юнчик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ел на стульчик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нял колпачок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жалуйте пятачок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C:\Users\User\Desktop\Новая папка\IMG_20180119_092701.jpg"/>
          <p:cNvPicPr/>
          <p:nvPr/>
        </p:nvPicPr>
        <p:blipFill>
          <a:blip r:embed="rId1"/>
          <a:stretch/>
        </p:blipFill>
        <p:spPr>
          <a:xfrm>
            <a:off x="324000" y="957240"/>
            <a:ext cx="3705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4:39:21Z</dcterms:created>
  <dc:creator>Елена</dc:creator>
  <dc:description/>
  <dc:language>en-US</dc:language>
  <cp:lastModifiedBy>User</cp:lastModifiedBy>
  <dcterms:modified xsi:type="dcterms:W3CDTF">2018-02-01T18:52:32Z</dcterms:modified>
  <cp:revision>11</cp:revision>
  <dc:subject/>
  <dc:title>Колядки</dc:title>
</cp:coreProperties>
</file>