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32A-9D15-43BB-B9EF-CE5C6C58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4F7-1A6F-43D5-95BE-9B685196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096-537C-4785-8FA0-54B7A5FD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707-C7EA-4E02-AE7A-22387297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36C-8351-4B47-A78A-A5FA5BB8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3C2-32C2-4A2E-95C8-03D41960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B9B-E137-485D-BC71-77A29F1E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700-9B36-496E-BE72-97967CEC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360-6490-4E4B-9DB5-578FEA22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21D-F87A-4808-B617-79D9CF2A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789-4929-4315-B25B-794901BC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B1A-4D11-4526-B373-071A50DC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9947-5387-4956-9D42-8E4209201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836640"/>
            <a:ext cx="8066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униципальное автоном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рогимназия № 1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2852640"/>
            <a:ext cx="5616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«Нетрадиционные формы работы с родителями»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92720" y="5651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корина Наталь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87280" y="476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Встречаем праздник белого месяца САГААЛГ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2589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еседу, игры с детьми провела бабушка Сонни Х Бадмаева Лариса Додуев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95640" cy="237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3240000" cy="2301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59280" y="1989000"/>
            <a:ext cx="28526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1640" y="2602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Мастер-класс с мамами и бабушками по изготовлению поздравительной открытки к Международному женскому д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1968480"/>
            <a:ext cx="576108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5640" y="1700280"/>
            <a:ext cx="763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В нашей группе при реализации системы взаимодействия с семьей с учетом ФГОС ДО удается избежать тех недостатков, которые присущи старым формам работы с семьей. Мною апробировано много различных форм работы с родителями. И сегодня я могу смело сказать, что признаки обновления во взаимодействии педагогов с семьей явно происходят. Со стороны родителей исходит инициатива, родители принимают активное участие в совместных делах группы и детского сада. Совместная деятельность родителей, педагогов и детей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оложительно влияет на всестороннее развитие моих  воспит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76500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ложно изменить мир, но если ты хочешь этого – начни меняться сам» Древняя мудрость Успех взаимодействия педагогов и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2133720"/>
            <a:ext cx="5041800" cy="1439640"/>
          </a:xfrm>
          <a:prstGeom prst="ellipse">
            <a:avLst/>
          </a:prstGeom>
          <a:solidFill>
            <a:srgbClr val="ffff00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263700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ая позиция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35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4221000"/>
            <a:ext cx="5400720" cy="1800360"/>
          </a:xfrm>
          <a:prstGeom prst="ellipse">
            <a:avLst/>
          </a:prstGeom>
          <a:solidFill>
            <a:srgbClr val="ffff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50022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4797360"/>
            <a:ext cx="48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пех взаимодействия педагогов и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54936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125360"/>
            <a:ext cx="856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емья и дошкольное учреждение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– два важных института социализации детей. Их воспитательные функции различны, но для всестороннего развития ребенка необходимо их взаимо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Активное включение родителей в жизнь группы позволит решить данную проблему. Совместное взаимодействия детей и родителей формирует доверительные отношения, оказывает положительное влияние на развитие ребенка и приучает его сотрудничать. Творческий процесс стимулирует всестороннее развитие ребёнка, а если это происходит рядом с мамой или папой это в двойное стимул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89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33336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92280"/>
            <a:ext cx="3600360" cy="288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429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дагогическое взаимо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40464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Цель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вовлечение родителей в участие в образовательном процессе через совместное творчество педагогов, детей и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364500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357336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етский 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5445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1052640"/>
            <a:ext cx="7993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чи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установление доверительных отнош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оздание условий для творческой самореализ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пособствование творческому развитию личности де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азвитие у детей коммуникативных навы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формирование уважительных взаимоотношений семьи и ДО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1916280"/>
            <a:ext cx="748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осве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частие в мастер-клас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овместные выста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ерсональные детские выста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частие в театрализованных представлениях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712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Вовлечение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00000" y="0"/>
            <a:ext cx="69850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«Сладкие пряни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Я пеку, пеку, пеку деткам всем по пирожку.                                С мамой тесто раскачу и печенье исп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656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305080" cy="172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3095640" cy="1982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708360" y="5129280"/>
            <a:ext cx="2303640" cy="1728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1125360"/>
            <a:ext cx="770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готовление печеней из песочного теста  Карпук Т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Лепка бублики Антонова Н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659640" y="1989000"/>
            <a:ext cx="2089080" cy="1681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796000" y="371628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76360" y="40464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порт, спорт, 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1268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Организация и проведение спортивного праздника «Вместе с пап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71640" y="2852640"/>
            <a:ext cx="367164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76720" y="2349360"/>
            <a:ext cx="3302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620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Выставка поделок на тему «Осенние чуде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189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Мастерим всей семь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3357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Совместный проект  «Елочка –зеленая игол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203640" y="4005360"/>
            <a:ext cx="1901880" cy="2852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24360" y="429264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47760" y="1125360"/>
            <a:ext cx="1387440" cy="207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236000" y="1197000"/>
            <a:ext cx="1584000" cy="2301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908000" y="1125360"/>
            <a:ext cx="2160720" cy="110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4284720" y="2057400"/>
            <a:ext cx="25923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529080" cy="2657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189000"/>
            <a:ext cx="59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Мастер – класс  «Мама заплетает мне  косич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42483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7T08:07:56Z</dcterms:created>
  <dc:creator>user</dc:creator>
  <dc:description/>
  <dc:language>en-US</dc:language>
  <cp:lastModifiedBy>user</cp:lastModifiedBy>
  <dcterms:modified xsi:type="dcterms:W3CDTF">2018-02-01T00:59:30Z</dcterms:modified>
  <cp:revision>4</cp:revision>
  <dc:subject/>
  <dc:title>Слайд 1</dc:title>
</cp:coreProperties>
</file>