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media/image10.jpeg" ContentType="image/jpeg"/>
  <Override PartName="/ppt/media/image11.jpeg" ContentType="image/jpe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78EA4-556C-4E92-9F39-4E14FC118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02799-F2EE-407B-92F0-7D1F5654A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172FA-E901-4533-AA0D-DF570B3D5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E99BB-65E6-41B5-9F7B-1270D76A4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36FBA7-DC6E-4C68-BD6D-D94A6AA5F4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65CA2-83EC-4BCE-A9E2-CDB983471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6E65D-0382-4A0D-BC71-D39F65DCF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0F21A-A593-4EF4-87B0-05113D80D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8965F-2B2B-4E58-BC67-5EC995044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516A6-590F-4D13-8616-6EF8710A2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3E626-50B4-4112-82E2-8E4008DD1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6A5F4-984B-41EA-9612-9974E8A8B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D6A3E-0E96-4542-A576-DC8A6EA79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8004F-B6B0-40C5-A7AD-E77C75A40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9BE81-BA01-4046-BB68-C8BDD4054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4B17F-75AE-4CB1-8756-1BDFB8E635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6CC917-C012-4947-8FFF-10C2BA6265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65F854-D95F-4FBB-816A-35CEA4EEDE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7EE75F-6F57-48C8-9315-E944531D80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982077-6DE8-43D9-8BE2-9AE9D53931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CCC0E6-7C7E-4857-AE4B-1CE1F43C22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6D7EFE-06C2-417E-A483-67CE5E7F5D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773CF-CC58-4E1D-9C65-7DC7F6A8C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19D397-9F65-4031-B053-DEE9BB55CD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4DC76F-CCCD-430D-B3D9-A9A70BC20F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B3BA52-9645-45AB-9661-F5768E5E7F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3A0FAE-7842-49EA-9BC9-B1498C845D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1C47BC-AAFF-4EF0-8A22-823C745E16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D93223-31F4-46FC-ABB1-CB78B6742F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DF629F-5BFE-4D0E-8C25-C3D074C0F6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62225C-180E-47FA-B395-B88BA00B34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519AB2-1894-49E6-8834-8F1E4B528E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6851BF-C5A4-40BF-9B41-2E5247D5C3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0B28C-F05E-44D7-A811-545166C19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BE533E-88C5-44BE-922A-B234B5C643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86FD86-DC8D-4E1C-A12F-597FBB9A2E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6E0247-FAE5-4DD7-A685-0DF406FFD0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AB171E-7E87-4C49-88F0-CBF3F27A38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31CD33-21AC-44B3-8D63-E83ADAAFAC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FC6334-21F4-4360-B53F-10A9629FC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0F42A1-AE78-4593-A308-DC6735A1FF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6C021F-12D3-4DB6-89A9-679BA84783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9C1DAD-AC71-452B-A605-60539B0BD1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6D39E-B178-40CB-B058-6F069FD3A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A141D-EA56-49CF-9BE4-A7BB7F680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91FE9-5D56-4322-951F-DDE7EB426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4A9B1-857C-411D-AD20-3956ACF19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59115-6187-4217-836F-31FD9278E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6ED8-D1E6-4240-9D2F-F9CF04AAAF32}"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E70B-7E81-49DE-ACBC-C3912DBEA610}"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5000-1329-42FB-A0E9-7D576F03B571}"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021C-E84C-474F-B770-94179AB95DD1}"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566640" y="1206360"/>
            <a:ext cx="8558280" cy="2275200"/>
          </a:xfrm>
          <a:prstGeom prst="rect">
            <a:avLst/>
          </a:prstGeom>
          <a:ln w="0">
            <a:noFill/>
          </a:ln>
        </p:spPr>
      </p:pic>
      <p:sp>
        <p:nvSpPr>
          <p:cNvPr id="196" name="PlaceHolder 1"/>
          <p:cNvSpPr>
            <a:spLocks noGrp="1"/>
          </p:cNvSpPr>
          <p:nvPr>
            <p:ph type="subTitle"/>
          </p:nvPr>
        </p:nvSpPr>
        <p:spPr>
          <a:xfrm>
            <a:off x="571320" y="3714840"/>
            <a:ext cx="7854840" cy="1752480"/>
          </a:xfrm>
          <a:prstGeom prst="rect">
            <a:avLst/>
          </a:prstGeom>
          <a:noFill/>
          <a:ln w="0">
            <a:noFill/>
          </a:ln>
        </p:spPr>
        <p:txBody>
          <a:bodyPr lIns="0" rIns="18360" anchor="t">
            <a:no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Выполнила</a:t>
            </a: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Ученица 7 Б класса </a:t>
            </a: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Козловская Юлия</a:t>
            </a:r>
            <a:endParaRPr b="0" lang="en-US" sz="2200" spc="-1" strike="noStrike">
              <a:solidFill>
                <a:srgbClr val="ffffff"/>
              </a:solidFill>
              <a:latin typeface="Constantia"/>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71680" y="272880"/>
            <a:ext cx="2893680" cy="441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4617b"/>
                </a:solidFill>
                <a:latin typeface="Calibri"/>
              </a:rPr>
              <a:t>Озеро Натрон</a:t>
            </a:r>
            <a:endParaRPr b="0" lang="en-US" sz="2300" spc="-1" strike="noStrike">
              <a:solidFill>
                <a:srgbClr val="04617b"/>
              </a:solidFill>
              <a:latin typeface="Calibri"/>
            </a:endParaRPr>
          </a:p>
        </p:txBody>
      </p:sp>
      <p:sp>
        <p:nvSpPr>
          <p:cNvPr id="198" name="PlaceHolder 2"/>
          <p:cNvSpPr>
            <a:spLocks noGrp="1"/>
          </p:cNvSpPr>
          <p:nvPr>
            <p:ph/>
          </p:nvPr>
        </p:nvSpPr>
        <p:spPr>
          <a:xfrm>
            <a:off x="5286240" y="571320"/>
            <a:ext cx="3571920" cy="4214520"/>
          </a:xfrm>
          <a:prstGeom prst="rect">
            <a:avLst/>
          </a:prstGeom>
          <a:noFill/>
          <a:ln w="0">
            <a:noFill/>
          </a:ln>
        </p:spPr>
        <p:txBody>
          <a:bodyPr lIns="18360" rIns="18360" anchor="t">
            <a:normAutofit fontScale="91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Озеро Натрон - это самый щелочной водоем на планете Земля. Он расположен в северной части Танзании, неподалеку от границы с соседствующей Кенией. Свое название водоем получил не случайно, а от одноименного минерала, которым богата эта местность. Питание водоема осуществляется из горячих минеральных источников и реки Ивасо Ньиро. </a:t>
            </a:r>
            <a:endParaRPr b="0" lang="en-US" sz="1400" spc="-1" strike="noStrike">
              <a:solidFill>
                <a:srgbClr val="000000"/>
              </a:solidFill>
              <a:latin typeface="Constanti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Натрон имеет относительно небольшую глубину – меньше чем три метра. Она зависит от сезона и постоянно меняется. Летом озеро значительно мельче из-за сильного испарения. Именно в это время концентрация соли и карбоната натрия в воде повышается, а поверхность водоема покрывается тонкой корочкой. Минеральные соли попадают сюда вместе с пеплом вулкана, находящегося в Восточно-Африканской рифтовой долине.</a:t>
            </a:r>
            <a:endParaRPr b="0" lang="en-US" sz="1400" spc="-1" strike="noStrike">
              <a:solidFill>
                <a:srgbClr val="000000"/>
              </a:solidFill>
              <a:latin typeface="Constantia"/>
            </a:endParaRPr>
          </a:p>
        </p:txBody>
      </p:sp>
      <p:pic>
        <p:nvPicPr>
          <p:cNvPr id="199" name="Содержимое 4" descr="570233.jpg"/>
          <p:cNvPicPr/>
          <p:nvPr/>
        </p:nvPicPr>
        <p:blipFill>
          <a:blip r:embed="rId1"/>
          <a:stretch/>
        </p:blipFill>
        <p:spPr>
          <a:xfrm>
            <a:off x="571680" y="785880"/>
            <a:ext cx="4667040" cy="3500280"/>
          </a:xfrm>
          <a:prstGeom prst="rect">
            <a:avLst/>
          </a:prstGeom>
          <a:ln w="0">
            <a:noFill/>
          </a:ln>
        </p:spPr>
      </p:pic>
      <p:sp>
        <p:nvSpPr>
          <p:cNvPr id="200" name="Прямоугольник 5"/>
          <p:cNvSpPr/>
          <p:nvPr/>
        </p:nvSpPr>
        <p:spPr>
          <a:xfrm>
            <a:off x="714240" y="4857840"/>
            <a:ext cx="821556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nstantia"/>
              </a:rPr>
              <a:t>Уникальность местност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Само по себе озеро - весьма загадочное и уникальное явление. Натрон является частью этой же рифтовой долины, которой уже больше миллиона лет. Она появилась здесь благодаря извержениям вулканов. Даже сейчас данная вулканическая зона считается одной из наиболее активных в мире. Близлежащий к озеру вулкан имеет название Ленгай. Местные жители утверждают, что он проснулся в 2008 году и не спит до сих пор. В последний раз наблюдалось извержение в 2010 году.</a:t>
            </a:r>
            <a:endParaRPr b="0" lang="en-US" sz="14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3642840"/>
            <a:ext cx="8043840" cy="2482920"/>
          </a:xfrm>
          <a:prstGeom prst="rect">
            <a:avLst/>
          </a:prstGeom>
          <a:noFill/>
          <a:ln w="0">
            <a:noFill/>
          </a:ln>
        </p:spPr>
        <p:txBody>
          <a:bodyPr lIns="18360" rIns="18360" anchor="t">
            <a:normAutofit fontScale="90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Там можно увидеть окаменевшие статуи птиц и даже некоторых животных. И это не рукотворные изваяния скульпторов, а настоящие птицы, угодившие в смертельную ловушку. Попадая в озеро, они гибнут практически мгновенно, а их тела покрываются минералами, превращаясь в эти жуткие статуи. Феномен озера Натрон имеет научное объяснение. Все дело в том, что щелочность его воды примерно составляет 9–10,5 pH при температуре воды до 60°C. Именно это становится причиной гибели обитателей фауны, которые сюда попадают. Несмотря на смертоносный феномен озера Натрон в Танзании, в нем как-то сумели прижиться несколько видов обитателей. Среди них - уникальные рыбы, для которых щелочная среда совершенно безвредна. Не зря их называют щелочными телапиями. </a:t>
            </a:r>
            <a:endParaRPr b="0" lang="en-US" sz="1600" spc="-1" strike="noStrike">
              <a:solidFill>
                <a:srgbClr val="000000"/>
              </a:solidFill>
              <a:latin typeface="Constantia"/>
            </a:endParaRPr>
          </a:p>
        </p:txBody>
      </p:sp>
      <p:pic>
        <p:nvPicPr>
          <p:cNvPr id="202" name="Содержимое 5" descr="570232.jpg"/>
          <p:cNvPicPr/>
          <p:nvPr/>
        </p:nvPicPr>
        <p:blipFill>
          <a:blip r:embed="rId1"/>
          <a:stretch/>
        </p:blipFill>
        <p:spPr>
          <a:xfrm>
            <a:off x="4643280" y="500040"/>
            <a:ext cx="3810240" cy="3057480"/>
          </a:xfrm>
          <a:prstGeom prst="rect">
            <a:avLst/>
          </a:prstGeom>
          <a:ln w="0">
            <a:noFill/>
          </a:ln>
        </p:spPr>
      </p:pic>
      <p:sp>
        <p:nvSpPr>
          <p:cNvPr id="203" name="Прямоугольник 4"/>
          <p:cNvSpPr/>
          <p:nvPr/>
        </p:nvSpPr>
        <p:spPr>
          <a:xfrm>
            <a:off x="500040" y="538200"/>
            <a:ext cx="32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Феномен озера Натрон</a:t>
            </a:r>
            <a:endParaRPr b="0" lang="en-US" sz="1800" spc="-1" strike="noStrike">
              <a:solidFill>
                <a:srgbClr val="000000"/>
              </a:solidFill>
              <a:latin typeface="Arial"/>
            </a:endParaRPr>
          </a:p>
        </p:txBody>
      </p:sp>
      <p:sp>
        <p:nvSpPr>
          <p:cNvPr id="204" name="Прямоугольник 6"/>
          <p:cNvSpPr/>
          <p:nvPr/>
        </p:nvSpPr>
        <p:spPr>
          <a:xfrm>
            <a:off x="500040" y="1214280"/>
            <a:ext cx="36432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Явление, известное, как </a:t>
            </a:r>
            <a:r>
              <a:rPr b="1" lang="ru-RU" sz="1600" spc="-1" strike="noStrike">
                <a:solidFill>
                  <a:srgbClr val="000000"/>
                </a:solidFill>
                <a:latin typeface="Constantia"/>
              </a:rPr>
              <a:t>феномен озера Натрон</a:t>
            </a:r>
            <a:r>
              <a:rPr b="0" lang="ru-RU" sz="1600" spc="-1" strike="noStrike">
                <a:solidFill>
                  <a:srgbClr val="000000"/>
                </a:solidFill>
                <a:latin typeface="Constantia"/>
              </a:rPr>
              <a:t>, – жуткое зрелище. Способность убивать и превращать в минеральные статуи птиц – это самый уникальный и шокирующий феномен озера Натрон. </a:t>
            </a:r>
            <a:endParaRPr b="0" lang="en-US" sz="16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456840" y="3786120"/>
            <a:ext cx="3971880" cy="2643120"/>
          </a:xfrm>
          <a:prstGeom prst="rect">
            <a:avLst/>
          </a:prstGeom>
          <a:noFill/>
          <a:ln w="0">
            <a:noFill/>
          </a:ln>
        </p:spPr>
        <p:txBody>
          <a:bodyPr lIns="18360" rIns="18360" anchor="t">
            <a:normAutofit fontScale="94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Красивейшие птицы находятся под надежной защитой вод озера, поскольку строят свои гнезда на бугорках солей, находящихся среди воды. Она опасна для птенцов, которые могут случайно выпасть из гнезда, при этом хищникам добираться к ним не менее опасно. Посетив эти края, можно пронаблюдать одновременно около двух миллионов фламинго. </a:t>
            </a:r>
            <a:br>
              <a:rPr sz="1600"/>
            </a:br>
            <a:endParaRPr b="0" lang="en-US" sz="1600" spc="-1" strike="noStrike">
              <a:solidFill>
                <a:srgbClr val="000000"/>
              </a:solidFill>
              <a:latin typeface="Constantia"/>
            </a:endParaRPr>
          </a:p>
        </p:txBody>
      </p:sp>
      <p:pic>
        <p:nvPicPr>
          <p:cNvPr id="206" name="Picture 2" descr="https://interesnoznat.com/wp-content/uploads/ozero-natron-1.jpg"/>
          <p:cNvPicPr/>
          <p:nvPr/>
        </p:nvPicPr>
        <p:blipFill>
          <a:blip r:embed="rId1"/>
          <a:stretch/>
        </p:blipFill>
        <p:spPr>
          <a:xfrm>
            <a:off x="571680" y="214200"/>
            <a:ext cx="5051160" cy="3364200"/>
          </a:xfrm>
          <a:prstGeom prst="rect">
            <a:avLst/>
          </a:prstGeom>
          <a:ln w="0">
            <a:noFill/>
          </a:ln>
        </p:spPr>
      </p:pic>
      <p:pic>
        <p:nvPicPr>
          <p:cNvPr id="207" name="Picture 4" descr="https://abzac.cc/wp-content/uploads/2017/05/ozero-Natron-flamingo.jpg"/>
          <p:cNvPicPr/>
          <p:nvPr/>
        </p:nvPicPr>
        <p:blipFill>
          <a:blip r:embed="rId2"/>
          <a:stretch/>
        </p:blipFill>
        <p:spPr>
          <a:xfrm>
            <a:off x="4857840" y="3571920"/>
            <a:ext cx="4101840" cy="3058920"/>
          </a:xfrm>
          <a:prstGeom prst="rect">
            <a:avLst/>
          </a:prstGeom>
          <a:ln w="0">
            <a:noFill/>
          </a:ln>
        </p:spPr>
      </p:pic>
      <p:sp>
        <p:nvSpPr>
          <p:cNvPr id="208" name="Прямоугольник 8"/>
          <p:cNvSpPr/>
          <p:nvPr/>
        </p:nvSpPr>
        <p:spPr>
          <a:xfrm>
            <a:off x="5929200" y="357120"/>
            <a:ext cx="292896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Но феномен озера Натрон не ограничивается мёртвыми скульптурами. Здесь обитает очень много </a:t>
            </a:r>
            <a:r>
              <a:rPr b="1" lang="ru-RU" sz="1600" spc="-1" strike="noStrike">
                <a:solidFill>
                  <a:srgbClr val="000000"/>
                </a:solidFill>
                <a:latin typeface="Constantia"/>
              </a:rPr>
              <a:t>малых фламинго</a:t>
            </a:r>
            <a:r>
              <a:rPr b="0" lang="ru-RU" sz="1600" spc="-1" strike="noStrike">
                <a:solidFill>
                  <a:srgbClr val="000000"/>
                </a:solidFill>
                <a:latin typeface="Constantia"/>
              </a:rPr>
              <a:t>. Это достаточно редкий вид, озеро Натрон -единственное место размножения малого фламинго. До 75 % всемирной популяции этого вида появляется на свет именно здесь.</a:t>
            </a:r>
            <a:endParaRPr b="0" lang="en-US" sz="16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2880"/>
            <a:ext cx="8329680" cy="6559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4617b"/>
                </a:solidFill>
                <a:latin typeface="Calibri"/>
              </a:rPr>
              <a:t>«Кровавая вода» – еще один феномен озера Натрон. </a:t>
            </a:r>
            <a:endParaRPr b="0" lang="en-US" sz="2600" spc="-1" strike="noStrike">
              <a:solidFill>
                <a:srgbClr val="04617b"/>
              </a:solidFill>
              <a:latin typeface="Calibri"/>
            </a:endParaRPr>
          </a:p>
        </p:txBody>
      </p:sp>
      <p:sp>
        <p:nvSpPr>
          <p:cNvPr id="210" name="PlaceHolder 2"/>
          <p:cNvSpPr>
            <a:spLocks noGrp="1"/>
          </p:cNvSpPr>
          <p:nvPr>
            <p:ph/>
          </p:nvPr>
        </p:nvSpPr>
        <p:spPr>
          <a:xfrm>
            <a:off x="785880" y="4500360"/>
            <a:ext cx="7215120" cy="1625400"/>
          </a:xfrm>
          <a:prstGeom prst="rect">
            <a:avLst/>
          </a:prstGeom>
          <a:noFill/>
          <a:ln w="0">
            <a:noFill/>
          </a:ln>
        </p:spPr>
        <p:txBody>
          <a:bodyPr lIns="18360" rIns="18360" anchor="t">
            <a:normAutofit fontScale="94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Щелочность в озере имеет склонность повышаться из-за испарения. Благодаря этому происходит активация некоторых бактерий. Из-за их жизнедеятельности вода в озере время от времени обретает красный цвет. К данному виду бактерий относится cyanobacteria. Она способна поглощать свет в процессе фотосинтеза и вырабатывать ярко-красный пигмент. Эта способность придает воде соответствующий оттенок. Действительно, озеро Натрон в Танзании – невероятно красивая местность с великолепными пейзажами, аналогов которой нет в мире. </a:t>
            </a:r>
            <a:endParaRPr b="0" lang="en-US" sz="1400" spc="-1" strike="noStrike">
              <a:solidFill>
                <a:srgbClr val="000000"/>
              </a:solidFill>
              <a:latin typeface="Constantia"/>
            </a:endParaRPr>
          </a:p>
        </p:txBody>
      </p:sp>
      <p:pic>
        <p:nvPicPr>
          <p:cNvPr id="211" name="Содержимое 4" descr="glavnoe_4.jpg"/>
          <p:cNvPicPr/>
          <p:nvPr/>
        </p:nvPicPr>
        <p:blipFill>
          <a:blip r:embed="rId1"/>
          <a:stretch/>
        </p:blipFill>
        <p:spPr>
          <a:xfrm>
            <a:off x="785880" y="1071720"/>
            <a:ext cx="7215120" cy="327960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Заголовок 1" descr=""/>
          <p:cNvPicPr/>
          <p:nvPr/>
        </p:nvPicPr>
        <p:blipFill>
          <a:blip r:embed="rId1"/>
          <a:stretch/>
        </p:blipFill>
        <p:spPr>
          <a:xfrm>
            <a:off x="371520" y="785880"/>
            <a:ext cx="8364600" cy="1292040"/>
          </a:xfrm>
          <a:prstGeom prst="rect">
            <a:avLst/>
          </a:prstGeom>
          <a:ln w="0">
            <a:noFill/>
          </a:ln>
        </p:spPr>
      </p:pic>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8T17:41:24Z</dcterms:created>
  <dc:creator>USER</dc:creator>
  <dc:description/>
  <dc:language>en-US</dc:language>
  <cp:lastModifiedBy>Секретарь</cp:lastModifiedBy>
  <dcterms:modified xsi:type="dcterms:W3CDTF">2018-01-19T09:56:28Z</dcterms:modified>
  <cp:revision>12</cp:revision>
  <dc:subject/>
  <dc:title>Парк Натрон в Танзании</dc:title>
</cp:coreProperties>
</file>