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726-11EB-486B-A0B5-6D5E9E20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F44-FC1C-4D0A-A54C-B79E2122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25DC2-919A-4DFA-9DF1-4BD91A3F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CCB99-407F-480B-B39D-8557AB43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0B671-95A0-466E-A9CF-A8F3955D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A2A02-21E7-416E-AF12-3C624A1D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275D2-0D80-44F1-8E3A-932EBC64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9D7B8-3876-4F8F-9D9F-BE7740CC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E120D-AA68-4D66-8313-81F02E25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18B49-D40B-43F0-97E5-4EDE089E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1EF82-B796-442E-8AB3-6B1435BE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A9484-8636-4909-AF9B-77BB2A7C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3D8-5CAC-4923-B662-C37A8676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196A1-DFBA-4AE4-8AAD-7B185A55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68DB1-6288-45A9-8112-E1BDA5D7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BE83B-D58D-4B33-ABCD-C1E5E3CA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3F61C-36B7-4822-8439-E7C43F56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B8472-DB5D-4AAC-AEE5-50835552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5E563-E230-4714-A8BF-91BD832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FC878-4DDB-4119-8CBA-992BB02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F227D-8769-4ADE-9BA9-D23B958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FC45D-ECA0-445D-A62C-B89FD23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727BD-4312-40F2-AB81-40C0B237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CD2-97FE-44AA-93B0-E57864B7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9DC58-E6D6-48C9-AF86-0ECDDCDF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4ED73-06D7-416A-9D7D-8F12B7B9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1F2FA-5E64-416E-AA8B-03190EDF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B3E18-0691-4170-98EB-3933B946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073CE-9D15-4B0D-BFC0-42B6FA26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3D0B2-216A-42A6-B2E6-E702865E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E763A-F6A4-4D17-9367-650F4C32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5E75F-32EA-4FF1-BFC3-7EE9BB86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FAB3A-6564-4CAA-804B-7CB467E2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35A95-F0AA-4344-A963-8D310C5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206C-70F2-451F-B7D9-B5192359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AA18D-5A78-4E7B-A7C0-413EE8A7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A82B7-3D4F-460B-BB0C-C827123D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AB24D-37D7-48CC-9E5B-39331472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3AF3A-49E9-479B-AAEE-D97B1FEB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A676B-B8E2-4A9B-9B96-B1494B3A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C8A06-7907-4D13-B787-F66FB3B5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25A5D-5CAB-4237-9BEC-AAFD9190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C33F2-862F-4D1B-BBE3-DD76973C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2CC37-6EC7-49E0-89D9-F3991760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C2851-B74A-4BB2-B37E-141F704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E251-82CB-4351-A30C-E9A631F0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A3C4C-8926-4237-99B3-AED3C225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AB2B7-0B44-4090-8A08-C7AE782F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B30A6-ED63-4D3C-A814-A7DA5C38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BA108-BF56-4B49-BA0A-4B2218E1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9D0988-0DC0-4A09-82D0-BE6F62C6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C37EF-AE16-4249-9327-14A9E939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1CD93-B4C8-462C-B3D6-866E58CB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6ED4A-87A3-4535-9A04-435C4C26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FBF31-A7F0-40D1-B222-21766365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093FA-AE43-4895-8C2C-E019690D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1119-87EB-4C85-9CDE-5858D1CA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D90E2-92D7-472D-BA34-D33C7D38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63F52-8E78-4D65-A3CC-4E4614A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9A63A-88DC-4334-9DF5-4DEAC2F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9FAA7-D058-415F-86AC-523B19C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C093B-CEE5-4B1F-BFE0-B2C45A4D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C44AC-1383-4823-8324-6ADD0ADD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184FC-E29E-41CF-8282-63EB6367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11CE-7A98-462A-89A8-5D1DA880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0E99-9CAF-4E7C-9FD1-2DA23934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4F0D-2BAC-4F43-A913-9CFA81E8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70E9-2E53-4947-904A-B1242CC0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3A3-ADB4-4B70-9808-3657E012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983B-94E5-43A1-9A9E-4CE0239B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123C-489B-4777-8148-427772F1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FE23-2668-4495-AAE0-A0AD5EA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7C65-FBAC-4899-9DDA-04B4FC92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7D45-19AD-4CBE-864F-595C9126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1876-84C5-403C-A290-EBE0EB35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35F7-DDC1-4112-BC23-B6917EE6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74A4-64DC-428B-8EC4-FC7B1DDA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E0E2-C06F-431F-8BF8-9684409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5015-37DD-49F3-AC5B-847CCA55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26A-497E-43F2-BC6B-F881E6CD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031A-350A-4CDA-B1E2-C6AC9074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1F240-BC87-4B58-96D0-5B44661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5371-7D5C-4B19-8F87-E5492B07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3C20-445A-4B25-AB81-895A02A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3EB1-C987-47F1-A750-800BD4EE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4594-5AA8-435D-9B02-7765FF9D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393E-CD5E-451A-ABF9-75708061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A71E-4A58-4DEB-9398-F32AF1D6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1E961-5F34-4DFA-BB1D-A27BCA61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47EC-24F7-454C-ABE3-4109C103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054-2597-427A-8228-E94210B5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65CF-8309-458D-858D-59069D43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9E2A-572A-477F-8FED-C57372C2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7AF75-137F-429A-8112-C6FE10B6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2F4A-3AE4-46EF-9030-E6D82775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0646-2B3F-47A6-BE60-970A1EB8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F747-1347-4D3E-A009-2586AA6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AE03-691E-4C9A-80DF-4A6BB718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EE68-7712-4A45-A294-C602F68C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35B7-C099-45FA-946A-0043D7A7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C6F2-BC12-4463-A857-F179C22F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93A-5F29-4FD3-915F-5EFC0F85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E29F-7CF2-4722-A1A4-B9F4D4D2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3505-086F-47ED-A8CC-9DB9E87E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095A0-62AE-488E-B4B5-719E4D52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5BED8-C02F-4C11-B266-EC9DE694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A302-2EA1-4887-8FDE-140CEF40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BD37E-7644-40FA-A392-7B1D492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79BD-7581-476F-B37D-944309B4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83CC-ED55-4242-82F8-1F66BBD7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B1F2-14BC-4A57-9B52-6E5780D4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B8DDE-57FE-4B62-9CA1-231EDDCC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0DB-A58F-4095-9B44-6B02110A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0D466-296D-440C-827B-669BE776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E0B01-80D4-4507-9789-E6A1997A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3AD4-CAFB-4AA7-8347-9A354B57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528F1-726C-49BD-84E3-F07D524C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1143-66DE-4A6A-B683-EFD42750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072E-F9B0-4C0F-8CCC-1D77CB25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91A1F-7933-4714-8482-A2A95A01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F8A8-6B57-4404-A96C-BD462A1A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85F8F-1D1D-4FE9-83F2-7C439F9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D148B-E4ED-4DF1-A6C8-412D756F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4B9-6BFD-4920-87DB-FB6A0AED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DBED6-8FA7-4B4E-A6B3-72A08DB8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136A-1BD9-4B5A-BED6-8598D17E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4D9C4-3A29-40EA-9CC7-00EC95F5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0C9C-93E6-4C12-93D7-207D58C5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A454-E384-4EA6-A212-5FD96DBD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6D83C-13A1-4D89-AA28-023A14D1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DEA4B-46BC-40EB-93A2-5541DFE0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786AB-CFCC-411D-AE34-D15E0ACF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39D84-65A9-4AC8-9597-6646CCE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99A25-CE5D-4EA7-B5FA-B9ECD95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9EE-E09B-4A9E-A43E-A1EDF0DC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AE268-7152-41AB-9949-1F22F23B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24940-4A60-404C-B5AA-1952FC2F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2B672-4544-435F-A0C6-8BF8825C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1E725-CFE0-47D5-B763-C5C6F3CA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BDC9B-E827-444C-AA76-EB2F69FF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D882D-02D0-4AB8-8480-08A22869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584F4-AC2F-4593-AB68-3B339017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F42B5-4ECF-47E0-86CA-90EAE625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246CD-8257-43C9-91C2-5151F4C4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360B6-1217-462E-B9B5-CE2277E1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760-08B4-4D22-BB10-833D80CB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4CCFE-BA74-4716-BAA3-DE10BBA4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A3ED0-F9A0-473F-9316-10160255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CCED9-8B26-45D6-B77E-C695AAAE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DFE21-A803-4229-85A7-B303530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7E820-6844-4161-A150-57128B49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3FD76-5414-4E19-8344-339DA524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AF5B8-9966-4957-98CB-A6715656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7AE0E-6B5E-451A-94B3-273A3956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DA914-7A97-461F-B40C-BF4607E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35086-47FF-45BD-99B3-56344608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0088-CF74-4276-80C2-BC00C59AE74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1522-3241-4801-BED4-E7325F3D25A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0901-19D0-481A-848E-789B667ECE5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37C3-A439-4802-8C7E-E1DEEB4D4BB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9BED-DF36-4E7F-BB33-EB68D5D156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FC1A-BAE2-4EFC-B908-80F6CED8C9A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50D2-5480-406E-B2B5-B28438E43C6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3296-36AB-4CCB-9F56-F5990CC40D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49FE-867B-4F26-8197-A877999599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CF36-4221-4BF9-B0DE-E139725A124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377E-5E95-4F15-8F77-D86B692E88F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1032-EFE7-497C-AC52-B3E9DBB2AE1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95AC-358F-420C-BD2F-B8F1D2DDA46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bilmusic.ru/file.php?id=10154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molodguard.narod.ru/monument88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trip-guide.ru/Spb/index.php?town=Spb&amp;page=a21&amp;part=1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ip-guide.ru/Spb/index.php?town=Spb&amp;page=a52&amp;part=5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trip-guide.ru/Spb/index.php?town=Spb&amp;page=a51&amp;part=4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pl-mugestva.ucoz.ru/photo/1-0-2-3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trip-guide.ru/Spb/index.php?town=Spb&amp;page=a18&amp;part=1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molodguard.narod.ru/monument84.jpg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403280" y="600048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Блокада Ленинграда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8" name="Picture 7" descr="101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857240"/>
            <a:ext cx="3571920" cy="407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Рисунок6"/>
          <p:cNvPicPr/>
          <p:nvPr/>
        </p:nvPicPr>
        <p:blipFill>
          <a:blip r:embed="rId1"/>
          <a:stretch/>
        </p:blipFill>
        <p:spPr>
          <a:xfrm>
            <a:off x="990720" y="42876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рога Жизни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79280" y="1600200"/>
            <a:ext cx="41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ля подвоза продовольствия и боеприпасов оставалась единственная коммуникация - по Ладожскому озеру. К началу войны оно было мало освоено и практически не изучено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5148360" y="5734080"/>
          <a:ext cx="3668760" cy="396720"/>
        </p:xfrm>
        <a:graphic>
          <a:graphicData uri="http://schemas.openxmlformats.org/drawingml/2006/table">
            <a:tbl>
              <a:tblPr/>
              <a:tblGrid>
                <a:gridCol w="366876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 ЖИЗН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6" name="Picture 10" descr="ДОРОГА ЖИЗНИ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427640" y="1434960"/>
            <a:ext cx="4537080" cy="3403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915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аботники дорожной службы ежедневно измеряли толщину льда на всём озере, но были не в силах ускорить его нарастание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0 ноября толщина льда достигла 180 мм. На лёд вышли конные обозы…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7" descr="imag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5" descr="image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55432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"</a:t>
            </a:r>
            <a:r>
              <a:rPr b="1" lang="ru-RU" sz="3300" spc="-1" strike="noStrike">
                <a:solidFill>
                  <a:srgbClr val="ffffff"/>
                </a:solidFill>
                <a:latin typeface="Georgia"/>
              </a:rPr>
              <a:t>Дорога жизни"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advTm="6000">
    <p:newsflash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3" descr="''Дорога жизни''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2936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32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- как легенда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ак песня, как знам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 этой дороги не будет конца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навсегда пролегла через пам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веки прошла через наши серд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атолий Молчанов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3" name="Picture 3" descr="1487"/>
          <p:cNvPicPr/>
          <p:nvPr/>
        </p:nvPicPr>
        <p:blipFill>
          <a:blip r:embed="rId1"/>
          <a:stretch/>
        </p:blipFill>
        <p:spPr>
          <a:xfrm>
            <a:off x="4932360" y="3643200"/>
            <a:ext cx="3672000" cy="25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95280" y="3933720"/>
            <a:ext cx="8291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 13 ноября 1941 года норма выдачи хлеба населению была снижена. Теперь рабочие и инженерно-технические работники получали по 300 граммов хлеба, все остальные - по 150. 20 ноября и этот скудный паёк пришлось урезать. Население стало получать самую низкую норму за всё время блокады - 250 граммов на рабочую карточку и 125 граммов - на все остальные. В Ленинграде начался голод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8" descr="БОМБЕЖКА ЛЕНИНГРАДА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1547640" y="260280"/>
            <a:ext cx="5832720" cy="347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9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25 блокадных грамм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63280" y="160020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 шумите вокруг - он дыши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 живой еще, он все слышит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 из недр его вопли: "Хлеба!" 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о седьмого доходят неба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 безжалостна эта тверд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глядит из всех окон - смер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нна Ахматов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1456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592920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лилась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 8 сентября 1941 по 27 января 1944 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1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прорвана 18 января 1943) — 871 день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3" descr="12bi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62320" y="2438280"/>
            <a:ext cx="4114800" cy="3705480"/>
          </a:xfrm>
          <a:prstGeom prst="rect">
            <a:avLst/>
          </a:prstGeom>
          <a:ln w="0">
            <a:noFill/>
          </a:ln>
        </p:spPr>
      </p:pic>
    </p:spTree>
  </p:cSld>
  <p:transition advTm="11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pic4"/>
          <p:cNvPicPr/>
          <p:nvPr/>
        </p:nvPicPr>
        <p:blipFill>
          <a:blip r:embed="rId1"/>
          <a:stretch/>
        </p:blipFill>
        <p:spPr>
          <a:xfrm>
            <a:off x="1214280" y="285840"/>
            <a:ext cx="7000920" cy="5857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IMG_4673_500"/>
          <p:cNvPicPr/>
          <p:nvPr/>
        </p:nvPicPr>
        <p:blipFill>
          <a:blip r:embed="rId1"/>
          <a:stretch/>
        </p:blipFill>
        <p:spPr>
          <a:xfrm>
            <a:off x="2286000" y="285840"/>
            <a:ext cx="4700520" cy="57150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5" descr="1941_10"/>
          <p:cNvPicPr/>
          <p:nvPr/>
        </p:nvPicPr>
        <p:blipFill>
          <a:blip r:embed="rId1"/>
          <a:stretch/>
        </p:blipFill>
        <p:spPr>
          <a:xfrm>
            <a:off x="1905120" y="357120"/>
            <a:ext cx="5308560" cy="592956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Город и его борьба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14200" y="1689120"/>
            <a:ext cx="36417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город жил и боролся. Заводы продолжали выпускать военную продукцию. Голодные измученные люди находили в себе силы работать. Мужчины, женщины и подростки стояли у станк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Rectangle 238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39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237" descr="КОЛОННА САУ СУ-122 НАПРАВЛЯЕТСЯ НА ФРОНТ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284720" y="1214280"/>
            <a:ext cx="4608360" cy="435780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241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Рисунок2а"/>
          <p:cNvPicPr/>
          <p:nvPr/>
        </p:nvPicPr>
        <p:blipFill>
          <a:blip r:embed="rId1"/>
          <a:stretch/>
        </p:blipFill>
        <p:spPr>
          <a:xfrm>
            <a:off x="493560" y="285840"/>
            <a:ext cx="8156880" cy="607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prospekt"/>
          <p:cNvPicPr/>
          <p:nvPr/>
        </p:nvPicPr>
        <p:blipFill>
          <a:blip r:embed="rId1"/>
          <a:stretch/>
        </p:blipFill>
        <p:spPr>
          <a:xfrm>
            <a:off x="0" y="0"/>
            <a:ext cx="9144000" cy="61578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evakuacia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073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female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1563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«Ленинградская» симфо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 августа 1941 года немцы обещали занять Ленинград. Ровно год спустя в несломленном городе состоялась премьера 7-й симфонии Шостаковича, которую впоследствии назовут "Ленинградской". Зал был полон - очереди за билетами в Большой зал городской филармонии были длиннее, чем в булочны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4" name="Picture 7" descr="blokadaf"/>
          <p:cNvPicPr/>
          <p:nvPr/>
        </p:nvPicPr>
        <p:blipFill>
          <a:blip r:embed="rId1"/>
          <a:stretch/>
        </p:blipFill>
        <p:spPr>
          <a:xfrm>
            <a:off x="4834080" y="1628640"/>
            <a:ext cx="4039920" cy="46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shostakovich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0724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- это неслыханное испытание человека на человечность, достоинство, любовь к близким, сострадание, сердечность. Эти испытания были ежедневными, страшными, потому что голод представить вообще невозможно, не пережив его…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3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4" descr="Рисунок14"/>
          <p:cNvPicPr/>
          <p:nvPr/>
        </p:nvPicPr>
        <p:blipFill>
          <a:blip r:embed="rId1"/>
          <a:stretch/>
        </p:blipFill>
        <p:spPr>
          <a:xfrm>
            <a:off x="457200" y="214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 момент установки блокады в городе находилось 2 миллиона 544 тысячи человек гражданского населения, в том числе около 400 тысяч детей. Кроме того, в пригородных районах (в кольце блокады) осталось 343 тысячи человек. В сентябре, когда начались систематические бомбардировки, обстрелы и пожары, многие тысячи семей хотели бы выехать, но пути были отрезаны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Рисунок10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565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Маленькая записная книж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0" name="Picture 4" descr="blokadae"/>
          <p:cNvPicPr/>
          <p:nvPr/>
        </p:nvPicPr>
        <p:blipFill>
          <a:blip r:embed="rId1"/>
          <a:stretch/>
        </p:blipFill>
        <p:spPr>
          <a:xfrm>
            <a:off x="2484360" y="1500120"/>
            <a:ext cx="4243320" cy="46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8" descr="Рисунок8"/>
          <p:cNvPicPr/>
          <p:nvPr/>
        </p:nvPicPr>
        <p:blipFill>
          <a:blip r:embed="rId1"/>
          <a:stretch/>
        </p:blipFill>
        <p:spPr>
          <a:xfrm>
            <a:off x="135000" y="260280"/>
            <a:ext cx="2344680" cy="3241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9" descr="Рисунок9"/>
          <p:cNvPicPr/>
          <p:nvPr/>
        </p:nvPicPr>
        <p:blipFill>
          <a:blip r:embed="rId2"/>
          <a:stretch/>
        </p:blipFill>
        <p:spPr>
          <a:xfrm>
            <a:off x="2484360" y="271440"/>
            <a:ext cx="6659640" cy="32338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0" descr="Рисунок8"/>
          <p:cNvPicPr/>
          <p:nvPr/>
        </p:nvPicPr>
        <p:blipFill>
          <a:blip r:embed="rId3"/>
          <a:stretch/>
        </p:blipFill>
        <p:spPr>
          <a:xfrm>
            <a:off x="0" y="3733920"/>
            <a:ext cx="5370480" cy="29350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1" descr="Рисунок9"/>
          <p:cNvPicPr/>
          <p:nvPr/>
        </p:nvPicPr>
        <p:blipFill>
          <a:blip r:embed="rId4"/>
          <a:stretch/>
        </p:blipFill>
        <p:spPr>
          <a:xfrm>
            <a:off x="5334120" y="3733920"/>
            <a:ext cx="3809880" cy="293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Рисунок12"/>
          <p:cNvPicPr/>
          <p:nvPr/>
        </p:nvPicPr>
        <p:blipFill>
          <a:blip r:embed="rId1"/>
          <a:stretch/>
        </p:blipFill>
        <p:spPr>
          <a:xfrm>
            <a:off x="1127160" y="357120"/>
            <a:ext cx="6469200" cy="585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комплекс Дневник Тани Савичевой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7" name="Picture 3" descr="Дневник Тани Савичев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557360"/>
            <a:ext cx="7561440" cy="4043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орыв и снятие блокады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1197000"/>
            <a:ext cx="421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27 января 1944 года войска Ленинградского и Волховского фронтов взломали оборону 18-й немецкой армии, разгромили её основные силы и продвинулись на 60 километров в глубину. Видя реальную угрозу окружения, немцы отступили. С освобождением Пушкина, Гатчины и Чудово блокада Ленинграда была полностью снят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0" name="Picture 8" descr="002"/>
          <p:cNvPicPr/>
          <p:nvPr/>
        </p:nvPicPr>
        <p:blipFill>
          <a:blip r:embed="rId1"/>
          <a:stretch/>
        </p:blipFill>
        <p:spPr>
          <a:xfrm>
            <a:off x="4619520" y="981000"/>
            <a:ext cx="4280040" cy="568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6" descr="1943_25"/>
          <p:cNvPicPr/>
          <p:nvPr/>
        </p:nvPicPr>
        <p:blipFill>
          <a:blip r:embed="rId1"/>
          <a:stretch/>
        </p:blipFill>
        <p:spPr>
          <a:xfrm>
            <a:off x="762120" y="380880"/>
            <a:ext cx="7596000" cy="60246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1943_15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6" descr="1941_43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6" descr="image"/>
          <p:cNvPicPr/>
          <p:nvPr/>
        </p:nvPicPr>
        <p:blipFill>
          <a:blip r:embed="rId1"/>
          <a:stretch/>
        </p:blipFill>
        <p:spPr>
          <a:xfrm>
            <a:off x="0" y="0"/>
            <a:ext cx="8988480" cy="62150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На Неве во время праздничного салюта в День Победы. 9 мая  1945 г. Место съемки: г.Ленинград. Автор съемки:   Федосеев В. . ЦГАКФФД СПб,ед. хр. Ар-62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 годы блокады погибло по разным данным от 400 тыс. до 1 млн. человек. Причем только 3% из них от бомбежек, артобстрелов и т.д., а остальные 97% от голод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42960" y="28584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"Разорванное кольцо" на Ладожском озере у Вагановского спус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7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490860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Санкт-Петербург, Крестовский остров, Приморский парк Побед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2286000"/>
            <a:ext cx="6286680" cy="400536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83908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иморский парк Победы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ыл заложен в октябре 1945 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честь морских военных побед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рх. А.С.Никольский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90560" y="69228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ансамбль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 на Пискаревском кладбище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1" name="Picture 3" descr="Санкт-Петербург, Улицы и события, Мемориальный ансамбль на Пискаревском кладбищ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133720"/>
            <a:ext cx="6480000" cy="3970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Санкт-Петербург, Памятники, Мемориал &quot;Защитникам Ленинграда&quot; (1969-1975 г.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404640"/>
            <a:ext cx="4056120" cy="58104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нсамбль площади Победы.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онумент героическим защитникам Ленингра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974-75гг.</a:t>
            </a:r>
            <a:br>
              <a:rPr sz="32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кульптор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М.К. Аникушин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арх.С.Б. Сперанский, В.А.Каменский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11700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914400"/>
            <a:ext cx="8358120" cy="537228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3"/>
          <p:cNvSpPr/>
          <p:nvPr/>
        </p:nvSpPr>
        <p:spPr>
          <a:xfrm>
            <a:off x="176364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нсамбль площади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Санкт-Петербург, Московский проспект, Мемориал &quot;Защитникам Ленинграда&quot; (1969-1975 г.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304920"/>
            <a:ext cx="7816680" cy="591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Героическая оборона Ленинграда - это массовый, всенародный подвиг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8" name="Picture 3" descr="Фрагмент памятни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057400"/>
            <a:ext cx="6642000" cy="4419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blokada4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17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локадное объявление - предупреждение сохраняется в наши дни на Невском пр., - уже как памятная доск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0" name="Picture 3" descr="monument82"/>
          <p:cNvPicPr/>
          <p:nvPr/>
        </p:nvPicPr>
        <p:blipFill>
          <a:blip r:embed="rId1"/>
          <a:stretch/>
        </p:blipFill>
        <p:spPr>
          <a:xfrm>
            <a:off x="4716360" y="357120"/>
            <a:ext cx="3810240" cy="578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4"/>
          <p:cNvSpPr/>
          <p:nvPr/>
        </p:nvSpPr>
        <p:spPr>
          <a:xfrm>
            <a:off x="395280" y="442080"/>
            <a:ext cx="705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, кто пережил блокаду, были обычными людьми. Они сумели совершить невозможное - пережить ледяной ад. И не только пережить, но и остаться людьми. Они уходят, и вместе с ними уходит история. От нас зависит, чтобы она не уш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всег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8" descr="0"/>
          <p:cNvPicPr/>
          <p:nvPr/>
        </p:nvPicPr>
        <p:blipFill>
          <a:blip r:embed="rId1"/>
          <a:stretch/>
        </p:blipFill>
        <p:spPr>
          <a:xfrm>
            <a:off x="6300720" y="4157640"/>
            <a:ext cx="2556000" cy="2459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Georgia"/>
              </a:rPr>
              <a:t>Из тезисов немецкого доклада "О блокаде Ленинграда", 21 сентября</a:t>
            </a:r>
            <a:r>
              <a:rPr b="1" lang="ru-RU" sz="29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начала мы блокируем Ленинград и разрушаем город артиллерией и авиацией... Весной мы проникнем в город... вывезем всё, что осталось живое, в глубь России или возьмём в плен, сровняем Ленинград с землёй и передадим район севернее Невы Финлянд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Тучи над городом встали...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00" y="160020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 момент установления блокады в городе находилось 2 миллиона 544 тысячи человек, в том числе около 400 тысяч детей. Кроме того, в пригородных районах, то есть тоже в кольце блокады, осталось 343 тысячи человек. В сентябре, когда начались систематические бомбардировки, обстрелы и пожары, многие хотели выехать, но пути уже были отрезан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8" descr="blokada"/>
          <p:cNvPicPr/>
          <p:nvPr/>
        </p:nvPicPr>
        <p:blipFill>
          <a:blip r:embed="rId1"/>
          <a:stretch/>
        </p:blipFill>
        <p:spPr>
          <a:xfrm>
            <a:off x="179280" y="1989000"/>
            <a:ext cx="5077080" cy="3418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005%5B1%5D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3262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leningrad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574812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20:41Z</dcterms:created>
  <dc:creator>1</dc:creator>
  <dc:description/>
  <dc:language>en-US</dc:language>
  <cp:lastModifiedBy>Любовь Мамонова</cp:lastModifiedBy>
  <dcterms:modified xsi:type="dcterms:W3CDTF">2018-01-23T19:13:50Z</dcterms:modified>
  <cp:revision>19</cp:revision>
  <dc:subject/>
  <dc:title>Блокада Ленинграда</dc:title>
</cp:coreProperties>
</file>