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89D-CA1B-48FA-B7A5-2DE4DA1C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4B5-5934-4A7B-B063-47485B5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179-5535-4F97-97F2-7C6DC24C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77C-0E7A-4F58-BD7F-07C7BE4B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B601-5476-4256-83F9-C5E4445F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A4D5-BFB5-45FB-B31F-E8E89C3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8968-6A79-4E47-B674-ECF50B8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1ABC-5F6E-406A-80E6-405F5D8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72E-8823-4D0D-8C83-126952A8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A19F-10EA-42CE-ACD4-37FEC04F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53C3-8734-4AB0-860A-150737A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D1A-317D-483B-9A6B-77EC231B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F773-6634-4CD8-A73D-AB58AC1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1B1-6495-40F6-93D7-51A90C8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26D1-4028-466D-A790-1AC61905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625-E696-4B9B-AB0D-B6CFE9B9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5944-D747-47E5-A02E-1D643823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4351-3BB8-44EF-9A9E-137B142B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7337-4E5F-4A2F-8F30-41B5280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BB87-7D6D-402B-81BB-E029166E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C044-5C8D-46BE-ADB5-1C5E735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BC3A-7090-4784-8712-2232856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538-087D-407E-BB10-236D694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F843-4C44-4E44-B760-FC6C13D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DA35-124E-4B40-9869-4D2E7B5C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06E5-C2C0-4A1B-A9A1-F13065E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5064-C40C-4C1D-9077-25BD786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5CFB-E4D1-46EA-A543-30D4DAC7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52DE-2BA5-4717-9E32-FA5F3335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5FD4-E87F-49AA-AFE4-D74FDE8A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4647-3A46-4A2D-9637-88D54815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ACE5-0DF2-4267-87D1-B85BC818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05E9-9DA8-4CEF-916F-FDFBB5F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A6B-F774-474B-ADB7-3E89DD1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16DA-7A4B-4E2C-A544-04FD25E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09B3-3F30-4DA6-9B8A-0F89454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879A-AB66-4317-91BB-9A3A1AB9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9339-99E8-43E4-B8FF-18A03B6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3D8AA-8B21-4049-BC55-DAB1445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83CB4-FCB9-495A-9B80-5FF86D6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A80F-8C57-473A-BEC8-3F2A921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EF3D-4479-415B-A2E1-AED151F8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19D9-C06A-4155-8F28-3A3DE2CA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34BC-2289-4B1F-9C14-E878DC54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DF-6406-46B9-B926-92DB276F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27CC-6A1E-4802-99D1-01C7D370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58B5-B12B-4EF0-8C1D-5E6BDDA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D31E-8913-4078-BDED-FB6A04E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7878-0F05-42EC-874D-332E943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E4FA-B5B5-4CBC-B70B-8A85ED9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A738F-06CD-4AFD-BB1A-B1A9C15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074F-D6CD-4B10-8860-F6D2663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E74F-19CD-42B8-95CB-1FD3D24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98FC-4448-45AC-B167-7D2B9448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5075-6F70-462C-B49E-A6F1BEBA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5D-08D1-49D2-81BF-64AB213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1254-A950-4700-A748-B556523E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24E5-94E8-4DC1-9DC6-80BAE336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0FD4-B77A-4057-B30B-91C7848D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162B-2345-416D-B04E-26E4C8F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B708-E5A8-40E3-827D-92BFA46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EBD4-5552-4DE0-A780-C0C5E243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815E-E0BC-4402-8A48-E31737C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078E-3837-47E8-8531-3FB16B7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6C43E-B10C-4C60-9EF4-622FD93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9EAD-B376-44E2-829E-BD4251E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35D-AE99-406A-858A-0194102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E8FE-4C86-47CE-A948-FE7DD1D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8F31-D2F9-4FFA-B44B-3C03C4F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64CA-8417-4A51-8F04-FEE6A456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9A33D-2C6C-45BB-A679-F81B51DC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9CD4-9CDA-42DF-BD9A-77A8048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FBBD-16B1-40B3-9063-930F006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C3132-2EC0-4FE2-A53F-3AE31EF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B4E22-B347-460B-97B3-994E6CA0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AD9D-CC17-43CD-9100-D820D947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9D97-6DAB-4BAD-89CA-9DBBBF4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7BD-ADBD-43F8-9040-6AC77EF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46C1-25D3-4156-83FF-E659D6A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8ECF9-7739-4C47-9CD3-6A5FA03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C25B-51D9-4C7B-B73E-4F14F7A2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08CE-063B-48D5-A6A0-58E84ED4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6648-2FEF-4BB4-A993-01FF851A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F0E-5E31-4E07-B9C2-1FAE80A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C88E-554D-42E5-98FD-156E8FF2F8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FB6-7D24-4CDA-88E8-70E1F10663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153-1F78-418F-8A56-791B78BF59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4DAA-7E80-42FA-A1FC-43823E1D90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7CF-F839-47B1-81EA-22457F373F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BE11-6969-46E3-8B3E-052CCA1690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E8B-4F95-4E8D-8CB8-29C2747025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284280"/>
            <a:ext cx="740736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еминар – практикум по теме:    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«Звуковая культура речи»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Конкурс «Формирование правильного звукопроизношения и дик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920"/>
            <a:ext cx="74995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Скороговор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Труба трубит, труба поет, трубач по улице ид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У Петрушки три ватрушки, три ватрушки у Пет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Черепаха не скучая, час сидит за чашкой ча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Ученик учил уроки, у него в чернилах ще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Галка села на палку, палка ударила гал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В аквариуме у Харитона, четыре рака да три трито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На окошке крошку мошку ловко ловит лапой кош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си, коса, пока роса, роса долой и мы до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ждая команда выбирает команде – сопернику дв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короговорки. Одну из них нужно проговорить в быстром темпе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ругую – быстро и с  определенной интонацией  (сердито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дивленно, весело…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онкурс «Развитие связной устной речи. Работа с пословицами»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981000"/>
            <a:ext cx="78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Карточка № 1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Продолжите пословицы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С волками жить - ….           С миру по нитке - ….           Всяк сверчок - …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«Переведите» пословицы на русский язык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Сын леопарда – тоже леопард.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(Африка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Верблюда под мостом не спрячешь.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(Афганистан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Бойся тихой реки, а не шумной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.(Греция).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Назовите пословицы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про дружб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orbel"/>
              </a:rPr>
              <a:t>Карточка №2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Продолжите пословиц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Двое пашут - …               Кончил дело - …                   Гром не грянет - …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«Переведите» пословицы на русский язык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Молчаливый рот – золотой рот.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(Германия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Тот не заблудится, кто спрашивает.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(Финляндия)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Ошпаренный петух от дождя убегает.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(Франция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Назовите пословицы </a:t>
            </a:r>
            <a:r>
              <a:rPr b="1" lang="ru-RU" sz="1700" spc="-1" strike="noStrike">
                <a:solidFill>
                  <a:srgbClr val="000000"/>
                </a:solidFill>
                <a:latin typeface="Corbel"/>
              </a:rPr>
              <a:t>про труд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снащение предметно-развивающей среды  по звуковой культуре реч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31640" y="1267920"/>
            <a:ext cx="7497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обия для развития речевого дых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ртинный материал по соотнесению речевого звука с неречевым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едметные картинки на обследование фонематики и звукопроизношения  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ртинки -  символы для артикуляционной гимнастики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мплексы артикуляционной и пальчиковой гимнастик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дактические пособия для развития мелкой моторики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дактические игры по развитию фонематического слуха и восприят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обия по звуковому анализу и синтез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етодическая литература по вопросу развития звуковой культуры реч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402920" y="259920"/>
            <a:ext cx="7497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следование состояния устной речи воспитанников старш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 подготовительных групп ДОУ  показывает, что многие дети име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достатки речевого развития разного происхождения и характер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Воспитание звуков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дна из важных задач развит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чи в детском саду, так как именно дошкольный возраст являетс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иболее сензитивным для ее решения. Это понятие достаточ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широкое, оно включает в себя фонетическую и орфоэпическу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ильность речи, выразительность ее и четкую дикци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Цель   семинара – практикум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определить уровен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мпетентности педагогов в вопросах формирования звуков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льтуры речи и  умение применять знания в практике своей раб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астники семинара – практикума  две команды: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«Говоруньи»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«Болтуньи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орма проведени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участие в конкурс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Оцен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от 1 до 3 бал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Жюр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Захарченко С.А. – заведующий ДО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афизова Р.А. – зам. заведующего по ВМ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юпина Т.А. – педагог – психоло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еченко А.О. – музыкальный руководител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Артикуляционная и пальчиковая гимнастика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рмирование правильного произношения – сложный процесс. Ребенку предстоит научиться управлять своими органами речи, воспринимать обращенную к нему речь, осуществлять контроль за своей речью. Для чистого звукопроизношения нужны сильные, упругие и подвижные органы речи – язык, губы, мягкое небо. Все речевые органы состоят из мышц, которые можно тренировать. Для этого существует специальная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артикуляционная гимнас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чень часто у детей наблюдается  недостаточная координация мелкой моторики пальцев рук. Для развития двигательных умений важно проводить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альчиковые игр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желательно в сопровождении стих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стати, в Японии малыши начинают делать гимнастику для пальчиков с 2 – 3 месяце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екомендации к проведению артикуляционной  гимнастики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1692360" y="1341360"/>
            <a:ext cx="72723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проводить ежедневно в течение 3 – 5 минут, эмоционально , в игров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выполнять сидя, так как в таком положении у ребенка прямая спина, тело не напряжено, руки и ноги находятся в спокойном полож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делать не более 2 – 3 упражнений, причем два из них должны быть знакомы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работу над упражнением организовать следующим образом:   а)  рассказать об упражнении, используя игровой прием;   б)  показать его выполне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в) выполнить со всеми детьми;  г) проверить правильность выполнения упражнения (точность движения, плавность,  темп выполнения, устойчивость, переход от одного движения к другому)   по подгруппам (не более 5 дете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екомендации к проведению пальчиковой  гимнастик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31640" y="1989000"/>
            <a:ext cx="749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аниматься ежедневно 5 – 10 минут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пражнения без речевого сопровождения выполнять до пальчиковых игр, синхронизированных с речью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начала упражнения выполнять в медленном темпе, затем в более быстром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рабатывать движения вначале одной рукой, затем – другой и наконец двумя руками одновременно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ученные упражнения объединять в небольшие сказки и диалог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Конкурс «Развитие артикуляции и мелкой моторики рук»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16000" y="1447560"/>
            <a:ext cx="79200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Разми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«У бабушки с дедушкой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Толст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уки приехали в гост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 ними  -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худы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лишь кожа да кос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бушка с дедушкой всем улыбнулись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целова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они их потянулис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тром проснулись – в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улыбочку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губы. Чистим мы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верхние, нижние зуб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людца поставим – положат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блин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линчик жуем с вареньем малиновы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Дуе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 блинчик – не в щеки, не мим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Чаш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ставим, чтоб чаю нали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кусный был завтрак, никто не обиже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кажем «спасибо»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бы оближе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душка сделал для внуков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ачел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мы на них покачаться усп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ечером скачем на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лошад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ловк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вонко стучат по дороге подковк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т замедляет лошадки шажочки, и на опушке мы видим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рибоч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404280"/>
            <a:ext cx="7499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1. Знание органов артикуля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Ответьте на вопрос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ой главный артикуляционный орган у человека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ие части языка вы можете назвать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ие артикуляционные органы участвуют в образовании звуков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 образуется голос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ответить письменно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нание артикуляционных упражнен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мотрите на картинку, назовите упражнение, покажите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 его выполнить и объясните, для постановки каких звуков о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ется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3. Знание упражнений пальчиковой гимнаст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ждая команда выполняет комплекс пальчиковой гимнаст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38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Конкурс «Развитие фонематического слуха и восприятия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02920" y="141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1.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Назовите слова на заданный зву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команда – а, р.         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2 команда – о, з.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. Придумайте рифму к слов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 команда – зайка, подушка. 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2 команда – мишка, тропинк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rbel"/>
              </a:rPr>
              <a:t>3.Физминутк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. И.п. - встать, руки вдоль туловища, ноги на ширине плеч. Если в  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лове есть звук [б], хлопнуть в ладоши над головой, на остальные слова руки к плечам.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2. И.п. - основная стойка. На слово со звуком [з] наклон вперед, со звуком [с] наклон назад 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3. Сядет на место тот, кто назовет слово со звуком [м] в середине или конце слов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rbel"/>
              </a:rPr>
              <a:t>4. Подберите слово с наибольшим количеством букв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516600" indent="-43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екомендации по работе со скороговоркам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331640" y="1412640"/>
            <a:ext cx="7497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рмированию правильного произношения способствует хорошо развитый фонематический (речевой) слух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езными упражнениями для развития речевого слуха и дикции служат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скороговор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ак работать над ним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читать скороговорку и показать иллюстрации к н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ъяснить значение сложных сл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говорить скороговорку, прохлопывая ритм ладоня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вторить скороговорку три раза подряд в быстром темп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зять мяч и, ритмично подбрасывая и ловя его двумя руками, проговорить скороговор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у с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ословицами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комендуют начинать как можно раньше. Следует объяснить детям смысл пословиц, учить  применять их в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5:37:28Z</dcterms:created>
  <dc:creator>Наташа</dc:creator>
  <dc:description/>
  <dc:language>en-US</dc:language>
  <cp:lastModifiedBy>Настя</cp:lastModifiedBy>
  <dcterms:modified xsi:type="dcterms:W3CDTF">2016-08-27T20:02:15Z</dcterms:modified>
  <cp:revision>70</cp:revision>
  <dc:subject/>
  <dc:title>Семинар – практикум по теме:               «Звуковая культура речи».</dc:title>
</cp:coreProperties>
</file>