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023-DD6B-4A86-919B-DCA559A2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9FA-1CA7-47FC-8DAF-6E45F1F9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BEC-FCC7-4B43-A0F3-9310EFAF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6A5-2F6A-4C52-87BB-7E69333D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48C33-BE34-431C-BBA7-658E82C4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BF2D6-3512-435B-8EBB-6152059F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CAEED-C9FC-4EC6-BE46-0C45B1E1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54B29-ECD4-4BE1-9BDA-32421EFA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30052-5691-4E07-8BDC-D72B7DEC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10994-B0BE-46EC-BE87-B8F60FD5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D152C-1866-4AC4-8335-8C730255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F38-C574-4B82-AF85-86DBD22B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76886-4EC9-4A9B-A9DB-5F35E1EA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8AF86-9E65-4B80-A1FA-79E5B0C1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21D6F-6ED3-4E84-BF4B-D984718E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9B2CF-E198-49F2-AB4E-38F3C356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258A1-EA83-4F77-B282-E173226F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A55-5099-46F1-B038-BBDBE021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5A5-E2E2-45D0-8EDF-A4DDFDF5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10E-9D79-4622-8E4B-5D99B505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2F2-6FEF-4D94-8A6F-A07AA0E9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01A-5EC9-43C5-AF30-7F12724B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DEE-3957-481D-9E38-55AB8090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488-1DAF-4B8B-B050-E6F87D67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6AFB-892D-4E3A-8D94-C5764E12C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6137-DCB4-4338-BF0C-48B57B0B9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Упражнение в определении склонений имен существительных стоящих в косвенных падежах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92360" y="5084280"/>
            <a:ext cx="53928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грамма: Л. В. Занкова (1-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р: А. В. Полякова (3 класс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подаватель: Т. А. Арикайн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Провер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386000"/>
            <a:ext cx="8785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1 вар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.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2 вар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.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скл.                           2 скл.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скл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 ск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скл.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 ск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скл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 ск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Несклоняемые имена существительны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39640" y="620280"/>
            <a:ext cx="655308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Колибри, кенгуру, шосс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Фламинго, пони, шимпанз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Какао, кофе, домин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Алоэ, радио, кин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Такси, метро, купе, пальт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Кашне, кофе, трюмо, мант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И какаду, драже, пар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И интервью, рагу, жюр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И пианино и фой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Пюре, бюро и атель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Ты все слова запомина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Но никогда их не склоняй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291960"/>
            <a:ext cx="8964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Распредели слова в три группы по склонениям и дополни каждую группу своим словом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ОРОГА,  ДЕРЕВО, ЗДОРОВЬЕ,  СТОРОЖ,  ВЕЩЬ,  ЗИМА,  СНЕГ,  ТЕНЬ,  ИЗБУШКА,  СОЛНЦЕ,  ГНЕЗДО,  ПОЕЗДКА, ЮНОША,   МЫШЬ,   ПОЛНОЧЬ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ровер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534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 скл.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2 скл.            3 ск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рог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ерево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н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им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доровь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ыш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збушк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орож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полноч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ездк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нег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вещ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юнош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лнц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незд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бота с таблице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9280" y="2276640"/>
          <a:ext cx="8785080" cy="2016000"/>
        </p:xfrm>
        <a:graphic>
          <a:graphicData uri="http://schemas.openxmlformats.org/drawingml/2006/table">
            <a:tbl>
              <a:tblPr/>
              <a:tblGrid>
                <a:gridCol w="2759040"/>
                <a:gridCol w="1752840"/>
                <a:gridCol w="1949400"/>
                <a:gridCol w="2323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деж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ложный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книг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пенал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етрад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Тема урока. 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пределение склонений име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уществительных в косвенных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адеж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Работа с текст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37396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омпьютер помогает людям  разны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рофессий. Его можно найти в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ногих приборах   и аппаратах. О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чень облегчает жизнь. 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овременном автомобиле компьют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управляет работой двигателя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ычисляет скорость, измеря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асстояние. Может  предупреди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одителя  об опасности  на дорог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Алгорит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. Ставлю существительное в начальную форму (И. п.; ед. ч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. Определяю род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. Нахожу оконча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 По роду и окончанию определяю склоне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31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Закрепление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Работа в паре по алгоритму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690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вариант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ближался к деревне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вещался солнце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снежную пы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тро наступи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вари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ловил в озер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давался в тишин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веркает солн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ёмной ночью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6:52:59Z</dcterms:created>
  <dc:creator>Stuff</dc:creator>
  <dc:description/>
  <dc:language>en-US</dc:language>
  <cp:lastModifiedBy>Stuff</cp:lastModifiedBy>
  <dcterms:modified xsi:type="dcterms:W3CDTF">2007-02-19T19:07:41Z</dcterms:modified>
  <cp:revision>5</cp:revision>
  <dc:subject/>
  <dc:title>Упражнение в определении склонений имен существительных стоящих в косвенных падежах. </dc:title>
</cp:coreProperties>
</file>