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28.jpeg" ContentType="image/jpeg"/>
  <Override PartName="/ppt/media/image51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9.jpeg" ContentType="image/jpeg"/>
  <Override PartName="/ppt/media/image5.png" ContentType="image/png"/>
  <Override PartName="/ppt/media/image43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47.png" ContentType="image/png"/>
  <Override PartName="/ppt/media/image23.jpeg" ContentType="image/jpeg"/>
  <Override PartName="/ppt/media/image17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media/image45.png" ContentType="image/png"/>
  <Override PartName="/ppt/media/image37.jpeg" ContentType="image/jpeg"/>
  <Override PartName="/ppt/media/image50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32.jpeg" ContentType="image/jpeg"/>
  <Override PartName="/ppt/media/image38.jpeg" ContentType="image/jpeg"/>
  <Override PartName="/ppt/media/image49.jpeg" ContentType="image/jpe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19.jpeg" ContentType="image/jpeg"/>
  <Override PartName="/ppt/media/image42.jpeg" ContentType="image/jpeg"/>
  <Override PartName="/ppt/media/image6.png" ContentType="image/png"/>
  <Override PartName="/ppt/media/image44.png" ContentType="image/pn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БДОУ ДСКВ №55 "Улыбка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44330"/>
                </a:solidFill>
                <a:latin typeface="Gulim"/>
              </a:rPr>
              <a:t>Click to move the slide</a:t>
            </a: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A6F07-6796-4796-B6F8-1BC3C4AC285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Верхний колонтитул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БДОУ ДСКВ №55 "Улыбка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AFA6-21E8-4BCD-9A23-E136DFA26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F994-5A28-4FD7-A7CF-13843D422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0E42-01A5-43EB-BF8D-206C6C8D8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4EB8-1E58-4B70-BAFB-55CA0DC2B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C11D7-1E3E-40A6-B8BA-3B8908E6A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834FC-1A03-4AC1-B2B8-0D025302E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77620-7F7A-419A-A81A-BC517F096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B9FDA-1552-44AE-82C8-CE525C63E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BE6F7-38B3-4CAC-8FDB-8FACB7C22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12C70-BDB2-4BC4-B9A0-F6CD23627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2EC4A-8650-42B7-88EB-02AB447BE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1363-D546-4FB3-8D4A-96A80BC13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4FC2E-428D-4417-AB6F-FD4147C90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2B008-D746-44C4-A68A-DC637AB99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E3D56-773C-4988-975A-F6EBC6AA4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B4CA7-DE38-4CE9-8E76-5BD125C8E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BCB9A-B074-4CA0-BD60-802B49AD1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0D30-DF40-41D5-9D42-0263E3C0D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3265-8178-44EC-9D42-5B110230E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5B8F-3E96-4057-9641-78732CED8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93B9-4F2E-4CC4-8530-93D21D423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BE6E-2AD6-4940-9B09-9695B498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AA96-2336-4806-8471-2FD9B2226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CC2A-74C5-4DB7-8E64-E1FB025D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44330"/>
                </a:solidFill>
                <a:latin typeface="Gulim"/>
              </a:rPr>
              <a:t>Click to edit the title text format</a:t>
            </a: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1BD4A-50C6-401F-993E-57A5E5759B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44330"/>
                </a:solidFill>
                <a:latin typeface="Gulim"/>
              </a:rPr>
              <a:t>Click to edit the title text format</a:t>
            </a:r>
            <a:endParaRPr b="1" lang="en-US" sz="4800" spc="-1" strike="noStrike">
              <a:solidFill>
                <a:srgbClr val="f44330"/>
              </a:solidFill>
              <a:latin typeface="Gul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869DB-B3A8-4F26-BFD1-F05DEFBBCD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5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5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6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47.pn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2"/>
          <a:stretch/>
        </p:blipFill>
        <p:spPr>
          <a:xfrm>
            <a:off x="785880" y="1530360"/>
            <a:ext cx="7499160" cy="26812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5076360" y="5373720"/>
            <a:ext cx="3311640" cy="94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84807"/>
                </a:solidFill>
                <a:latin typeface="Bookman Old Style"/>
              </a:rPr>
              <a:t>Алаярова Э.Т,</a:t>
            </a:r>
            <a:endParaRPr b="0" lang="en-US" sz="1600" spc="-1" strike="noStrike">
              <a:solidFill>
                <a:srgbClr val="17375e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84807"/>
                </a:solidFill>
                <a:latin typeface="Bookman Old Style"/>
              </a:rPr>
              <a:t>воспитатель </a:t>
            </a:r>
            <a:endParaRPr b="0" lang="en-US" sz="1600" spc="-1" strike="noStrike">
              <a:solidFill>
                <a:srgbClr val="17375e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91" name="Rectangle 1"/>
          <p:cNvSpPr/>
          <p:nvPr/>
        </p:nvSpPr>
        <p:spPr>
          <a:xfrm>
            <a:off x="857160" y="858960"/>
            <a:ext cx="728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Муниципальное дошкольное образовательное учрежд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детский сад  №61 «Лель»</a:t>
            </a:r>
            <a:r>
              <a:rPr b="1" lang="ru-RU" sz="1400" spc="-1" strike="noStrike">
                <a:solidFill>
                  <a:srgbClr val="ff0000"/>
                </a:solidFill>
                <a:latin typeface="Bookman Old Styl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1"/>
          <p:cNvSpPr/>
          <p:nvPr/>
        </p:nvSpPr>
        <p:spPr>
          <a:xfrm>
            <a:off x="928800" y="430560"/>
            <a:ext cx="7286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Муниципальное дошкольное образовательное учрежд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детский сад  №61 «Лель»</a:t>
            </a:r>
            <a:r>
              <a:rPr b="1" lang="ru-RU" sz="1400" spc="-1" strike="noStrike">
                <a:solidFill>
                  <a:srgbClr val="ff0000"/>
                </a:solidFill>
                <a:latin typeface="Bookman Old Styl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Заголовок 1" descr=""/>
          <p:cNvPicPr/>
          <p:nvPr/>
        </p:nvPicPr>
        <p:blipFill>
          <a:blip r:embed="rId1"/>
          <a:stretch/>
        </p:blipFill>
        <p:spPr>
          <a:xfrm>
            <a:off x="500040" y="1000080"/>
            <a:ext cx="8229600" cy="1000080"/>
          </a:xfrm>
          <a:prstGeom prst="rect">
            <a:avLst/>
          </a:prstGeom>
          <a:ln w="0">
            <a:noFill/>
          </a:ln>
        </p:spPr>
      </p:pic>
      <p:sp>
        <p:nvSpPr>
          <p:cNvPr id="179" name="Блок-схема: альтернативный процесс 10"/>
          <p:cNvSpPr/>
          <p:nvPr/>
        </p:nvSpPr>
        <p:spPr>
          <a:xfrm>
            <a:off x="1000080" y="2000160"/>
            <a:ext cx="7345440" cy="571680"/>
          </a:xfrm>
          <a:prstGeom prst="flowChartAlternateProcess">
            <a:avLst/>
          </a:prstGeom>
          <a:solidFill>
            <a:srgbClr val="cf9b3d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оздание благоприятной эмоциональной обстановки. Формирование интереса и желания к выполнению заданий. Дыхательная гимнастика «Вьюг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Группа 7"/>
          <p:cNvGrpSpPr/>
          <p:nvPr/>
        </p:nvGrpSpPr>
        <p:grpSpPr>
          <a:xfrm>
            <a:off x="6732720" y="4214880"/>
            <a:ext cx="2160360" cy="2022480"/>
            <a:chOff x="6732720" y="4214880"/>
            <a:chExt cx="2160360" cy="2022480"/>
          </a:xfrm>
        </p:grpSpPr>
        <p:pic>
          <p:nvPicPr>
            <p:cNvPr id="181" name="Рисунок 8" descr="0_29aa2_bd85cf40_XL.jpeg"/>
            <p:cNvPicPr/>
            <p:nvPr/>
          </p:nvPicPr>
          <p:blipFill>
            <a:blip r:embed="rId2"/>
            <a:stretch/>
          </p:blipFill>
          <p:spPr>
            <a:xfrm>
              <a:off x="7812720" y="4214880"/>
              <a:ext cx="1080000" cy="61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Рисунок 9" descr="0_29aa2_bd85cf40_XL.jpeg"/>
            <p:cNvPicPr/>
            <p:nvPr/>
          </p:nvPicPr>
          <p:blipFill>
            <a:blip r:embed="rId3"/>
            <a:stretch/>
          </p:blipFill>
          <p:spPr>
            <a:xfrm>
              <a:off x="6732720" y="4214880"/>
              <a:ext cx="1080000" cy="61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Рисунок 12" descr="0_29aa2_bd85cf40_XL.jpeg"/>
            <p:cNvPicPr/>
            <p:nvPr/>
          </p:nvPicPr>
          <p:blipFill>
            <a:blip r:embed="rId4"/>
            <a:stretch/>
          </p:blipFill>
          <p:spPr>
            <a:xfrm>
              <a:off x="7780320" y="5879160"/>
              <a:ext cx="1112760" cy="35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Рисунок 14" descr="0_29aa2_bd85cf40_XL.jpeg"/>
            <p:cNvPicPr/>
            <p:nvPr/>
          </p:nvPicPr>
          <p:blipFill>
            <a:blip r:embed="rId5"/>
            <a:stretch/>
          </p:blipFill>
          <p:spPr>
            <a:xfrm>
              <a:off x="8140320" y="4825800"/>
              <a:ext cx="752760" cy="37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Рисунок 15" descr="0_29aa2_bd85cf40_XL.jpeg"/>
            <p:cNvPicPr/>
            <p:nvPr/>
          </p:nvPicPr>
          <p:blipFill>
            <a:blip r:embed="rId6"/>
            <a:stretch/>
          </p:blipFill>
          <p:spPr>
            <a:xfrm>
              <a:off x="6732720" y="4825800"/>
              <a:ext cx="1407600" cy="37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Рисунок 16" descr="0_29aa2_bd85cf40_XL.jpeg"/>
            <p:cNvPicPr/>
            <p:nvPr/>
          </p:nvPicPr>
          <p:blipFill>
            <a:blip r:embed="rId7"/>
            <a:stretch/>
          </p:blipFill>
          <p:spPr>
            <a:xfrm>
              <a:off x="6732720" y="5204880"/>
              <a:ext cx="2160360" cy="69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Рисунок 17" descr="0_29aa2_bd85cf40_XL.jpeg"/>
            <p:cNvPicPr/>
            <p:nvPr/>
          </p:nvPicPr>
          <p:blipFill>
            <a:blip r:embed="rId8"/>
            <a:stretch/>
          </p:blipFill>
          <p:spPr>
            <a:xfrm>
              <a:off x="6732720" y="5900400"/>
              <a:ext cx="1047600" cy="336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8" name="Рисунок 2" descr=""/>
          <p:cNvPicPr/>
          <p:nvPr/>
        </p:nvPicPr>
        <p:blipFill>
          <a:blip r:embed="rId9"/>
          <a:stretch/>
        </p:blipFill>
        <p:spPr>
          <a:xfrm>
            <a:off x="1403280" y="3594240"/>
            <a:ext cx="271008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Рисунок 3" descr="1286374795_2.jpg"/>
          <p:cNvPicPr/>
          <p:nvPr/>
        </p:nvPicPr>
        <p:blipFill>
          <a:blip r:embed="rId1"/>
          <a:stretch/>
        </p:blipFill>
        <p:spPr>
          <a:xfrm>
            <a:off x="6000840" y="2428920"/>
            <a:ext cx="2361960" cy="342900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1"/>
          <p:cNvSpPr/>
          <p:nvPr/>
        </p:nvSpPr>
        <p:spPr>
          <a:xfrm>
            <a:off x="928800" y="430560"/>
            <a:ext cx="7286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Муниципальное дошкольное образовательное учрежд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детский сад  №61 «Лель»</a:t>
            </a:r>
            <a:r>
              <a:rPr b="1" lang="ru-RU" sz="1400" spc="-1" strike="noStrike">
                <a:solidFill>
                  <a:srgbClr val="ff0000"/>
                </a:solidFill>
                <a:latin typeface="Bookman Old Styl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Заголовок 1" descr=""/>
          <p:cNvPicPr/>
          <p:nvPr/>
        </p:nvPicPr>
        <p:blipFill>
          <a:blip r:embed="rId2"/>
          <a:stretch/>
        </p:blipFill>
        <p:spPr>
          <a:xfrm>
            <a:off x="500040" y="1000080"/>
            <a:ext cx="8229600" cy="10000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 txBox="1"/>
          <p:nvPr/>
        </p:nvSpPr>
        <p:spPr>
          <a:xfrm>
            <a:off x="2928960" y="2285640"/>
            <a:ext cx="292896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93366"/>
                </a:solidFill>
                <a:latin typeface="Calibri"/>
              </a:rPr>
              <a:t> </a:t>
            </a:r>
            <a:r>
              <a:rPr b="1" i="1" lang="ru-RU" sz="1600" spc="-1" strike="noStrike">
                <a:solidFill>
                  <a:srgbClr val="993366"/>
                </a:solidFill>
                <a:latin typeface="Calibri"/>
              </a:rPr>
              <a:t>Первое  задание </a:t>
            </a:r>
            <a:endParaRPr b="0" lang="en-US" sz="1600" spc="-1" strike="noStrike">
              <a:solidFill>
                <a:srgbClr val="17375e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Calibri"/>
              </a:rPr>
              <a:t>Д/У «Нарисуй снежинки» (по точкам яркими фломастерами - развитие мелкой моторики) </a:t>
            </a:r>
            <a:endParaRPr b="0" lang="en-US" sz="1600" spc="-1" strike="noStrike">
              <a:solidFill>
                <a:srgbClr val="17375e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Calibri"/>
              </a:rPr>
              <a:t>После выполнения задания воспитатель обращается к картине:</a:t>
            </a:r>
            <a:endParaRPr b="0" lang="en-US" sz="1600" spc="-1" strike="noStrike">
              <a:solidFill>
                <a:srgbClr val="17375e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93366"/>
                </a:solidFill>
                <a:latin typeface="Calibri"/>
              </a:rPr>
              <a:t>Дети стоят полукругом перед экраном</a:t>
            </a:r>
            <a:endParaRPr b="0" lang="en-US" sz="1600" spc="-1" strike="noStrike">
              <a:solidFill>
                <a:srgbClr val="17375e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Calibri"/>
              </a:rPr>
              <a:t>Молодцы! Первая снежинка растаяла! Какое время года видите на картине? (Зима).  Д/У «Докажите, что изображена зима</a:t>
            </a: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.»</a:t>
            </a:r>
            <a:endParaRPr b="0" lang="en-US" sz="1400" spc="-1" strike="noStrike">
              <a:solidFill>
                <a:srgbClr val="17375e"/>
              </a:solidFill>
              <a:latin typeface="Calibri"/>
            </a:endParaRPr>
          </a:p>
        </p:txBody>
      </p:sp>
      <p:grpSp>
        <p:nvGrpSpPr>
          <p:cNvPr id="193" name="Группа 25"/>
          <p:cNvGrpSpPr/>
          <p:nvPr/>
        </p:nvGrpSpPr>
        <p:grpSpPr>
          <a:xfrm>
            <a:off x="6000840" y="2428920"/>
            <a:ext cx="2357280" cy="3500280"/>
            <a:chOff x="6000840" y="2428920"/>
            <a:chExt cx="2357280" cy="3500280"/>
          </a:xfrm>
        </p:grpSpPr>
        <p:pic>
          <p:nvPicPr>
            <p:cNvPr id="194" name="Рисунок 26" descr="0_29aa2_bd85cf40_XL.jpeg"/>
            <p:cNvPicPr/>
            <p:nvPr/>
          </p:nvPicPr>
          <p:blipFill>
            <a:blip r:embed="rId3"/>
            <a:stretch/>
          </p:blipFill>
          <p:spPr>
            <a:xfrm>
              <a:off x="6000840" y="2428920"/>
              <a:ext cx="1178640" cy="105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Рисунок 27" descr="0_29aa2_bd85cf40_XL.jpeg"/>
            <p:cNvPicPr/>
            <p:nvPr/>
          </p:nvPicPr>
          <p:blipFill>
            <a:blip r:embed="rId4"/>
            <a:stretch/>
          </p:blipFill>
          <p:spPr>
            <a:xfrm>
              <a:off x="7143840" y="5309640"/>
              <a:ext cx="1214280" cy="61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Рисунок 28" descr="0_29aa2_bd85cf40_XL.jpeg"/>
            <p:cNvPicPr/>
            <p:nvPr/>
          </p:nvPicPr>
          <p:blipFill>
            <a:blip r:embed="rId5"/>
            <a:stretch/>
          </p:blipFill>
          <p:spPr>
            <a:xfrm>
              <a:off x="7536600" y="3486240"/>
              <a:ext cx="821520" cy="65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Рисунок 29" descr="0_29aa2_bd85cf40_XL.jpeg"/>
            <p:cNvPicPr/>
            <p:nvPr/>
          </p:nvPicPr>
          <p:blipFill>
            <a:blip r:embed="rId6"/>
            <a:stretch/>
          </p:blipFill>
          <p:spPr>
            <a:xfrm>
              <a:off x="6000840" y="3486240"/>
              <a:ext cx="1535760" cy="65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Рисунок 30" descr="0_29aa2_bd85cf40_XL.jpeg"/>
            <p:cNvPicPr/>
            <p:nvPr/>
          </p:nvPicPr>
          <p:blipFill>
            <a:blip r:embed="rId7"/>
            <a:stretch/>
          </p:blipFill>
          <p:spPr>
            <a:xfrm>
              <a:off x="6000840" y="4142520"/>
              <a:ext cx="2357280" cy="120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Рисунок 31" descr="0_29aa2_bd85cf40_XL.jpeg"/>
            <p:cNvPicPr/>
            <p:nvPr/>
          </p:nvPicPr>
          <p:blipFill>
            <a:blip r:embed="rId8"/>
            <a:stretch/>
          </p:blipFill>
          <p:spPr>
            <a:xfrm>
              <a:off x="6000840" y="5346000"/>
              <a:ext cx="1143000" cy="583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0" name="Picture 15" descr=""/>
          <p:cNvPicPr/>
          <p:nvPr/>
        </p:nvPicPr>
        <p:blipFill>
          <a:blip r:embed="rId9"/>
          <a:stretch/>
        </p:blipFill>
        <p:spPr>
          <a:xfrm rot="5962800">
            <a:off x="264240" y="2781720"/>
            <a:ext cx="3003480" cy="19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Рисунок 3" descr="1286374795_2.jpg"/>
          <p:cNvPicPr/>
          <p:nvPr/>
        </p:nvPicPr>
        <p:blipFill>
          <a:blip r:embed="rId1"/>
          <a:stretch/>
        </p:blipFill>
        <p:spPr>
          <a:xfrm>
            <a:off x="5929200" y="1214280"/>
            <a:ext cx="2643480" cy="383724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1"/>
          <p:cNvSpPr/>
          <p:nvPr/>
        </p:nvSpPr>
        <p:spPr>
          <a:xfrm>
            <a:off x="928800" y="430560"/>
            <a:ext cx="7286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Муниципальное дошкольное образовательное учрежд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детский сад  №61 «Лель»</a:t>
            </a:r>
            <a:r>
              <a:rPr b="1" lang="ru-RU" sz="1400" spc="-1" strike="noStrike">
                <a:solidFill>
                  <a:srgbClr val="ff0000"/>
                </a:solidFill>
                <a:latin typeface="Bookman Old Styl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42960" y="1142640"/>
            <a:ext cx="521496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800080"/>
                </a:solidFill>
                <a:latin typeface="Calibri"/>
              </a:rPr>
              <a:t>Второе  задание</a:t>
            </a:r>
            <a:r>
              <a:rPr b="0" lang="ru-RU" sz="1600" spc="-1" strike="noStrike">
                <a:solidFill>
                  <a:srgbClr val="660066"/>
                </a:solidFill>
                <a:latin typeface="Calibri"/>
              </a:rPr>
              <a:t>: </a:t>
            </a:r>
            <a:r>
              <a:rPr b="1" lang="ru-RU" sz="1800" spc="-1" strike="noStrike" u="sng">
                <a:solidFill>
                  <a:srgbClr val="660066"/>
                </a:solidFill>
                <a:uFillTx/>
                <a:latin typeface="Calibri"/>
              </a:rPr>
              <a:t> Д/и «Снежный ком»</a:t>
            </a:r>
            <a:endParaRPr b="0" lang="en-US" sz="18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Calibri"/>
              </a:rPr>
              <a:t>Дети встают в круг</a:t>
            </a: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, передают по кругу мячик и называют зимние слова: “Снежинки, сугробы, санки, горка, лыжи, холод, мороз, лед” и т.д.</a:t>
            </a:r>
            <a:endParaRPr b="0" lang="en-US" sz="18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Растаяла вторая снежинка. Что вы видите? (Птиц)</a:t>
            </a:r>
            <a:endParaRPr b="0" lang="en-US" sz="18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Calibri"/>
              </a:rPr>
              <a:t>Дети садятся перед проектором на стульчики полукругом.</a:t>
            </a:r>
            <a:endParaRPr b="0" lang="en-US" sz="18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0000ff"/>
                </a:solidFill>
                <a:latin typeface="Calibri"/>
              </a:rPr>
              <a:t>«А давайте подберем слова про птиц»</a:t>
            </a:r>
            <a:endParaRPr b="0" lang="en-US" sz="18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660066"/>
                </a:solidFill>
                <a:uFillTx/>
                <a:latin typeface="Calibri"/>
              </a:rPr>
              <a:t>Д/у «Скажи какой»</a:t>
            </a:r>
            <a:endParaRPr b="0" lang="en-US" sz="18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ff"/>
                </a:solidFill>
                <a:latin typeface="Calibri"/>
              </a:rPr>
              <a:t>Обогащать речь прилагательными и глаголами:</a:t>
            </a:r>
            <a:endParaRPr b="0" lang="en-US" sz="16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Птицы (маленькие, красивые, озябшие), Синичка, воробьи.</a:t>
            </a:r>
            <a:endParaRPr b="0" lang="en-US" sz="18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Птицы летают,…(чирикают, сидят на ветках).</a:t>
            </a:r>
            <a:endParaRPr b="0" lang="en-US" sz="1800" spc="-1" strike="noStrike">
              <a:solidFill>
                <a:srgbClr val="17375e"/>
              </a:solidFill>
              <a:latin typeface="Calibri"/>
            </a:endParaRPr>
          </a:p>
        </p:txBody>
      </p:sp>
      <p:grpSp>
        <p:nvGrpSpPr>
          <p:cNvPr id="204" name="Группа 25"/>
          <p:cNvGrpSpPr/>
          <p:nvPr/>
        </p:nvGrpSpPr>
        <p:grpSpPr>
          <a:xfrm>
            <a:off x="5929200" y="2500200"/>
            <a:ext cx="2714760" cy="2500560"/>
            <a:chOff x="5929200" y="2500200"/>
            <a:chExt cx="2714760" cy="2500560"/>
          </a:xfrm>
        </p:grpSpPr>
        <p:pic>
          <p:nvPicPr>
            <p:cNvPr id="205" name="Рисунок 27" descr="0_29aa2_bd85cf40_XL.jpeg"/>
            <p:cNvPicPr/>
            <p:nvPr/>
          </p:nvPicPr>
          <p:blipFill>
            <a:blip r:embed="rId2"/>
            <a:stretch/>
          </p:blipFill>
          <p:spPr>
            <a:xfrm>
              <a:off x="7245360" y="4366440"/>
              <a:ext cx="1398600" cy="63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Рисунок 28" descr="0_29aa2_bd85cf40_XL.jpeg"/>
            <p:cNvPicPr/>
            <p:nvPr/>
          </p:nvPicPr>
          <p:blipFill>
            <a:blip r:embed="rId3"/>
            <a:stretch/>
          </p:blipFill>
          <p:spPr>
            <a:xfrm>
              <a:off x="7697880" y="2500200"/>
              <a:ext cx="946080" cy="67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Рисунок 29" descr="0_29aa2_bd85cf40_XL.jpeg"/>
            <p:cNvPicPr/>
            <p:nvPr/>
          </p:nvPicPr>
          <p:blipFill>
            <a:blip r:embed="rId4"/>
            <a:stretch/>
          </p:blipFill>
          <p:spPr>
            <a:xfrm>
              <a:off x="5929200" y="2500200"/>
              <a:ext cx="1768680" cy="67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Рисунок 30" descr="0_29aa2_bd85cf40_XL.jpeg"/>
            <p:cNvPicPr/>
            <p:nvPr/>
          </p:nvPicPr>
          <p:blipFill>
            <a:blip r:embed="rId5"/>
            <a:stretch/>
          </p:blipFill>
          <p:spPr>
            <a:xfrm>
              <a:off x="5929200" y="3171960"/>
              <a:ext cx="2714760" cy="123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Рисунок 31" descr="0_29aa2_bd85cf40_XL.jpeg"/>
            <p:cNvPicPr/>
            <p:nvPr/>
          </p:nvPicPr>
          <p:blipFill>
            <a:blip r:embed="rId6"/>
            <a:stretch/>
          </p:blipFill>
          <p:spPr>
            <a:xfrm>
              <a:off x="5929200" y="4403880"/>
              <a:ext cx="1316160" cy="596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0" name="Рисунок 2" descr=""/>
          <p:cNvPicPr/>
          <p:nvPr/>
        </p:nvPicPr>
        <p:blipFill>
          <a:blip r:embed="rId7"/>
          <a:stretch/>
        </p:blipFill>
        <p:spPr>
          <a:xfrm>
            <a:off x="250920" y="4122720"/>
            <a:ext cx="247644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1"/>
          <p:cNvSpPr/>
          <p:nvPr/>
        </p:nvSpPr>
        <p:spPr>
          <a:xfrm>
            <a:off x="928800" y="430560"/>
            <a:ext cx="7286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Муниципальное дошкольное образовательное учрежд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детский сад  №61 «Лель»</a:t>
            </a:r>
            <a:r>
              <a:rPr b="1" lang="ru-RU" sz="1400" spc="-1" strike="noStrike">
                <a:solidFill>
                  <a:srgbClr val="ff0000"/>
                </a:solidFill>
                <a:latin typeface="Bookman Old Styl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24000" y="1123560"/>
            <a:ext cx="518472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80"/>
                </a:solidFill>
                <a:latin typeface="Calibri"/>
              </a:rPr>
              <a:t>Третье  задание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: </a:t>
            </a:r>
            <a:r>
              <a:rPr b="1" i="1" lang="ru-RU" sz="1100" spc="-1" strike="noStrike">
                <a:solidFill>
                  <a:srgbClr val="0000ff"/>
                </a:solidFill>
                <a:latin typeface="Calibri"/>
              </a:rPr>
              <a:t>Отгадай загадку </a:t>
            </a:r>
            <a:endParaRPr b="0" lang="en-US" sz="11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i="1" lang="ru-RU" sz="1100" spc="-1" strike="noStrike">
                <a:solidFill>
                  <a:srgbClr val="0000ff"/>
                </a:solidFill>
                <a:latin typeface="Calibri"/>
              </a:rPr>
              <a:t>(Дети встают полукругом)</a:t>
            </a:r>
            <a:endParaRPr b="0" lang="en-US" sz="11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ff"/>
                </a:solidFill>
                <a:latin typeface="Calibri"/>
              </a:rPr>
              <a:t>Чик-чирик! К зернышкам прыг </a:t>
            </a:r>
            <a:r>
              <a:rPr b="1" i="1" lang="ru-RU" sz="11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i="1" lang="ru-RU" sz="11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i="1" lang="ru-RU" sz="1100" spc="-1" strike="noStrike">
                <a:solidFill>
                  <a:srgbClr val="0000ff"/>
                </a:solidFill>
                <a:latin typeface="Calibri"/>
              </a:rPr>
              <a:t>         Синяя косынка, темненькая спинка.!</a:t>
            </a:r>
            <a:endParaRPr b="0" lang="en-US" sz="11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ff"/>
                </a:solidFill>
                <a:latin typeface="Calibri"/>
              </a:rPr>
              <a:t>Клюй, не робей! Кто это? (Воробей) </a:t>
            </a:r>
            <a:r>
              <a:rPr b="1" i="1" lang="ru-RU" sz="11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i="1" lang="ru-RU" sz="1100" spc="-1" strike="noStrike">
                <a:solidFill>
                  <a:srgbClr val="0000ff"/>
                </a:solidFill>
                <a:latin typeface="Calibri"/>
              </a:rPr>
              <a:t>Маленькая птичка. Звать ее ...(Синичка)</a:t>
            </a:r>
            <a:endParaRPr b="0" lang="en-US" sz="11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 algn="ctr">
              <a:lnSpc>
                <a:spcPct val="6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ff"/>
                </a:solidFill>
                <a:latin typeface="Calibri"/>
              </a:rPr>
              <a:t>Что за стол среди берез</a:t>
            </a:r>
            <a:endParaRPr b="0" lang="en-US" sz="11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 algn="ctr">
              <a:lnSpc>
                <a:spcPct val="6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ff"/>
                </a:solidFill>
                <a:latin typeface="Calibri"/>
              </a:rPr>
              <a:t>Под открытым небом?</a:t>
            </a:r>
            <a:endParaRPr b="0" lang="en-US" sz="11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 algn="ctr">
              <a:lnSpc>
                <a:spcPct val="6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ff"/>
                </a:solidFill>
                <a:latin typeface="Calibri"/>
              </a:rPr>
              <a:t>Угощает он в мороз</a:t>
            </a:r>
            <a:endParaRPr b="0" lang="en-US" sz="11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 algn="ctr">
              <a:lnSpc>
                <a:spcPct val="6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ff"/>
                </a:solidFill>
                <a:latin typeface="Calibri"/>
              </a:rPr>
              <a:t>Птиц зерном и хлебом. (Кормушка)</a:t>
            </a:r>
            <a:endParaRPr b="0" lang="en-US" sz="11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800080"/>
                </a:solidFill>
                <a:latin typeface="Calibri"/>
              </a:rPr>
              <a:t>Еще растаяли снежинки.</a:t>
            </a:r>
            <a:r>
              <a:rPr b="1" i="1" lang="ru-RU" sz="1100" spc="-1" strike="noStrike">
                <a:solidFill>
                  <a:srgbClr val="0000ff"/>
                </a:solidFill>
                <a:latin typeface="Calibri"/>
              </a:rPr>
              <a:t> Что теперь мы видим на картине?</a:t>
            </a:r>
            <a:endParaRPr b="0" lang="en-US" sz="11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ff"/>
                </a:solidFill>
                <a:latin typeface="Calibri"/>
              </a:rPr>
              <a:t>Д/и «Волшебная цепочка».</a:t>
            </a:r>
            <a:endParaRPr b="0" lang="en-US" sz="11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i="1" lang="ru-RU" sz="1100" spc="-1" strike="noStrike">
                <a:solidFill>
                  <a:srgbClr val="0000ff"/>
                </a:solidFill>
                <a:latin typeface="Calibri"/>
              </a:rPr>
              <a:t>Эта игра вам поможет составить интересный и содержательный рассказ по картине. </a:t>
            </a:r>
            <a:endParaRPr b="0" lang="en-US" sz="11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ff"/>
                </a:solidFill>
                <a:latin typeface="Calibri"/>
              </a:rPr>
              <a:t>Я буду говорить короткое предложение, а кто поймает мячик дополняет моё предложение одним словом. Следующий ребёнок к этому предложению добавляет ещё одно слово и таким образом увеличивает  предложение ещё на одно слово. Получается цепочка. Давайте попробуем.</a:t>
            </a:r>
            <a:endParaRPr b="0" lang="en-US" sz="11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800080"/>
                </a:solidFill>
                <a:latin typeface="Calibri"/>
              </a:rPr>
              <a:t>На ветке сидят …</a:t>
            </a:r>
            <a:endParaRPr b="0" lang="en-US" sz="11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800080"/>
                </a:solidFill>
                <a:latin typeface="Calibri"/>
              </a:rPr>
              <a:t>Синичка нахохлилась …</a:t>
            </a:r>
            <a:endParaRPr b="0" lang="en-US" sz="11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800080"/>
                </a:solidFill>
                <a:latin typeface="Calibri"/>
              </a:rPr>
              <a:t>Воробьи чирикают…</a:t>
            </a:r>
            <a:endParaRPr b="0" lang="en-US" sz="1100" spc="-1" strike="noStrike">
              <a:solidFill>
                <a:srgbClr val="17375e"/>
              </a:solidFill>
              <a:latin typeface="Calibri"/>
            </a:endParaRPr>
          </a:p>
        </p:txBody>
      </p:sp>
      <p:grpSp>
        <p:nvGrpSpPr>
          <p:cNvPr id="213" name="Группа 10"/>
          <p:cNvGrpSpPr/>
          <p:nvPr/>
        </p:nvGrpSpPr>
        <p:grpSpPr>
          <a:xfrm>
            <a:off x="5929200" y="1214280"/>
            <a:ext cx="2714760" cy="3837240"/>
            <a:chOff x="5929200" y="1214280"/>
            <a:chExt cx="2714760" cy="3837240"/>
          </a:xfrm>
        </p:grpSpPr>
        <p:pic>
          <p:nvPicPr>
            <p:cNvPr id="214" name="Рисунок 3" descr="1286374795_2.jpg"/>
            <p:cNvPicPr/>
            <p:nvPr/>
          </p:nvPicPr>
          <p:blipFill>
            <a:blip r:embed="rId1"/>
            <a:stretch/>
          </p:blipFill>
          <p:spPr>
            <a:xfrm>
              <a:off x="5929200" y="1214280"/>
              <a:ext cx="2643480" cy="3837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5" name="Группа 25"/>
            <p:cNvGrpSpPr/>
            <p:nvPr/>
          </p:nvGrpSpPr>
          <p:grpSpPr>
            <a:xfrm>
              <a:off x="5929200" y="2500200"/>
              <a:ext cx="2714760" cy="2499840"/>
              <a:chOff x="5929200" y="2500200"/>
              <a:chExt cx="2714760" cy="2499840"/>
            </a:xfrm>
          </p:grpSpPr>
          <p:pic>
            <p:nvPicPr>
              <p:cNvPr id="216" name="Рисунок 29" descr="0_29aa2_bd85cf40_XL.jpeg"/>
              <p:cNvPicPr/>
              <p:nvPr/>
            </p:nvPicPr>
            <p:blipFill>
              <a:blip r:embed="rId2"/>
              <a:stretch/>
            </p:blipFill>
            <p:spPr>
              <a:xfrm>
                <a:off x="5929200" y="2500200"/>
                <a:ext cx="1857600" cy="671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7" name="Рисунок 30" descr="0_29aa2_bd85cf40_XL.jpeg"/>
              <p:cNvPicPr/>
              <p:nvPr/>
            </p:nvPicPr>
            <p:blipFill>
              <a:blip r:embed="rId3"/>
              <a:stretch/>
            </p:blipFill>
            <p:spPr>
              <a:xfrm>
                <a:off x="5929200" y="3171600"/>
                <a:ext cx="2714760" cy="123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8" name="Рисунок 31" descr="0_29aa2_bd85cf40_XL.jpeg"/>
              <p:cNvPicPr/>
              <p:nvPr/>
            </p:nvPicPr>
            <p:blipFill>
              <a:blip r:embed="rId4"/>
              <a:stretch/>
            </p:blipFill>
            <p:spPr>
              <a:xfrm>
                <a:off x="5929200" y="4403160"/>
                <a:ext cx="1316160" cy="596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219" name="Рисунок 2" descr=""/>
          <p:cNvPicPr/>
          <p:nvPr/>
        </p:nvPicPr>
        <p:blipFill>
          <a:blip r:embed="rId5"/>
          <a:stretch/>
        </p:blipFill>
        <p:spPr>
          <a:xfrm>
            <a:off x="844560" y="3876840"/>
            <a:ext cx="313200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"/>
          <p:cNvSpPr/>
          <p:nvPr/>
        </p:nvSpPr>
        <p:spPr>
          <a:xfrm>
            <a:off x="928800" y="430560"/>
            <a:ext cx="7286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Муниципальное дошкольное образовательное учрежд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детский сад  №61 «Лель»</a:t>
            </a:r>
            <a:r>
              <a:rPr b="1" lang="ru-RU" sz="1400" spc="-1" strike="noStrike">
                <a:solidFill>
                  <a:srgbClr val="ff0000"/>
                </a:solidFill>
                <a:latin typeface="Bookman Old Styl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28400" y="3857400"/>
            <a:ext cx="6143400" cy="22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ff"/>
                </a:solidFill>
                <a:uFillTx/>
                <a:latin typeface="Calibri"/>
              </a:rPr>
              <a:t>Игра – упражнение «Угадай-ка!»</a:t>
            </a:r>
            <a:r>
              <a:rPr b="1" lang="ru-RU" sz="1500" spc="-1" strike="noStrike">
                <a:solidFill>
                  <a:srgbClr val="0000ff"/>
                </a:solidFill>
                <a:latin typeface="Calibri"/>
              </a:rPr>
              <a:t> Один из фрагментов картины закрывается экраном. Перед детьми ставится задача представить и воспроизвести в речи наглядное содержание данного фрагмента. Педагог, помогая детям, называет место действия, изображённого на закрытой части картины. Дети, ориентируясь на общее содержание картины, говорят о персонажах и их действиях, а педагог отмечает правильно угаданные варианты (персонажи, предметы, моменты действия).</a:t>
            </a:r>
            <a:endParaRPr b="0" lang="en-US" sz="15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800080"/>
                </a:solidFill>
                <a:latin typeface="Calibri"/>
              </a:rPr>
              <a:t>Раскрывается вся картина. Все снежинки растаяли.  Теперь мы с вами сможем составить рассказ по всей картине</a:t>
            </a:r>
            <a:endParaRPr b="0" lang="en-US" sz="15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22" name="Содержимое 2"/>
          <p:cNvSpPr/>
          <p:nvPr/>
        </p:nvSpPr>
        <p:spPr>
          <a:xfrm>
            <a:off x="468360" y="1366920"/>
            <a:ext cx="38275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800080"/>
                </a:solidFill>
                <a:latin typeface="Calibri"/>
              </a:rPr>
              <a:t>Физкультминутка . Дети превратились в снежинки и под музыку кружатся, с окончанием музыки приседают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Группа 16"/>
          <p:cNvGrpSpPr/>
          <p:nvPr/>
        </p:nvGrpSpPr>
        <p:grpSpPr>
          <a:xfrm>
            <a:off x="6715080" y="3643200"/>
            <a:ext cx="1500120" cy="2265480"/>
            <a:chOff x="6715080" y="3643200"/>
            <a:chExt cx="1500120" cy="2265480"/>
          </a:xfrm>
        </p:grpSpPr>
        <p:pic>
          <p:nvPicPr>
            <p:cNvPr id="224" name="Рисунок 3" descr="1286374795_2.jpg"/>
            <p:cNvPicPr/>
            <p:nvPr/>
          </p:nvPicPr>
          <p:blipFill>
            <a:blip r:embed="rId1"/>
            <a:stretch/>
          </p:blipFill>
          <p:spPr>
            <a:xfrm>
              <a:off x="6715080" y="3643200"/>
              <a:ext cx="1460880" cy="2265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5" name="Группа 25"/>
            <p:cNvGrpSpPr/>
            <p:nvPr/>
          </p:nvGrpSpPr>
          <p:grpSpPr>
            <a:xfrm>
              <a:off x="6715080" y="4402440"/>
              <a:ext cx="1500120" cy="1476000"/>
              <a:chOff x="6715080" y="4402440"/>
              <a:chExt cx="1500120" cy="1476000"/>
            </a:xfrm>
          </p:grpSpPr>
          <p:pic>
            <p:nvPicPr>
              <p:cNvPr id="226" name="Рисунок 19" descr="0_29aa2_bd85cf40_XL.jpeg"/>
              <p:cNvPicPr/>
              <p:nvPr/>
            </p:nvPicPr>
            <p:blipFill>
              <a:blip r:embed="rId2"/>
              <a:stretch/>
            </p:blipFill>
            <p:spPr>
              <a:xfrm>
                <a:off x="6715080" y="4402440"/>
                <a:ext cx="1026360" cy="396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7" name="Рисунок 20" descr="0_29aa2_bd85cf40_XL.jpeg"/>
              <p:cNvPicPr/>
              <p:nvPr/>
            </p:nvPicPr>
            <p:blipFill>
              <a:blip r:embed="rId3"/>
              <a:stretch/>
            </p:blipFill>
            <p:spPr>
              <a:xfrm>
                <a:off x="6715080" y="4798800"/>
                <a:ext cx="1500120" cy="726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8" name="Рисунок 21" descr="0_29aa2_bd85cf40_XL.jpeg"/>
              <p:cNvPicPr/>
              <p:nvPr/>
            </p:nvPicPr>
            <p:blipFill>
              <a:blip r:embed="rId4"/>
              <a:stretch/>
            </p:blipFill>
            <p:spPr>
              <a:xfrm>
                <a:off x="6715080" y="5526000"/>
                <a:ext cx="727200" cy="352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229" name="Рисунок 2" descr=""/>
          <p:cNvPicPr/>
          <p:nvPr/>
        </p:nvPicPr>
        <p:blipFill>
          <a:blip r:embed="rId5"/>
          <a:stretch/>
        </p:blipFill>
        <p:spPr>
          <a:xfrm>
            <a:off x="4967280" y="1519200"/>
            <a:ext cx="2076480" cy="155736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5" descr=""/>
          <p:cNvPicPr/>
          <p:nvPr/>
        </p:nvPicPr>
        <p:blipFill>
          <a:blip r:embed="rId6"/>
          <a:stretch/>
        </p:blipFill>
        <p:spPr>
          <a:xfrm>
            <a:off x="1187280" y="2297160"/>
            <a:ext cx="1800360" cy="13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1"/>
          <p:cNvSpPr/>
          <p:nvPr/>
        </p:nvSpPr>
        <p:spPr>
          <a:xfrm>
            <a:off x="928800" y="430560"/>
            <a:ext cx="7286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Муниципальное дошкольное образовательное учрежд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детский сад  №61 «Лель»</a:t>
            </a:r>
            <a:r>
              <a:rPr b="1" lang="ru-RU" sz="1400" spc="-1" strike="noStrike">
                <a:solidFill>
                  <a:srgbClr val="ff0000"/>
                </a:solidFill>
                <a:latin typeface="Bookman Old Styl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Содержимое 2"/>
          <p:cNvSpPr/>
          <p:nvPr/>
        </p:nvSpPr>
        <p:spPr>
          <a:xfrm>
            <a:off x="652320" y="981000"/>
            <a:ext cx="55627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800080"/>
                </a:solidFill>
                <a:uFillTx/>
                <a:latin typeface="Arial"/>
              </a:rPr>
              <a:t>Составление рассказа по плану-схеме  ( схема у каждого ребенка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800080"/>
                </a:solidFill>
                <a:latin typeface="Calibri"/>
              </a:rPr>
              <a:t>Вариант составленного ребенком рассказ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i="1" lang="ru-RU" sz="1700" spc="-1" strike="noStrike">
                <a:solidFill>
                  <a:srgbClr val="0000ff"/>
                </a:solidFill>
                <a:latin typeface="Calibri"/>
              </a:rPr>
              <a:t>На картине изображена зима. Все покрыто пушистым снегом. Птичкам-невеличкам холодно и голодно зимой. Воробьи и синички сидят на ветках и грустно чирикают. Девочки пришли накормить птиц. Положили зерна и хлеб в кормушку, а самые смелые кормятся с рук. Девочки и птички радуютс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Содержимое 15" descr="1286374795_2.jpg"/>
          <p:cNvPicPr/>
          <p:nvPr/>
        </p:nvPicPr>
        <p:blipFill>
          <a:blip r:embed="rId1"/>
          <a:stretch/>
        </p:blipFill>
        <p:spPr>
          <a:xfrm>
            <a:off x="6500880" y="1143000"/>
            <a:ext cx="2165400" cy="3143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4" name="Object 4"/>
          <p:cNvGraphicFramePr/>
          <p:nvPr/>
        </p:nvGraphicFramePr>
        <p:xfrm>
          <a:off x="928800" y="1928880"/>
          <a:ext cx="839520" cy="776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28800" y="1928880"/>
                    <a:ext cx="83952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Object 3"/>
          <p:cNvGraphicFramePr/>
          <p:nvPr/>
        </p:nvGraphicFramePr>
        <p:xfrm>
          <a:off x="1857240" y="2000160"/>
          <a:ext cx="946440" cy="642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7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857240" y="2000160"/>
                    <a:ext cx="94644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Object 2"/>
          <p:cNvGraphicFramePr/>
          <p:nvPr/>
        </p:nvGraphicFramePr>
        <p:xfrm>
          <a:off x="2786040" y="1857240"/>
          <a:ext cx="1000080" cy="846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39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786040" y="1857240"/>
                    <a:ext cx="1000080" cy="8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Object 1"/>
          <p:cNvGraphicFramePr/>
          <p:nvPr/>
        </p:nvGraphicFramePr>
        <p:xfrm>
          <a:off x="3786120" y="1928880"/>
          <a:ext cx="789120" cy="771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41" name="Object 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786120" y="1928880"/>
                    <a:ext cx="78912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1"/>
          <p:cNvSpPr/>
          <p:nvPr/>
        </p:nvSpPr>
        <p:spPr>
          <a:xfrm>
            <a:off x="928800" y="430560"/>
            <a:ext cx="7286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Муниципальное дошкольное образовательное учрежд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детский сад  №61 «Лель»</a:t>
            </a:r>
            <a:r>
              <a:rPr b="1" lang="ru-RU" sz="1400" spc="-1" strike="noStrike">
                <a:solidFill>
                  <a:srgbClr val="ff0000"/>
                </a:solidFill>
                <a:latin typeface="Bookman Old Styl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Заголовок 1" descr=""/>
          <p:cNvPicPr/>
          <p:nvPr/>
        </p:nvPicPr>
        <p:blipFill>
          <a:blip r:embed="rId1"/>
          <a:stretch/>
        </p:blipFill>
        <p:spPr>
          <a:xfrm>
            <a:off x="500040" y="1000080"/>
            <a:ext cx="8229600" cy="1000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4284360" y="2286000"/>
            <a:ext cx="4390920" cy="150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80"/>
                </a:solidFill>
                <a:latin typeface="Calibri"/>
              </a:rPr>
              <a:t>Подведение итога НОД</a:t>
            </a:r>
            <a:endParaRPr b="0" lang="en-US" sz="1600" spc="-1" strike="noStrike">
              <a:solidFill>
                <a:srgbClr val="17375e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75e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80"/>
                </a:solidFill>
                <a:latin typeface="Calibri"/>
              </a:rPr>
              <a:t>Оцените свою работу с помощью портретов СМАЙЛИКОВ: дорисуйте рот (улыбка, перевёрнутая улыбка, чёрточка).</a:t>
            </a:r>
            <a:endParaRPr b="0" lang="en-US" sz="16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45" name="Прямоугольник 14"/>
          <p:cNvSpPr/>
          <p:nvPr/>
        </p:nvSpPr>
        <p:spPr>
          <a:xfrm>
            <a:off x="5076720" y="4572000"/>
            <a:ext cx="165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Arial"/>
              </a:rPr>
              <a:t>Самоанализ позволяет повысить уровень самооценки де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Рисунок 2" descr=""/>
          <p:cNvPicPr/>
          <p:nvPr/>
        </p:nvPicPr>
        <p:blipFill>
          <a:blip r:embed="rId2"/>
          <a:stretch/>
        </p:blipFill>
        <p:spPr>
          <a:xfrm>
            <a:off x="1258920" y="3371760"/>
            <a:ext cx="244944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1"/>
          <p:cNvSpPr/>
          <p:nvPr/>
        </p:nvSpPr>
        <p:spPr>
          <a:xfrm>
            <a:off x="928800" y="430560"/>
            <a:ext cx="7286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Муниципальное дошкольное образовательное учрежд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детский сад  №61 «Лель»</a:t>
            </a:r>
            <a:r>
              <a:rPr b="1" lang="ru-RU" sz="1400" spc="-1" strike="noStrike">
                <a:solidFill>
                  <a:srgbClr val="ff0000"/>
                </a:solidFill>
                <a:latin typeface="Bookman Old Styl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Прямоугольник 8" descr=""/>
          <p:cNvPicPr/>
          <p:nvPr/>
        </p:nvPicPr>
        <p:blipFill>
          <a:blip r:embed="rId1"/>
          <a:stretch/>
        </p:blipFill>
        <p:spPr>
          <a:xfrm>
            <a:off x="212760" y="1414440"/>
            <a:ext cx="8504280" cy="1755720"/>
          </a:xfrm>
          <a:prstGeom prst="rect">
            <a:avLst/>
          </a:prstGeom>
          <a:ln w="0">
            <a:noFill/>
          </a:ln>
        </p:spPr>
      </p:pic>
      <p:pic>
        <p:nvPicPr>
          <p:cNvPr id="249" name="Рисунок 2" descr=""/>
          <p:cNvPicPr/>
          <p:nvPr/>
        </p:nvPicPr>
        <p:blipFill>
          <a:blip r:embed="rId2"/>
          <a:stretch/>
        </p:blipFill>
        <p:spPr>
          <a:xfrm>
            <a:off x="2268360" y="3691080"/>
            <a:ext cx="332280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"/>
          <p:cNvSpPr/>
          <p:nvPr/>
        </p:nvSpPr>
        <p:spPr>
          <a:xfrm>
            <a:off x="928800" y="430560"/>
            <a:ext cx="7286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Муниципальное дошкольное образовательное учрежд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детский сад  №61 «Лель»</a:t>
            </a:r>
            <a:r>
              <a:rPr b="1" lang="ru-RU" sz="1400" spc="-1" strike="noStrike">
                <a:solidFill>
                  <a:srgbClr val="ff0000"/>
                </a:solidFill>
                <a:latin typeface="Bookman Old Styl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Скругленный прямоугольник 5"/>
          <p:cNvGrpSpPr/>
          <p:nvPr/>
        </p:nvGrpSpPr>
        <p:grpSpPr>
          <a:xfrm>
            <a:off x="469800" y="969840"/>
            <a:ext cx="8272440" cy="914400"/>
            <a:chOff x="469800" y="969840"/>
            <a:chExt cx="8272440" cy="914400"/>
          </a:xfrm>
        </p:grpSpPr>
        <p:pic>
          <p:nvPicPr>
            <p:cNvPr id="94" name="Скругленный прямоугольник 5" descr=""/>
            <p:cNvPicPr/>
            <p:nvPr/>
          </p:nvPicPr>
          <p:blipFill>
            <a:blip r:embed="rId1"/>
            <a:stretch/>
          </p:blipFill>
          <p:spPr>
            <a:xfrm>
              <a:off x="469800" y="969840"/>
              <a:ext cx="827244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541440" y="1041480"/>
              <a:ext cx="813276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e46c0a"/>
                  </a:solidFill>
                  <a:latin typeface="Calibri"/>
                </a:rPr>
                <a:t>Тема занятия:</a:t>
              </a:r>
              <a:r>
                <a:rPr b="1" i="1" lang="ru-RU" sz="2400" spc="-1" strike="noStrike">
                  <a:solidFill>
                    <a:srgbClr val="e46c0a"/>
                  </a:solidFill>
                  <a:latin typeface="Calibri"/>
                </a:rPr>
                <a:t> Составление рассказа по картине «Покормите птиц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Блок-схема: альтернативный процесс 6"/>
          <p:cNvGrpSpPr/>
          <p:nvPr/>
        </p:nvGrpSpPr>
        <p:grpSpPr>
          <a:xfrm>
            <a:off x="360360" y="1889280"/>
            <a:ext cx="8418600" cy="1244520"/>
            <a:chOff x="360360" y="1889280"/>
            <a:chExt cx="8418600" cy="1244520"/>
          </a:xfrm>
        </p:grpSpPr>
        <p:pic>
          <p:nvPicPr>
            <p:cNvPr id="97" name="Блок-схема: альтернативный процесс 6" descr=""/>
            <p:cNvPicPr/>
            <p:nvPr/>
          </p:nvPicPr>
          <p:blipFill>
            <a:blip r:embed="rId2"/>
            <a:stretch/>
          </p:blipFill>
          <p:spPr>
            <a:xfrm>
              <a:off x="360360" y="1889280"/>
              <a:ext cx="841860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477720" y="1978200"/>
              <a:ext cx="8188560" cy="90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alibri"/>
                </a:rPr>
                <a:t>Цель: обучение  детей составлять развёрнутый рассказ по картине, опираясь на план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Вид НОД: развитие речи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Группа 30"/>
          <p:cNvGrpSpPr/>
          <p:nvPr/>
        </p:nvGrpSpPr>
        <p:grpSpPr>
          <a:xfrm>
            <a:off x="642960" y="2928960"/>
            <a:ext cx="7929720" cy="3357720"/>
            <a:chOff x="642960" y="2928960"/>
            <a:chExt cx="7929720" cy="3357720"/>
          </a:xfrm>
        </p:grpSpPr>
        <p:sp>
          <p:nvSpPr>
            <p:cNvPr id="100" name="Скругленный прямоугольник 17"/>
            <p:cNvSpPr/>
            <p:nvPr/>
          </p:nvSpPr>
          <p:spPr>
            <a:xfrm>
              <a:off x="3000240" y="2928960"/>
              <a:ext cx="5572440" cy="1714680"/>
            </a:xfrm>
            <a:prstGeom prst="roundRect">
              <a:avLst>
                <a:gd name="adj" fmla="val 16667"/>
              </a:avLst>
            </a:prstGeom>
            <a:solidFill>
              <a:srgbClr val="93cdd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177840" indent="-17784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</a:rPr>
                <a:t>Продолжать формировать умение внимательно рассматривать картину, рассуждать  над её содержанием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</a:rPr>
                <a:t>Формировать умение составлять развёрнутый рассказ по картине, опираясь на план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</a:rPr>
                <a:t>Упражнять в составлении и использовании в речи распространённых предложений с однородными членами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Скругленный прямоугольник 18"/>
            <p:cNvSpPr/>
            <p:nvPr/>
          </p:nvSpPr>
          <p:spPr>
            <a:xfrm>
              <a:off x="3000240" y="4714920"/>
              <a:ext cx="5572440" cy="714240"/>
            </a:xfrm>
            <a:prstGeom prst="roundRect">
              <a:avLst>
                <a:gd name="adj" fmla="val 16667"/>
              </a:avLst>
            </a:prstGeom>
            <a:solidFill>
              <a:srgbClr val="93cdd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libri"/>
                </a:rPr>
                <a:t>Развивать мелкую моторику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libri"/>
                </a:rPr>
                <a:t>Развивать наблюдательность, память</a:t>
              </a:r>
              <a:r>
                <a:rPr b="0" lang="ru-RU" sz="1600" spc="-1" strike="noStrike">
                  <a:solidFill>
                    <a:srgbClr val="ffffff"/>
                  </a:solidFill>
                  <a:latin typeface="Calibri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Скругленный прямоугольник 19"/>
            <p:cNvSpPr/>
            <p:nvPr/>
          </p:nvSpPr>
          <p:spPr>
            <a:xfrm>
              <a:off x="3000240" y="5572440"/>
              <a:ext cx="5572440" cy="714240"/>
            </a:xfrm>
            <a:prstGeom prst="roundRect">
              <a:avLst>
                <a:gd name="adj" fmla="val 16667"/>
              </a:avLst>
            </a:prstGeom>
            <a:solidFill>
              <a:srgbClr val="93cdd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177840" indent="-17784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libri"/>
                </a:rPr>
                <a:t>Воспитывать умение слушать друг друга, помогать друг другу в случае затруднений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Группа 29"/>
            <p:cNvGrpSpPr/>
            <p:nvPr/>
          </p:nvGrpSpPr>
          <p:grpSpPr>
            <a:xfrm>
              <a:off x="642960" y="3071520"/>
              <a:ext cx="2357280" cy="2946600"/>
              <a:chOff x="642960" y="3071520"/>
              <a:chExt cx="2357280" cy="2946600"/>
            </a:xfrm>
          </p:grpSpPr>
          <p:grpSp>
            <p:nvGrpSpPr>
              <p:cNvPr id="104" name="Группа 16"/>
              <p:cNvGrpSpPr/>
              <p:nvPr/>
            </p:nvGrpSpPr>
            <p:grpSpPr>
              <a:xfrm>
                <a:off x="642960" y="3071520"/>
                <a:ext cx="2160720" cy="2946600"/>
                <a:chOff x="642960" y="3071520"/>
                <a:chExt cx="2160720" cy="2946600"/>
              </a:xfrm>
            </p:grpSpPr>
            <p:sp>
              <p:nvSpPr>
                <p:cNvPr id="105" name="Прямая соединительная линия 15"/>
                <p:cNvSpPr/>
                <p:nvPr/>
              </p:nvSpPr>
              <p:spPr>
                <a:xfrm flipH="1">
                  <a:off x="1643040" y="3560400"/>
                  <a:ext cx="80640" cy="2457720"/>
                </a:xfrm>
                <a:prstGeom prst="line">
                  <a:avLst/>
                </a:prstGeom>
                <a:ln w="9360">
                  <a:solidFill>
                    <a:srgbClr val="c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6" name="Группа 21"/>
                <p:cNvGrpSpPr/>
                <p:nvPr/>
              </p:nvGrpSpPr>
              <p:grpSpPr>
                <a:xfrm>
                  <a:off x="642960" y="3071520"/>
                  <a:ext cx="2160720" cy="503280"/>
                  <a:chOff x="642960" y="3071520"/>
                  <a:chExt cx="2160720" cy="503280"/>
                </a:xfrm>
              </p:grpSpPr>
              <p:sp>
                <p:nvSpPr>
                  <p:cNvPr id="107" name="Скругленный прямоугольник 8"/>
                  <p:cNvSpPr/>
                  <p:nvPr/>
                </p:nvSpPr>
                <p:spPr>
                  <a:xfrm>
                    <a:off x="642960" y="3071520"/>
                    <a:ext cx="2160720" cy="503280"/>
                  </a:xfrm>
                  <a:prstGeom prst="roundRect">
                    <a:avLst>
                      <a:gd name="adj" fmla="val 10000"/>
                    </a:avLst>
                  </a:prstGeom>
                  <a:gradFill rotWithShape="0">
                    <a:gsLst>
                      <a:gs pos="0">
                        <a:srgbClr val="cb6c1d"/>
                      </a:gs>
                      <a:gs pos="100000">
                        <a:srgbClr val="ff8f26"/>
                      </a:gs>
                    </a:gsLst>
                    <a:lin ang="16200000"/>
                  </a:gradFill>
                  <a:ln w="9360">
                    <a:solidFill>
                      <a:srgbClr val="f69240"/>
                    </a:solidFill>
                    <a:miter/>
                  </a:ln>
                  <a:effectLst>
                    <a:outerShdw dist="23040" dir="5400000" blurRad="0" rotWithShape="0">
                      <a:srgbClr val="000000">
                        <a:alpha val="35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Скругленный прямоугольник 4"/>
                  <p:cNvSpPr/>
                  <p:nvPr/>
                </p:nvSpPr>
                <p:spPr>
                  <a:xfrm>
                    <a:off x="669600" y="3085560"/>
                    <a:ext cx="2107080" cy="474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53280" rIns="53280" tIns="53280" bIns="53280" anchor="ctr">
                    <a:noAutofit/>
                  </a:bodyPr>
                  <a:p>
                    <a:pPr algn="ctr">
                      <a:lnSpc>
                        <a:spcPct val="90000"/>
                      </a:lnSpc>
                      <a:spcAft>
                        <a:spcPts val="1225"/>
                      </a:spcAft>
                      <a:tabLst>
                        <a:tab algn="l" pos="0"/>
                        <a:tab algn="l" pos="622440"/>
                        <a:tab algn="l" pos="1244520"/>
                        <a:tab algn="l" pos="1866960"/>
                        <a:tab algn="l" pos="2489040"/>
                        <a:tab algn="l" pos="3111480"/>
                        <a:tab algn="l" pos="3733920"/>
                        <a:tab algn="l" pos="4356000"/>
                        <a:tab algn="l" pos="4978440"/>
                        <a:tab algn="l" pos="5600880"/>
                        <a:tab algn="l" pos="6222960"/>
                        <a:tab algn="l" pos="6845400"/>
                        <a:tab algn="l" pos="7467480"/>
                        <a:tab algn="l" pos="8089920"/>
                        <a:tab algn="l" pos="8712360"/>
                        <a:tab algn="l" pos="9334440"/>
                        <a:tab algn="l" pos="9956880"/>
                        <a:tab algn="l" pos="10578960"/>
                      </a:tabLst>
                    </a:pPr>
                    <a:r>
                      <a:rPr b="0" lang="ru-RU" sz="2800" spc="-1" strike="noStrike">
                        <a:solidFill>
                          <a:srgbClr val="000000"/>
                        </a:solidFill>
                        <a:latin typeface="Calibri"/>
                      </a:rPr>
                      <a:t>ЗАДАЧИ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" name="Блок-схема: альтернативный процесс 10"/>
                <p:cNvSpPr/>
                <p:nvPr/>
              </p:nvSpPr>
              <p:spPr>
                <a:xfrm>
                  <a:off x="714240" y="3785760"/>
                  <a:ext cx="1857600" cy="571320"/>
                </a:xfrm>
                <a:prstGeom prst="flowChartAlternateProcess">
                  <a:avLst/>
                </a:prstGeom>
                <a:solidFill>
                  <a:srgbClr val="953735"/>
                </a:solidFill>
                <a:ln w="9360">
                  <a:solidFill>
                    <a:srgbClr val="953735"/>
                  </a:solidFill>
                  <a:miter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Calibri"/>
                    </a:rPr>
                    <a:t>Образовательные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Блок-схема: альтернативный процесс 11"/>
                <p:cNvSpPr/>
                <p:nvPr/>
              </p:nvSpPr>
              <p:spPr>
                <a:xfrm>
                  <a:off x="714240" y="5441760"/>
                  <a:ext cx="1857600" cy="576360"/>
                </a:xfrm>
                <a:prstGeom prst="flowChartAlternateProcess">
                  <a:avLst/>
                </a:prstGeom>
                <a:solidFill>
                  <a:srgbClr val="953735"/>
                </a:solidFill>
                <a:ln w="9360">
                  <a:solidFill>
                    <a:srgbClr val="953735"/>
                  </a:solidFill>
                  <a:miter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Calibri"/>
                    </a:rPr>
                    <a:t>Воспитательные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Блок-схема: альтернативный процесс 12"/>
                <p:cNvSpPr/>
                <p:nvPr/>
              </p:nvSpPr>
              <p:spPr>
                <a:xfrm>
                  <a:off x="714240" y="4582800"/>
                  <a:ext cx="1857600" cy="642960"/>
                </a:xfrm>
                <a:prstGeom prst="flowChartAlternateProcess">
                  <a:avLst/>
                </a:prstGeom>
                <a:solidFill>
                  <a:srgbClr val="953735"/>
                </a:solidFill>
                <a:ln w="9360">
                  <a:solidFill>
                    <a:srgbClr val="953735"/>
                  </a:solidFill>
                  <a:miter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Calibri"/>
                    </a:rPr>
                    <a:t>Развивающ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2" name="Прямая соединительная линия 24"/>
              <p:cNvSpPr/>
              <p:nvPr/>
            </p:nvSpPr>
            <p:spPr>
              <a:xfrm flipV="1">
                <a:off x="2571840" y="3785400"/>
                <a:ext cx="428400" cy="285480"/>
              </a:xfrm>
              <a:prstGeom prst="line">
                <a:avLst/>
              </a:prstGeom>
              <a:ln w="93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Прямая соединительная линия 26"/>
              <p:cNvSpPr/>
              <p:nvPr/>
            </p:nvSpPr>
            <p:spPr>
              <a:xfrm>
                <a:off x="2571840" y="4903560"/>
                <a:ext cx="428400" cy="168120"/>
              </a:xfrm>
              <a:prstGeom prst="line">
                <a:avLst/>
              </a:prstGeom>
              <a:ln w="93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Прямая соединительная линия 28"/>
              <p:cNvSpPr/>
              <p:nvPr/>
            </p:nvSpPr>
            <p:spPr>
              <a:xfrm flipH="1" flipV="1">
                <a:off x="2571840" y="5729040"/>
                <a:ext cx="428400" cy="199800"/>
              </a:xfrm>
              <a:prstGeom prst="line">
                <a:avLst/>
              </a:prstGeom>
              <a:ln w="93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Скругленный прямоугольник 21"/>
          <p:cNvSpPr/>
          <p:nvPr/>
        </p:nvSpPr>
        <p:spPr>
          <a:xfrm>
            <a:off x="642960" y="3429000"/>
            <a:ext cx="8072280" cy="100008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ультимедийное оборудование, Аудиозапись «Вьюг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даточный материал (Снежинки, план, снегови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рандаши, мя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Группа 10"/>
          <p:cNvGrpSpPr/>
          <p:nvPr/>
        </p:nvGrpSpPr>
        <p:grpSpPr>
          <a:xfrm>
            <a:off x="642960" y="1143000"/>
            <a:ext cx="8064360" cy="614520"/>
            <a:chOff x="642960" y="1143000"/>
            <a:chExt cx="8064360" cy="614520"/>
          </a:xfrm>
        </p:grpSpPr>
        <p:grpSp>
          <p:nvGrpSpPr>
            <p:cNvPr id="117" name="Группа 21"/>
            <p:cNvGrpSpPr/>
            <p:nvPr/>
          </p:nvGrpSpPr>
          <p:grpSpPr>
            <a:xfrm>
              <a:off x="642960" y="1143000"/>
              <a:ext cx="8064360" cy="614520"/>
              <a:chOff x="642960" y="1143000"/>
              <a:chExt cx="8064360" cy="614520"/>
            </a:xfrm>
          </p:grpSpPr>
          <p:sp>
            <p:nvSpPr>
              <p:cNvPr id="118" name="Скругленный прямоугольник 6"/>
              <p:cNvSpPr/>
              <p:nvPr/>
            </p:nvSpPr>
            <p:spPr>
              <a:xfrm>
                <a:off x="642960" y="1143000"/>
                <a:ext cx="8064360" cy="503640"/>
              </a:xfrm>
              <a:prstGeom prst="roundRect">
                <a:avLst>
                  <a:gd name="adj" fmla="val 10000"/>
                </a:avLst>
              </a:prstGeom>
              <a:gradFill rotWithShape="0">
                <a:gsLst>
                  <a:gs pos="0">
                    <a:srgbClr val="cb6c1d"/>
                  </a:gs>
                  <a:gs pos="100000">
                    <a:srgbClr val="ff8f26"/>
                  </a:gs>
                </a:gsLst>
                <a:lin ang="16200000"/>
              </a:gradFill>
              <a:ln w="9360">
                <a:solidFill>
                  <a:srgbClr val="f69240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Скругленный прямоугольник 4"/>
              <p:cNvSpPr/>
              <p:nvPr/>
            </p:nvSpPr>
            <p:spPr>
              <a:xfrm>
                <a:off x="714240" y="1282680"/>
                <a:ext cx="785808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3280" rIns="53280" tIns="53280" bIns="5328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225"/>
                  </a:spcAft>
                  <a:tabLst>
                    <a:tab algn="l" pos="0"/>
                    <a:tab algn="l" pos="622440"/>
                    <a:tab algn="l" pos="1244520"/>
                    <a:tab algn="l" pos="1866960"/>
                    <a:tab algn="l" pos="2489040"/>
                    <a:tab algn="l" pos="3111480"/>
                    <a:tab algn="l" pos="3733920"/>
                    <a:tab algn="l" pos="4356000"/>
                    <a:tab algn="l" pos="4978440"/>
                    <a:tab algn="l" pos="5600880"/>
                    <a:tab algn="l" pos="6222960"/>
                    <a:tab algn="l" pos="6845400"/>
                    <a:tab algn="l" pos="7467480"/>
                    <a:tab algn="l" pos="8089920"/>
                    <a:tab algn="l" pos="8712360"/>
                    <a:tab algn="l" pos="9334440"/>
                    <a:tab algn="l" pos="9956880"/>
                    <a:tab algn="l" pos="10578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Прямоугольник 9"/>
            <p:cNvSpPr/>
            <p:nvPr/>
          </p:nvSpPr>
          <p:spPr>
            <a:xfrm>
              <a:off x="754920" y="1340280"/>
              <a:ext cx="7849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alibri"/>
                </a:rPr>
                <a:t>ИСПОЛЬЗОВАНИЕ СОВРЕМЕННЫХ ТЕХНОЛОГИЙ: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Группа 18"/>
          <p:cNvGrpSpPr/>
          <p:nvPr/>
        </p:nvGrpSpPr>
        <p:grpSpPr>
          <a:xfrm>
            <a:off x="642960" y="4500720"/>
            <a:ext cx="8064360" cy="504720"/>
            <a:chOff x="642960" y="4500720"/>
            <a:chExt cx="8064360" cy="504720"/>
          </a:xfrm>
        </p:grpSpPr>
        <p:grpSp>
          <p:nvGrpSpPr>
            <p:cNvPr id="122" name="Группа 21"/>
            <p:cNvGrpSpPr/>
            <p:nvPr/>
          </p:nvGrpSpPr>
          <p:grpSpPr>
            <a:xfrm>
              <a:off x="642960" y="4500720"/>
              <a:ext cx="8064360" cy="504720"/>
              <a:chOff x="642960" y="4500720"/>
              <a:chExt cx="8064360" cy="504720"/>
            </a:xfrm>
          </p:grpSpPr>
          <p:sp>
            <p:nvSpPr>
              <p:cNvPr id="123" name="Скругленный прямоугольник 16"/>
              <p:cNvSpPr/>
              <p:nvPr/>
            </p:nvSpPr>
            <p:spPr>
              <a:xfrm>
                <a:off x="642960" y="4500720"/>
                <a:ext cx="8064360" cy="504720"/>
              </a:xfrm>
              <a:prstGeom prst="roundRect">
                <a:avLst>
                  <a:gd name="adj" fmla="val 10000"/>
                </a:avLst>
              </a:prstGeom>
              <a:gradFill rotWithShape="0">
                <a:gsLst>
                  <a:gs pos="0">
                    <a:srgbClr val="cb6c1d"/>
                  </a:gs>
                  <a:gs pos="100000">
                    <a:srgbClr val="ff8f26"/>
                  </a:gs>
                </a:gsLst>
                <a:lin ang="16200000"/>
              </a:gradFill>
              <a:ln w="9360">
                <a:solidFill>
                  <a:srgbClr val="f69240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Скругленный прямоугольник 4"/>
              <p:cNvSpPr/>
              <p:nvPr/>
            </p:nvSpPr>
            <p:spPr>
              <a:xfrm>
                <a:off x="745920" y="4514760"/>
                <a:ext cx="7858080" cy="47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3280" rIns="53280" tIns="53280" bIns="5328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225"/>
                  </a:spcAft>
                  <a:tabLst>
                    <a:tab algn="l" pos="0"/>
                    <a:tab algn="l" pos="622440"/>
                    <a:tab algn="l" pos="1244520"/>
                    <a:tab algn="l" pos="1866960"/>
                    <a:tab algn="l" pos="2489040"/>
                    <a:tab algn="l" pos="3111480"/>
                    <a:tab algn="l" pos="3733920"/>
                    <a:tab algn="l" pos="4356000"/>
                    <a:tab algn="l" pos="4978440"/>
                    <a:tab algn="l" pos="5600880"/>
                    <a:tab algn="l" pos="6222960"/>
                    <a:tab algn="l" pos="6845400"/>
                    <a:tab algn="l" pos="7467480"/>
                    <a:tab algn="l" pos="8089920"/>
                    <a:tab algn="l" pos="8712360"/>
                    <a:tab algn="l" pos="9334440"/>
                    <a:tab algn="l" pos="9956880"/>
                    <a:tab algn="l" pos="10578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Прямоугольник 20"/>
            <p:cNvSpPr/>
            <p:nvPr/>
          </p:nvSpPr>
          <p:spPr>
            <a:xfrm>
              <a:off x="786960" y="4572720"/>
              <a:ext cx="603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alibri"/>
                </a:rPr>
                <a:t>ПРЕДВАРИТЕЛЬНАЯ РАБОТА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Rectangle 1"/>
          <p:cNvSpPr/>
          <p:nvPr/>
        </p:nvSpPr>
        <p:spPr>
          <a:xfrm>
            <a:off x="857160" y="501840"/>
            <a:ext cx="728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Муниципальное дошкольное образовательное учрежд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детский сад  №61 «Лель»</a:t>
            </a:r>
            <a:r>
              <a:rPr b="1" lang="ru-RU" sz="1400" spc="-1" strike="noStrike">
                <a:solidFill>
                  <a:srgbClr val="ff0000"/>
                </a:solidFill>
                <a:latin typeface="Bookman Old Styl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Скругленный прямоугольник 20"/>
          <p:cNvSpPr/>
          <p:nvPr/>
        </p:nvSpPr>
        <p:spPr>
          <a:xfrm>
            <a:off x="642960" y="1714680"/>
            <a:ext cx="8072280" cy="107136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5400" indent="-95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процессе проведения занятия используются приёмы здоровьесберегающих технологий (самомассаж, физминутка, смена вида деятельности детей, ИКТ технолог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КТ технологии, собственные авторские разрабо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Скругленный прямоугольник 22"/>
          <p:cNvSpPr/>
          <p:nvPr/>
        </p:nvSpPr>
        <p:spPr>
          <a:xfrm>
            <a:off x="642960" y="5143680"/>
            <a:ext cx="8072280" cy="100008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еседы о зиме и о животных зим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тение литературных произведений о зи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ссматривание альбома с иллюстрациями «Зим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Группа 12"/>
          <p:cNvGrpSpPr/>
          <p:nvPr/>
        </p:nvGrpSpPr>
        <p:grpSpPr>
          <a:xfrm>
            <a:off x="642960" y="2857680"/>
            <a:ext cx="8064360" cy="504720"/>
            <a:chOff x="642960" y="2857680"/>
            <a:chExt cx="8064360" cy="504720"/>
          </a:xfrm>
        </p:grpSpPr>
        <p:grpSp>
          <p:nvGrpSpPr>
            <p:cNvPr id="130" name="Группа 21"/>
            <p:cNvGrpSpPr/>
            <p:nvPr/>
          </p:nvGrpSpPr>
          <p:grpSpPr>
            <a:xfrm>
              <a:off x="642960" y="2857680"/>
              <a:ext cx="8064360" cy="504720"/>
              <a:chOff x="642960" y="2857680"/>
              <a:chExt cx="8064360" cy="504720"/>
            </a:xfrm>
          </p:grpSpPr>
          <p:sp>
            <p:nvSpPr>
              <p:cNvPr id="131" name="Скругленный прямоугольник 11"/>
              <p:cNvSpPr/>
              <p:nvPr/>
            </p:nvSpPr>
            <p:spPr>
              <a:xfrm>
                <a:off x="642960" y="2857680"/>
                <a:ext cx="8064360" cy="504720"/>
              </a:xfrm>
              <a:prstGeom prst="roundRect">
                <a:avLst>
                  <a:gd name="adj" fmla="val 10000"/>
                </a:avLst>
              </a:prstGeom>
              <a:gradFill rotWithShape="0">
                <a:gsLst>
                  <a:gs pos="0">
                    <a:srgbClr val="cb6c1d"/>
                  </a:gs>
                  <a:gs pos="100000">
                    <a:srgbClr val="ff8f26"/>
                  </a:gs>
                </a:gsLst>
                <a:lin ang="16200000"/>
              </a:gradFill>
              <a:ln w="9360">
                <a:solidFill>
                  <a:srgbClr val="f69240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Скругленный прямоугольник 4"/>
              <p:cNvSpPr/>
              <p:nvPr/>
            </p:nvSpPr>
            <p:spPr>
              <a:xfrm>
                <a:off x="745920" y="2871720"/>
                <a:ext cx="7858080" cy="47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3280" rIns="53280" tIns="53280" bIns="5328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225"/>
                  </a:spcAft>
                  <a:tabLst>
                    <a:tab algn="l" pos="0"/>
                    <a:tab algn="l" pos="622440"/>
                    <a:tab algn="l" pos="1244520"/>
                    <a:tab algn="l" pos="1866960"/>
                    <a:tab algn="l" pos="2489040"/>
                    <a:tab algn="l" pos="3111480"/>
                    <a:tab algn="l" pos="3733920"/>
                    <a:tab algn="l" pos="4356000"/>
                    <a:tab algn="l" pos="4978440"/>
                    <a:tab algn="l" pos="5600880"/>
                    <a:tab algn="l" pos="6222960"/>
                    <a:tab algn="l" pos="6845400"/>
                    <a:tab algn="l" pos="7467480"/>
                    <a:tab algn="l" pos="8089920"/>
                    <a:tab algn="l" pos="8712360"/>
                    <a:tab algn="l" pos="9334440"/>
                    <a:tab algn="l" pos="9956880"/>
                    <a:tab algn="l" pos="10578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" name="Прямоугольник 14"/>
            <p:cNvSpPr/>
            <p:nvPr/>
          </p:nvSpPr>
          <p:spPr>
            <a:xfrm>
              <a:off x="786960" y="2929680"/>
              <a:ext cx="603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alibri"/>
                </a:rPr>
                <a:t>ОБОРУДОВАНИЕ И СРЕДСТВА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Скругленный прямоугольник 21"/>
          <p:cNvSpPr/>
          <p:nvPr/>
        </p:nvSpPr>
        <p:spPr>
          <a:xfrm>
            <a:off x="642960" y="3071880"/>
            <a:ext cx="8072280" cy="100008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креплять использование в речи сложноподчиненных предлож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креплять умения образовывать близкие по смыслу однокоренные с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Группа 10"/>
          <p:cNvGrpSpPr/>
          <p:nvPr/>
        </p:nvGrpSpPr>
        <p:grpSpPr>
          <a:xfrm>
            <a:off x="642960" y="1143000"/>
            <a:ext cx="8064360" cy="614520"/>
            <a:chOff x="642960" y="1143000"/>
            <a:chExt cx="8064360" cy="614520"/>
          </a:xfrm>
        </p:grpSpPr>
        <p:grpSp>
          <p:nvGrpSpPr>
            <p:cNvPr id="136" name="Группа 21"/>
            <p:cNvGrpSpPr/>
            <p:nvPr/>
          </p:nvGrpSpPr>
          <p:grpSpPr>
            <a:xfrm>
              <a:off x="642960" y="1143000"/>
              <a:ext cx="8064360" cy="614520"/>
              <a:chOff x="642960" y="1143000"/>
              <a:chExt cx="8064360" cy="614520"/>
            </a:xfrm>
          </p:grpSpPr>
          <p:sp>
            <p:nvSpPr>
              <p:cNvPr id="137" name="Скругленный прямоугольник 6"/>
              <p:cNvSpPr/>
              <p:nvPr/>
            </p:nvSpPr>
            <p:spPr>
              <a:xfrm>
                <a:off x="642960" y="1143000"/>
                <a:ext cx="8064360" cy="503640"/>
              </a:xfrm>
              <a:prstGeom prst="roundRect">
                <a:avLst>
                  <a:gd name="adj" fmla="val 10000"/>
                </a:avLst>
              </a:prstGeom>
              <a:gradFill rotWithShape="0">
                <a:gsLst>
                  <a:gs pos="0">
                    <a:srgbClr val="cb6c1d"/>
                  </a:gs>
                  <a:gs pos="100000">
                    <a:srgbClr val="ff8f26"/>
                  </a:gs>
                </a:gsLst>
                <a:lin ang="16200000"/>
              </a:gradFill>
              <a:ln w="9360">
                <a:solidFill>
                  <a:srgbClr val="f69240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Скругленный прямоугольник 4"/>
              <p:cNvSpPr/>
              <p:nvPr/>
            </p:nvSpPr>
            <p:spPr>
              <a:xfrm>
                <a:off x="714240" y="1282680"/>
                <a:ext cx="785808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3280" rIns="53280" tIns="53280" bIns="5328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225"/>
                  </a:spcAft>
                  <a:tabLst>
                    <a:tab algn="l" pos="0"/>
                    <a:tab algn="l" pos="622440"/>
                    <a:tab algn="l" pos="1244520"/>
                    <a:tab algn="l" pos="1866960"/>
                    <a:tab algn="l" pos="2489040"/>
                    <a:tab algn="l" pos="3111480"/>
                    <a:tab algn="l" pos="3733920"/>
                    <a:tab algn="l" pos="4356000"/>
                    <a:tab algn="l" pos="4978440"/>
                    <a:tab algn="l" pos="5600880"/>
                    <a:tab algn="l" pos="6222960"/>
                    <a:tab algn="l" pos="6845400"/>
                    <a:tab algn="l" pos="7467480"/>
                    <a:tab algn="l" pos="8089920"/>
                    <a:tab algn="l" pos="8712360"/>
                    <a:tab algn="l" pos="9334440"/>
                    <a:tab algn="l" pos="9956880"/>
                    <a:tab algn="l" pos="10578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Прямоугольник 9"/>
            <p:cNvSpPr/>
            <p:nvPr/>
          </p:nvSpPr>
          <p:spPr>
            <a:xfrm>
              <a:off x="754920" y="1340280"/>
              <a:ext cx="7849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alibri"/>
                </a:rPr>
                <a:t>СЛОВАРЬ: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Группа 18"/>
          <p:cNvGrpSpPr/>
          <p:nvPr/>
        </p:nvGrpSpPr>
        <p:grpSpPr>
          <a:xfrm>
            <a:off x="642960" y="2500200"/>
            <a:ext cx="8064360" cy="505080"/>
            <a:chOff x="642960" y="2500200"/>
            <a:chExt cx="8064360" cy="505080"/>
          </a:xfrm>
        </p:grpSpPr>
        <p:grpSp>
          <p:nvGrpSpPr>
            <p:cNvPr id="141" name="Группа 21"/>
            <p:cNvGrpSpPr/>
            <p:nvPr/>
          </p:nvGrpSpPr>
          <p:grpSpPr>
            <a:xfrm>
              <a:off x="642960" y="2500200"/>
              <a:ext cx="8064360" cy="505080"/>
              <a:chOff x="642960" y="2500200"/>
              <a:chExt cx="8064360" cy="505080"/>
            </a:xfrm>
          </p:grpSpPr>
          <p:sp>
            <p:nvSpPr>
              <p:cNvPr id="142" name="Скругленный прямоугольник 16"/>
              <p:cNvSpPr/>
              <p:nvPr/>
            </p:nvSpPr>
            <p:spPr>
              <a:xfrm>
                <a:off x="642960" y="2500200"/>
                <a:ext cx="8064360" cy="505080"/>
              </a:xfrm>
              <a:prstGeom prst="roundRect">
                <a:avLst>
                  <a:gd name="adj" fmla="val 10000"/>
                </a:avLst>
              </a:prstGeom>
              <a:gradFill rotWithShape="0">
                <a:gsLst>
                  <a:gs pos="0">
                    <a:srgbClr val="cb6c1d"/>
                  </a:gs>
                  <a:gs pos="100000">
                    <a:srgbClr val="ff8f26"/>
                  </a:gs>
                </a:gsLst>
                <a:lin ang="16200000"/>
              </a:gradFill>
              <a:ln w="9360">
                <a:solidFill>
                  <a:srgbClr val="f69240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Скругленный прямоугольник 4"/>
              <p:cNvSpPr/>
              <p:nvPr/>
            </p:nvSpPr>
            <p:spPr>
              <a:xfrm>
                <a:off x="674640" y="2514240"/>
                <a:ext cx="7858080" cy="47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3280" rIns="53280" tIns="53280" bIns="5328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225"/>
                  </a:spcAft>
                  <a:tabLst>
                    <a:tab algn="l" pos="0"/>
                    <a:tab algn="l" pos="622440"/>
                    <a:tab algn="l" pos="1244520"/>
                    <a:tab algn="l" pos="1866960"/>
                    <a:tab algn="l" pos="2489040"/>
                    <a:tab algn="l" pos="3111480"/>
                    <a:tab algn="l" pos="3733920"/>
                    <a:tab algn="l" pos="4356000"/>
                    <a:tab algn="l" pos="4978440"/>
                    <a:tab algn="l" pos="5600880"/>
                    <a:tab algn="l" pos="6222960"/>
                    <a:tab algn="l" pos="6845400"/>
                    <a:tab algn="l" pos="7467480"/>
                    <a:tab algn="l" pos="8089920"/>
                    <a:tab algn="l" pos="8712360"/>
                    <a:tab algn="l" pos="9334440"/>
                    <a:tab algn="l" pos="9956880"/>
                    <a:tab algn="l" pos="10578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Прямоугольник 20"/>
            <p:cNvSpPr/>
            <p:nvPr/>
          </p:nvSpPr>
          <p:spPr>
            <a:xfrm>
              <a:off x="715320" y="2572200"/>
              <a:ext cx="603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alibri"/>
                </a:rPr>
                <a:t>ГРАММАТИЧЕСКИЙ СТРОЙ РЕЧИ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Rectangle 1"/>
          <p:cNvSpPr/>
          <p:nvPr/>
        </p:nvSpPr>
        <p:spPr>
          <a:xfrm>
            <a:off x="857160" y="501840"/>
            <a:ext cx="728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Муниципальное дошкольное образовательное учрежд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детский сад  №61 «Лель»</a:t>
            </a:r>
            <a:r>
              <a:rPr b="1" lang="ru-RU" sz="1400" spc="-1" strike="noStrike">
                <a:solidFill>
                  <a:srgbClr val="ff0000"/>
                </a:solidFill>
                <a:latin typeface="Bookman Old Styl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кругленный прямоугольник 20"/>
          <p:cNvSpPr/>
          <p:nvPr/>
        </p:nvSpPr>
        <p:spPr>
          <a:xfrm>
            <a:off x="642960" y="1714680"/>
            <a:ext cx="8072280" cy="78552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5400" indent="-95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вивать умение подбирать определения, активизировать употребление в речи прилагатель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Скругленный прямоугольник 22"/>
          <p:cNvSpPr/>
          <p:nvPr/>
        </p:nvSpPr>
        <p:spPr>
          <a:xfrm>
            <a:off x="642960" y="4857840"/>
            <a:ext cx="8072280" cy="128592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ставление рассказов по картинам о зи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блюдение за жизнью птиц зим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тение литературных произведений о зи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Группа 12"/>
          <p:cNvGrpSpPr/>
          <p:nvPr/>
        </p:nvGrpSpPr>
        <p:grpSpPr>
          <a:xfrm>
            <a:off x="642960" y="4143240"/>
            <a:ext cx="8064360" cy="505080"/>
            <a:chOff x="642960" y="4143240"/>
            <a:chExt cx="8064360" cy="505080"/>
          </a:xfrm>
        </p:grpSpPr>
        <p:grpSp>
          <p:nvGrpSpPr>
            <p:cNvPr id="149" name="Группа 21"/>
            <p:cNvGrpSpPr/>
            <p:nvPr/>
          </p:nvGrpSpPr>
          <p:grpSpPr>
            <a:xfrm>
              <a:off x="642960" y="4143240"/>
              <a:ext cx="8064360" cy="505080"/>
              <a:chOff x="642960" y="4143240"/>
              <a:chExt cx="8064360" cy="505080"/>
            </a:xfrm>
          </p:grpSpPr>
          <p:sp>
            <p:nvSpPr>
              <p:cNvPr id="150" name="Скругленный прямоугольник 11"/>
              <p:cNvSpPr/>
              <p:nvPr/>
            </p:nvSpPr>
            <p:spPr>
              <a:xfrm>
                <a:off x="642960" y="4143240"/>
                <a:ext cx="8064360" cy="505080"/>
              </a:xfrm>
              <a:prstGeom prst="roundRect">
                <a:avLst>
                  <a:gd name="adj" fmla="val 10000"/>
                </a:avLst>
              </a:prstGeom>
              <a:gradFill rotWithShape="0">
                <a:gsLst>
                  <a:gs pos="0">
                    <a:srgbClr val="cb6c1d"/>
                  </a:gs>
                  <a:gs pos="100000">
                    <a:srgbClr val="ff8f26"/>
                  </a:gs>
                </a:gsLst>
                <a:lin ang="16200000"/>
              </a:gradFill>
              <a:ln w="9360">
                <a:solidFill>
                  <a:srgbClr val="f69240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Скругленный прямоугольник 4"/>
              <p:cNvSpPr/>
              <p:nvPr/>
            </p:nvSpPr>
            <p:spPr>
              <a:xfrm>
                <a:off x="745920" y="4157280"/>
                <a:ext cx="7858080" cy="47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3280" rIns="53280" tIns="53280" bIns="5328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225"/>
                  </a:spcAft>
                  <a:tabLst>
                    <a:tab algn="l" pos="0"/>
                    <a:tab algn="l" pos="622440"/>
                    <a:tab algn="l" pos="1244520"/>
                    <a:tab algn="l" pos="1866960"/>
                    <a:tab algn="l" pos="2489040"/>
                    <a:tab algn="l" pos="3111480"/>
                    <a:tab algn="l" pos="3733920"/>
                    <a:tab algn="l" pos="4356000"/>
                    <a:tab algn="l" pos="4978440"/>
                    <a:tab algn="l" pos="5600880"/>
                    <a:tab algn="l" pos="6222960"/>
                    <a:tab algn="l" pos="6845400"/>
                    <a:tab algn="l" pos="7467480"/>
                    <a:tab algn="l" pos="8089920"/>
                    <a:tab algn="l" pos="8712360"/>
                    <a:tab algn="l" pos="9334440"/>
                    <a:tab algn="l" pos="9956880"/>
                    <a:tab algn="l" pos="10578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Прямоугольник 14"/>
            <p:cNvSpPr/>
            <p:nvPr/>
          </p:nvSpPr>
          <p:spPr>
            <a:xfrm>
              <a:off x="786960" y="4215240"/>
              <a:ext cx="603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alibri"/>
                </a:rPr>
                <a:t>ПОСЛЕДУЮЩАЯ РАБОТА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99680" y="2143080"/>
            <a:ext cx="825804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just"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17375e"/>
                </a:solidFill>
                <a:latin typeface="Calibri"/>
              </a:rPr>
              <a:t>Данная НОД является пятым из цикла составления рассказов по картине и серии сюжетных картинок для развития связной речи детей. В дальнейшем с детьми продолжиться работа через проведение НОД, направленных на развитие монологической речи посредством  использования следующих методов: дидактических игр и упражнений, различных приемов составления рассказа («по цепочке», «по плану», «по опорным картинкам» и др.), моделирование, инсценировка придуманных рассказов и др.  Умения и навыки по составлению рассказов, полученные в процессе НОД, закрепляются в образовательного процесса, в индивидуальной работе, а также в ходе сотрудничества с родителями воспитанников. </a:t>
            </a:r>
            <a:endParaRPr b="0" lang="en-US" sz="1500" spc="-1" strike="noStrike">
              <a:solidFill>
                <a:srgbClr val="17375e"/>
              </a:solidFill>
              <a:latin typeface="Calibri"/>
            </a:endParaRPr>
          </a:p>
          <a:p>
            <a:pPr algn="just"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17375e"/>
                </a:solidFill>
                <a:latin typeface="Calibri"/>
              </a:rPr>
              <a:t>Следует соблюдать последовательность при проведении НОД, учитывать принцип постепенного усложнения, а именно, дети на первых этапах сначала рассматривают картину, описывают изображенные объекты, их действия, взаимосвязи объектов, затем учатся монологическому рассказыванию и творческому рассказыванию. Причем каждый раз используются различные приемы составления рассказа. Детям предоставляется самостоятельность в решении поставленных задач, а мультимедийное сопровождение облегчает восприятию и вызывает большой интерес к занятию. </a:t>
            </a:r>
            <a:endParaRPr b="0" lang="en-US" sz="1500" spc="-1" strike="noStrike">
              <a:solidFill>
                <a:srgbClr val="17375e"/>
              </a:solidFill>
              <a:latin typeface="Calibri"/>
            </a:endParaRPr>
          </a:p>
          <a:p>
            <a:pPr algn="just"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7375e"/>
                </a:solidFill>
                <a:latin typeface="Calibri"/>
              </a:rPr>
              <a:t>Цель занятия</a:t>
            </a:r>
            <a:r>
              <a:rPr b="0" lang="ru-RU" sz="1500" spc="-1" strike="noStrike">
                <a:solidFill>
                  <a:srgbClr val="17375e"/>
                </a:solidFill>
                <a:latin typeface="Calibri"/>
              </a:rPr>
              <a:t> направлена на обучение детей составление развернутого рассказа по картине</a:t>
            </a:r>
            <a:endParaRPr b="0" lang="en-US" sz="1500" spc="-1" strike="noStrike">
              <a:solidFill>
                <a:srgbClr val="17375e"/>
              </a:solidFill>
              <a:latin typeface="Calibri"/>
            </a:endParaRPr>
          </a:p>
          <a:p>
            <a:pPr indent="510120">
              <a:spcBef>
                <a:spcPts val="374"/>
              </a:spcBef>
              <a:buClr>
                <a:srgbClr val="e46c0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54" name="Rectangle 1"/>
          <p:cNvSpPr/>
          <p:nvPr/>
        </p:nvSpPr>
        <p:spPr>
          <a:xfrm>
            <a:off x="928800" y="430560"/>
            <a:ext cx="7286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Муниципальное дошкольное образовательное учрежд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детский сад  №61 «Лель»</a:t>
            </a:r>
            <a:r>
              <a:rPr b="1" lang="ru-RU" sz="1400" spc="-1" strike="noStrike">
                <a:solidFill>
                  <a:srgbClr val="ff0000"/>
                </a:solidFill>
                <a:latin typeface="Bookman Old Styl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Заголовок 1" descr=""/>
          <p:cNvPicPr/>
          <p:nvPr/>
        </p:nvPicPr>
        <p:blipFill>
          <a:blip r:embed="rId1"/>
          <a:stretch/>
        </p:blipFill>
        <p:spPr>
          <a:xfrm>
            <a:off x="500040" y="10000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Заголовок 1" descr=""/>
          <p:cNvPicPr/>
          <p:nvPr/>
        </p:nvPicPr>
        <p:blipFill>
          <a:blip r:embed="rId1"/>
          <a:stretch/>
        </p:blipFill>
        <p:spPr>
          <a:xfrm>
            <a:off x="500040" y="1000080"/>
            <a:ext cx="8229600" cy="10000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457200" y="2071800"/>
            <a:ext cx="822960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993366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7375e"/>
                </a:solidFill>
                <a:latin typeface="Bookman Old Style"/>
              </a:rPr>
              <a:t>Содержание задач</a:t>
            </a:r>
            <a:r>
              <a:rPr b="0" lang="ru-RU" sz="1500" spc="-1" strike="noStrike">
                <a:solidFill>
                  <a:srgbClr val="17375e"/>
                </a:solidFill>
                <a:latin typeface="Bookman Old Style"/>
              </a:rPr>
              <a:t>. Соблюден принцип триединства задач: образовательная, развивающая, воспитательная. Занятие построено с учетом интеграции образовательных областей «Социально-коммуникативная» в рамках ФГОС</a:t>
            </a:r>
            <a:endParaRPr b="0" lang="en-US" sz="15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993366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993366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17375e"/>
                </a:solidFill>
                <a:latin typeface="Bookman Old Style"/>
              </a:rPr>
              <a:t>	</a:t>
            </a:r>
            <a:r>
              <a:rPr b="1" lang="ru-RU" sz="1500" spc="-1" strike="noStrike">
                <a:solidFill>
                  <a:srgbClr val="17375e"/>
                </a:solidFill>
                <a:latin typeface="Bookman Old Style"/>
              </a:rPr>
              <a:t>НОД является логически выстроенным</a:t>
            </a:r>
            <a:r>
              <a:rPr b="0" lang="ru-RU" sz="1500" spc="-1" strike="noStrike">
                <a:solidFill>
                  <a:srgbClr val="17375e"/>
                </a:solidFill>
                <a:latin typeface="Bookman Old Style"/>
              </a:rPr>
              <a:t>, т. к. все компоненты занятия (три этапа) направлены на решение ведущей цели: научить детей составлять рассказ по картине по плану.</a:t>
            </a:r>
            <a:endParaRPr b="0" lang="en-US" sz="15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993366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993366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17375e"/>
                </a:solidFill>
                <a:latin typeface="Bookman Old Style"/>
              </a:rPr>
              <a:t>	</a:t>
            </a:r>
            <a:r>
              <a:rPr b="0" lang="ru-RU" sz="1500" spc="-1" strike="noStrike">
                <a:solidFill>
                  <a:srgbClr val="17375e"/>
                </a:solidFill>
                <a:latin typeface="Bookman Old Style"/>
              </a:rPr>
              <a:t>На данном этапе обучения предложенный материал, а также методы и приемы </a:t>
            </a:r>
            <a:r>
              <a:rPr b="1" lang="ru-RU" sz="1500" spc="-1" strike="noStrike">
                <a:solidFill>
                  <a:srgbClr val="17375e"/>
                </a:solidFill>
                <a:latin typeface="Bookman Old Style"/>
              </a:rPr>
              <a:t>доступны</a:t>
            </a:r>
            <a:r>
              <a:rPr b="0" lang="ru-RU" sz="1500" spc="-1" strike="noStrike">
                <a:solidFill>
                  <a:srgbClr val="17375e"/>
                </a:solidFill>
                <a:latin typeface="Bookman Old Style"/>
              </a:rPr>
              <a:t> для детей в соответствии с возрастными особенностями старшего дошкольного возраста.</a:t>
            </a:r>
            <a:endParaRPr b="0" lang="en-US" sz="15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993366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993366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17375e"/>
                </a:solidFill>
                <a:latin typeface="Bookman Old Style"/>
              </a:rPr>
              <a:t>	</a:t>
            </a:r>
            <a:r>
              <a:rPr b="0" lang="ru-RU" sz="1500" spc="-1" strike="noStrike">
                <a:solidFill>
                  <a:srgbClr val="17375e"/>
                </a:solidFill>
                <a:latin typeface="Bookman Old Style"/>
              </a:rPr>
              <a:t>Во время НОД </a:t>
            </a:r>
            <a:r>
              <a:rPr b="1" lang="ru-RU" sz="1500" spc="-1" strike="noStrike">
                <a:solidFill>
                  <a:srgbClr val="17375e"/>
                </a:solidFill>
                <a:latin typeface="Bookman Old Style"/>
              </a:rPr>
              <a:t>научность изложения содержания образования </a:t>
            </a:r>
            <a:r>
              <a:rPr b="0" lang="ru-RU" sz="1500" spc="-1" strike="noStrike">
                <a:solidFill>
                  <a:srgbClr val="17375e"/>
                </a:solidFill>
                <a:latin typeface="Bookman Old Style"/>
              </a:rPr>
              <a:t>воспитанников реализовывалась через обучение детей правильно логически выстроить рассказ по плану воспитателя.</a:t>
            </a:r>
            <a:endParaRPr b="0" lang="en-US" sz="15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e46c0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58" name="Rectangle 1"/>
          <p:cNvSpPr/>
          <p:nvPr/>
        </p:nvSpPr>
        <p:spPr>
          <a:xfrm>
            <a:off x="928800" y="430560"/>
            <a:ext cx="7286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Муниципальное дошкольное образовательное учрежд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детский сад  №61 «Лель»</a:t>
            </a:r>
            <a:r>
              <a:rPr b="1" lang="ru-RU" sz="1400" spc="-1" strike="noStrike">
                <a:solidFill>
                  <a:srgbClr val="ff0000"/>
                </a:solidFill>
                <a:latin typeface="Bookman Old Styl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500040" y="1785960"/>
          <a:ext cx="8186760" cy="4263840"/>
        </p:xfrm>
        <a:graphic>
          <a:graphicData uri="http://schemas.openxmlformats.org/drawingml/2006/table">
            <a:tbl>
              <a:tblPr/>
              <a:tblGrid>
                <a:gridCol w="500040"/>
                <a:gridCol w="1643040"/>
                <a:gridCol w="5143680"/>
                <a:gridCol w="900000"/>
              </a:tblGrid>
              <a:tr h="8222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№ 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Этап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Ц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Кол-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мину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757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рганизацион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оздание благоприятной эмоциональной обстановки. Формирование интереса и желания к выполнению заданий. Дыхательная гимнастика  «Вьюг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1525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сновн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Формирование умения составлять развёрнутый рассказ по картине, опираясь на план. Упражнять в составлении и использовании в речи сложноподчиненных предложений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азвитие мелкой моторики. Развитие наблюдательности, памяти, фантазии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1158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Заключитель-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одведение итогов, анализ деятельности воспитанниками друг друга, самоанализ, направленное на выявление воспитанниками затруднений в процессе занятия, оценка деятельности дете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  <p:sp>
        <p:nvSpPr>
          <p:cNvPr id="160" name="Rectangle 1"/>
          <p:cNvSpPr/>
          <p:nvPr/>
        </p:nvSpPr>
        <p:spPr>
          <a:xfrm>
            <a:off x="928800" y="430560"/>
            <a:ext cx="7286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Муниципальное дошкольное образовательное учрежд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детский сад  №61 «Лель»</a:t>
            </a:r>
            <a:r>
              <a:rPr b="1" lang="ru-RU" sz="1400" spc="-1" strike="noStrike">
                <a:solidFill>
                  <a:srgbClr val="ff0000"/>
                </a:solidFill>
                <a:latin typeface="Bookman Old Styl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Заголовок 1" descr=""/>
          <p:cNvPicPr/>
          <p:nvPr/>
        </p:nvPicPr>
        <p:blipFill>
          <a:blip r:embed="rId1"/>
          <a:stretch/>
        </p:blipFill>
        <p:spPr>
          <a:xfrm>
            <a:off x="500040" y="1000080"/>
            <a:ext cx="822960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Скругленный прямоугольник 19"/>
          <p:cNvSpPr/>
          <p:nvPr/>
        </p:nvSpPr>
        <p:spPr>
          <a:xfrm>
            <a:off x="571680" y="4857840"/>
            <a:ext cx="8143560" cy="1428840"/>
          </a:xfrm>
          <a:prstGeom prst="roundRect">
            <a:avLst>
              <a:gd name="adj" fmla="val 10000"/>
            </a:avLst>
          </a:prstGeom>
          <a:solidFill>
            <a:srgbClr val="c0504d"/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384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гра – упражнение «Угадай-ка!», д/у «Нарисуй по точкам», д/у «Докажи, что на картине зима»,д/и «Снежный ком», д/и «Волшебная цепочка», д/у «Я начну, а ты продолж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кругленный прямоугольник 19"/>
          <p:cNvSpPr/>
          <p:nvPr/>
        </p:nvSpPr>
        <p:spPr>
          <a:xfrm>
            <a:off x="500040" y="3500280"/>
            <a:ext cx="4786200" cy="1214640"/>
          </a:xfrm>
          <a:prstGeom prst="roundRect">
            <a:avLst>
              <a:gd name="adj" fmla="val 10000"/>
            </a:avLst>
          </a:prstGeom>
          <a:solidFill>
            <a:srgbClr val="c0504d"/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ент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рт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даточный материал (пла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Скругленный прямоугольник 17"/>
          <p:cNvSpPr/>
          <p:nvPr/>
        </p:nvSpPr>
        <p:spPr>
          <a:xfrm>
            <a:off x="500040" y="2214720"/>
            <a:ext cx="4786200" cy="1215720"/>
          </a:xfrm>
          <a:prstGeom prst="roundRect">
            <a:avLst>
              <a:gd name="adj" fmla="val 10000"/>
            </a:avLst>
          </a:pr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роблемная ситу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Бес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Наводящие вопро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"/>
          <p:cNvSpPr/>
          <p:nvPr/>
        </p:nvSpPr>
        <p:spPr>
          <a:xfrm>
            <a:off x="928800" y="430560"/>
            <a:ext cx="7286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Муниципальное дошкольное образовательное учрежд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детский сад  №61 «Лель»</a:t>
            </a:r>
            <a:r>
              <a:rPr b="1" lang="ru-RU" sz="1400" spc="-1" strike="noStrike">
                <a:solidFill>
                  <a:srgbClr val="ff0000"/>
                </a:solidFill>
                <a:latin typeface="Bookman Old Styl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Заголовок 1" descr=""/>
          <p:cNvPicPr/>
          <p:nvPr/>
        </p:nvPicPr>
        <p:blipFill>
          <a:blip r:embed="rId1"/>
          <a:stretch/>
        </p:blipFill>
        <p:spPr>
          <a:xfrm>
            <a:off x="500040" y="1000080"/>
            <a:ext cx="8229600" cy="1000080"/>
          </a:xfrm>
          <a:prstGeom prst="rect">
            <a:avLst/>
          </a:prstGeom>
          <a:ln w="0">
            <a:noFill/>
          </a:ln>
        </p:spPr>
      </p:pic>
      <p:sp>
        <p:nvSpPr>
          <p:cNvPr id="167" name="Блок-схема: альтернативный процесс 14"/>
          <p:cNvSpPr/>
          <p:nvPr/>
        </p:nvSpPr>
        <p:spPr>
          <a:xfrm>
            <a:off x="500040" y="2214720"/>
            <a:ext cx="2160720" cy="571320"/>
          </a:xfrm>
          <a:prstGeom prst="flowChartAlternateProcess">
            <a:avLst/>
          </a:prstGeom>
          <a:solidFill>
            <a:srgbClr val="cf9b3d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ловес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Блок-схема: альтернативный процесс 15"/>
          <p:cNvSpPr/>
          <p:nvPr/>
        </p:nvSpPr>
        <p:spPr>
          <a:xfrm>
            <a:off x="500040" y="3500280"/>
            <a:ext cx="2160720" cy="571680"/>
          </a:xfrm>
          <a:prstGeom prst="flowChartAlternateProcess">
            <a:avLst/>
          </a:prstGeom>
          <a:solidFill>
            <a:srgbClr val="cf9b3d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Нагляд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Блок-схема: альтернативный процесс 16"/>
          <p:cNvSpPr/>
          <p:nvPr/>
        </p:nvSpPr>
        <p:spPr>
          <a:xfrm>
            <a:off x="571680" y="4857840"/>
            <a:ext cx="2160360" cy="571320"/>
          </a:xfrm>
          <a:prstGeom prst="flowChartAlternateProcess">
            <a:avLst/>
          </a:prstGeom>
          <a:solidFill>
            <a:srgbClr val="cf9b3d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гров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Скругленный прямоугольник 19"/>
          <p:cNvSpPr/>
          <p:nvPr/>
        </p:nvSpPr>
        <p:spPr>
          <a:xfrm>
            <a:off x="5429160" y="2214720"/>
            <a:ext cx="3286080" cy="1214280"/>
          </a:xfrm>
          <a:prstGeom prst="roundRect">
            <a:avLst>
              <a:gd name="adj" fmla="val 10000"/>
            </a:avLst>
          </a:prstGeom>
          <a:solidFill>
            <a:srgbClr val="c0504d"/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ование  снежинки по точк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Блок-схема: альтернативный процесс 11"/>
          <p:cNvSpPr/>
          <p:nvPr/>
        </p:nvSpPr>
        <p:spPr>
          <a:xfrm>
            <a:off x="5429160" y="2214720"/>
            <a:ext cx="2160720" cy="571320"/>
          </a:xfrm>
          <a:prstGeom prst="flowChartAlternateProcess">
            <a:avLst/>
          </a:prstGeom>
          <a:solidFill>
            <a:srgbClr val="cf9b3d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рактическ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Скругленный прямоугольник 12"/>
          <p:cNvSpPr/>
          <p:nvPr/>
        </p:nvSpPr>
        <p:spPr>
          <a:xfrm>
            <a:off x="5429160" y="3500280"/>
            <a:ext cx="3286080" cy="1216080"/>
          </a:xfrm>
          <a:prstGeom prst="roundRect">
            <a:avLst>
              <a:gd name="adj" fmla="val 10000"/>
            </a:avLst>
          </a:pr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лан для составления рассказа в форме мод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Блок-схема: альтернативный процесс 18"/>
          <p:cNvSpPr/>
          <p:nvPr/>
        </p:nvSpPr>
        <p:spPr>
          <a:xfrm>
            <a:off x="5429160" y="3500280"/>
            <a:ext cx="2160720" cy="571680"/>
          </a:xfrm>
          <a:prstGeom prst="flowChartAlternateProcess">
            <a:avLst/>
          </a:prstGeom>
          <a:solidFill>
            <a:srgbClr val="cf9b3d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делир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1"/>
          <p:cNvSpPr/>
          <p:nvPr/>
        </p:nvSpPr>
        <p:spPr>
          <a:xfrm>
            <a:off x="928800" y="430560"/>
            <a:ext cx="7286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Муниципальное дошкольное образовательное учрежд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детский сад  №61 «Лель»</a:t>
            </a:r>
            <a:r>
              <a:rPr b="1" lang="ru-RU" sz="1400" spc="-1" strike="noStrike">
                <a:solidFill>
                  <a:srgbClr val="ff0000"/>
                </a:solidFill>
                <a:latin typeface="Bookman Old Styl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Заголовок 1" descr=""/>
          <p:cNvPicPr/>
          <p:nvPr/>
        </p:nvPicPr>
        <p:blipFill>
          <a:blip r:embed="rId1"/>
          <a:stretch/>
        </p:blipFill>
        <p:spPr>
          <a:xfrm>
            <a:off x="500040" y="1000080"/>
            <a:ext cx="8229600" cy="10000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 txBox="1"/>
          <p:nvPr/>
        </p:nvSpPr>
        <p:spPr>
          <a:xfrm>
            <a:off x="457200" y="2071800"/>
            <a:ext cx="822960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7375e"/>
                </a:solidFill>
                <a:latin typeface="Calibri"/>
              </a:rPr>
              <a:t>Аппарат для оценивания представлен </a:t>
            </a:r>
            <a:r>
              <a:rPr b="0" lang="ru-RU" sz="2200" spc="-1" strike="noStrike">
                <a:solidFill>
                  <a:srgbClr val="17375e"/>
                </a:solidFill>
                <a:latin typeface="Calibri"/>
              </a:rPr>
              <a:t>положительной индивидуально-дифференцированной оценкой педагога деятельности всех воспитанников. Педагог подчеркивает особую значимость работы детей: все старались, рассказ получился интересный. Отмечает работу наиболее активных и наблюдательных детей.</a:t>
            </a:r>
            <a:endParaRPr b="0" lang="en-US" sz="2200" spc="-1" strike="noStrike">
              <a:solidFill>
                <a:srgbClr val="17375e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17375e"/>
                </a:solidFill>
                <a:latin typeface="Calibri"/>
              </a:rPr>
              <a:t>Целесообразность и характер постановки домашнего задания: </a:t>
            </a:r>
            <a:r>
              <a:rPr b="0" lang="ru-RU" sz="2200" spc="-1" strike="noStrike">
                <a:solidFill>
                  <a:srgbClr val="17375e"/>
                </a:solidFill>
                <a:latin typeface="Calibri"/>
              </a:rPr>
              <a:t>умения и навыки по составлению рассказов, полученные в процессе специально-организованного обучения, закрепляются в совместной деятельности воспитателя с детьми, в индивидуальной работе, а также в ходе сотрудничества с родителями воспитанников. </a:t>
            </a:r>
            <a:endParaRPr b="0" lang="en-US" sz="2200" spc="-1" strike="noStrike">
              <a:solidFill>
                <a:srgbClr val="17375e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17375e"/>
                </a:solidFill>
                <a:latin typeface="Calibri"/>
              </a:rPr>
              <a:t>Домашнее задание в детском саду не дается.</a:t>
            </a:r>
            <a:endParaRPr b="0" lang="en-US" sz="2200" spc="-1" strike="noStrike">
              <a:solidFill>
                <a:srgbClr val="17375e"/>
              </a:solidFill>
              <a:latin typeface="Calibri"/>
            </a:endParaRPr>
          </a:p>
          <a:p>
            <a:pPr indent="900000">
              <a:lnSpc>
                <a:spcPct val="80000"/>
              </a:lnSpc>
              <a:spcBef>
                <a:spcPts val="550"/>
              </a:spcBef>
              <a:buClr>
                <a:srgbClr val="e46c0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9T14:15:01Z</dcterms:created>
  <dc:creator>Ириша</dc:creator>
  <dc:description/>
  <cp:keywords/>
  <dc:language>en-US</dc:language>
  <cp:lastModifiedBy>Рамазан Агаяров</cp:lastModifiedBy>
  <dcterms:modified xsi:type="dcterms:W3CDTF">2018-02-01T14:56:26Z</dcterms:modified>
  <cp:revision>61</cp:revision>
  <dc:subject/>
  <dc:title>ЗАГОЛОВОК ПРЕЗЕНТАЦИИ</dc:title>
</cp:coreProperties>
</file>