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F1B-729A-41F3-8F60-F4A99976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564-C859-4816-BD38-C56D32C9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EC5-2C90-4FC5-917E-5947723C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A64-F416-4D92-8618-E2F0F2A0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EC8-4ED4-46FE-B5E6-CB66388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643-FE5E-4E30-A812-52D061DA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918-CCD9-4597-B310-B14E8093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3B6-6F76-4B73-95CA-DB4A6D7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9D3-61AF-4CC0-8E91-66F6C20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283-7403-44B2-90DF-14D9B5A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BA9-BD5C-4416-B39C-86DE9DF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CB8-4377-43E1-941B-A919996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947C-BC07-4E0A-910E-A2A6B92E2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6.jpg"/>
          <p:cNvPicPr/>
          <p:nvPr/>
        </p:nvPicPr>
        <p:blipFill>
          <a:blip r:embed="rId4"/>
          <a:stretch/>
        </p:blipFill>
        <p:spPr>
          <a:xfrm>
            <a:off x="231840" y="225360"/>
            <a:ext cx="8674200" cy="645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84360" y="3644640"/>
            <a:ext cx="64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ца 3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У «Баевская Н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ягина Крист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619280" y="1484280"/>
            <a:ext cx="59054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7" descr=""/>
          <p:cNvPicPr/>
          <p:nvPr/>
        </p:nvPicPr>
        <p:blipFill>
          <a:blip r:embed="rId2"/>
          <a:stretch/>
        </p:blipFill>
        <p:spPr>
          <a:xfrm>
            <a:off x="1109520" y="1316160"/>
            <a:ext cx="72853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324000" y="54450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хоронен Юрий Гагарин у Кремлёвской ст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 Красной площ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017-1"/>
          <p:cNvPicPr/>
          <p:nvPr/>
        </p:nvPicPr>
        <p:blipFill>
          <a:blip r:embed="rId2"/>
          <a:stretch/>
        </p:blipFill>
        <p:spPr>
          <a:xfrm>
            <a:off x="468360" y="692280"/>
            <a:ext cx="3198600" cy="424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0020sbwe"/>
          <p:cNvPicPr/>
          <p:nvPr/>
        </p:nvPicPr>
        <p:blipFill>
          <a:blip r:embed="rId3"/>
          <a:stretch/>
        </p:blipFill>
        <p:spPr>
          <a:xfrm>
            <a:off x="3851280" y="1341360"/>
            <a:ext cx="4848120" cy="308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755640" y="5229360"/>
            <a:ext cx="785988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амять о нём 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ва в сердцах людей !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8" descr="Картинка 42 из 9592"/>
          <p:cNvPicPr/>
          <p:nvPr/>
        </p:nvPicPr>
        <p:blipFill>
          <a:blip r:embed="rId2"/>
          <a:stretch/>
        </p:blipFill>
        <p:spPr>
          <a:xfrm>
            <a:off x="5651640" y="476280"/>
            <a:ext cx="3098520" cy="460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%D0%97%D0%B0%D0%BF%D0%B8%D1%81%D0%BA%D0%B0_%D0%93%D0%B0%D0%B3%D0%B0%D1%80%D0%B8%D0%BD%D0%B0"/>
          <p:cNvPicPr/>
          <p:nvPr/>
        </p:nvPicPr>
        <p:blipFill>
          <a:blip r:embed="rId3"/>
          <a:srcRect l="4554" t="0" r="0" b="12246"/>
          <a:stretch/>
        </p:blipFill>
        <p:spPr>
          <a:xfrm>
            <a:off x="324000" y="1197000"/>
            <a:ext cx="525600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295128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Юрий Гагарин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я вдохновляет то, что из обычного деревенского мальчик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. Гагарин  выро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о мировой знаменит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http://img0.liveinternet.ru/images/attach/c/10/110/946/110946256_1270835136_gagarin.jpg"/>
          <p:cNvPicPr/>
          <p:nvPr/>
        </p:nvPicPr>
        <p:blipFill>
          <a:blip r:embed="rId2"/>
          <a:stretch/>
        </p:blipFill>
        <p:spPr>
          <a:xfrm>
            <a:off x="4284720" y="765000"/>
            <a:ext cx="4048200" cy="4876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учить вклад в развитие космонавтики известного космонавта Юрия Алексеевича  Гагар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Юрий Гагарин – наш геро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Картинка 46 из 9633"/>
          <p:cNvPicPr/>
          <p:nvPr/>
        </p:nvPicPr>
        <p:blipFill>
          <a:blip r:embed="rId1"/>
          <a:stretch/>
        </p:blipFill>
        <p:spPr>
          <a:xfrm>
            <a:off x="1581120" y="2259000"/>
            <a:ext cx="5981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50920" y="5157720"/>
            <a:ext cx="85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Юрий Алексеевич Гагарин родился 9 марта 1934 года в Смоленской области, недалеко от города Гжатск, который ныне переименован в Гагари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imgB"/>
          <p:cNvPicPr/>
          <p:nvPr/>
        </p:nvPicPr>
        <p:blipFill>
          <a:blip r:embed="rId2"/>
          <a:stretch/>
        </p:blipFill>
        <p:spPr>
          <a:xfrm>
            <a:off x="1332000" y="404640"/>
            <a:ext cx="6408720" cy="44323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424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Его отец, Алексей Иванович Гагарин - работал плотнико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ать, Анна Тимофеевна Матвеева - работала на молочной фе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Картинка 7 из 1230"/>
          <p:cNvPicPr/>
          <p:nvPr/>
        </p:nvPicPr>
        <p:blipFill>
          <a:blip r:embed="rId2"/>
          <a:stretch/>
        </p:blipFill>
        <p:spPr>
          <a:xfrm>
            <a:off x="611280" y="260280"/>
            <a:ext cx="795636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4392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1 сентября 1941 года, пошёл в школу, но 12 октября деревню заняли немцы и учёба прервалас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Два года деревня была оккупирована немц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Calibri"/>
              </a:rPr>
              <a:t>9 апреля 1943 года, деревню освободила Красная армия, и учёба в школе возобновилась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Картинка 1 из 5640"/>
          <p:cNvPicPr/>
          <p:nvPr/>
        </p:nvPicPr>
        <p:blipFill>
          <a:blip r:embed="rId2"/>
          <a:stretch/>
        </p:blipFill>
        <p:spPr>
          <a:xfrm>
            <a:off x="5076720" y="620640"/>
            <a:ext cx="3745080" cy="525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0" y="4113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Ю.Гагарин поступает в Саратовский индустриальный техник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А через 3 года впервые пришёл в Саратовский аэроклу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где совершил первый самостоятельный полёт на самолёте ЯК-1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Он с отличием окончил Саратовский индустриаль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хникум, и Саратовский аэрокл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Картинка 3 из 91"/>
          <p:cNvPicPr/>
          <p:nvPr/>
        </p:nvPicPr>
        <p:blipFill>
          <a:blip r:embed="rId2"/>
          <a:stretch/>
        </p:blipFill>
        <p:spPr>
          <a:xfrm>
            <a:off x="539640" y="333360"/>
            <a:ext cx="2664000" cy="36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Картинка 5 из 91"/>
          <p:cNvPicPr/>
          <p:nvPr/>
        </p:nvPicPr>
        <p:blipFill>
          <a:blip r:embed="rId3"/>
          <a:stretch/>
        </p:blipFill>
        <p:spPr>
          <a:xfrm>
            <a:off x="4067280" y="333360"/>
            <a:ext cx="4752720" cy="3524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5690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12 апреля 1961 г. Юрий Гагарин первым из землян совершил космический полет на корабле "Восток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За этот подвиг ему было присвоено звание Героя Советского Союза, а день полета Гагарина в космос был объявлен праздником - Днём космонав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Картинка 46 из 9633"/>
          <p:cNvPicPr/>
          <p:nvPr/>
        </p:nvPicPr>
        <p:blipFill>
          <a:blip r:embed="rId2"/>
          <a:stretch/>
        </p:blipFill>
        <p:spPr>
          <a:xfrm>
            <a:off x="1258920" y="2492280"/>
            <a:ext cx="7058160" cy="3787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66250333_5----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Место гибели Ю. Гагарина и В. Серёгина - Мемориал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Gagarin_3"/>
          <p:cNvPicPr/>
          <p:nvPr/>
        </p:nvPicPr>
        <p:blipFill>
          <a:blip r:embed="rId2"/>
          <a:stretch/>
        </p:blipFill>
        <p:spPr>
          <a:xfrm>
            <a:off x="1763640" y="1052640"/>
            <a:ext cx="5616720" cy="3735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324000" y="4941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7 марта 1968 года Ю. А. Гагарин погиб при невыясненных обстоятельствах во время одного из тренировочных полётов вместе с военным лётч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. С. Серёги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6:15:37Z</dcterms:created>
  <dc:creator>Пользователь</dc:creator>
  <dc:description/>
  <dc:language>en-US</dc:language>
  <cp:lastModifiedBy>Надежда</cp:lastModifiedBy>
  <dcterms:modified xsi:type="dcterms:W3CDTF">2017-09-20T17:29:58Z</dcterms:modified>
  <cp:revision>25</cp:revision>
  <dc:subject/>
  <dc:title>Слайд 1</dc:title>
</cp:coreProperties>
</file>