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8A7-6236-4CEE-BCC2-857C7116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15F-82C1-482A-829B-D92088D9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5AB-6379-4F70-8878-141A7187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C0F-6CB7-4D71-BBD9-23EDCA72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D3EB-653E-477C-8E2F-D6FE72A0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EE7E-B667-4C56-AB71-18295ED8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9364-59BD-47FE-94F0-29687964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D620-B259-4347-B715-31192BBA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FCA2-9263-4223-B6BA-C029F045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A6F6-34AF-48D0-BF1A-F8D8827C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FD27-BB7E-4460-A15A-F4861A0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0A4-D1E5-4A98-8763-7CB8706F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E3ED-A8C6-4BE8-AB2F-526C46C6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4098-787F-4899-9486-E17E3DBD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6B5D-6984-4B15-BD0D-389DA4CA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AA83-FA59-4A3A-B53A-1F9075B3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83AA-841B-488F-AD69-11507B7D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831-9C1A-44E4-BC96-5D6BAE4B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BB2-40E2-44E1-868B-F24245C6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737-A549-472C-AE5E-F41ECAB2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EE2-C2ED-48BB-9D65-3C7D1916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004-D683-4C35-9913-94485959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FF5-03EC-42E1-B325-FD0113D6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D3A-8F8B-4DE0-882E-99E06000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5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295b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295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295b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295b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9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9F4F-9DAE-480B-A42B-2A801DD2FF49}" type="slidenum">
              <a:rPr b="0" lang="ru-RU" sz="1400" spc="-1" strike="noStrike">
                <a:solidFill>
                  <a:srgbClr val="00295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5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295b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295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295b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295b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295b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9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FF1A-2D53-4AD8-AEA5-DB75D6A2CF6F}" type="slidenum">
              <a:rPr b="0" lang="ru-RU" sz="1400" spc="-1" strike="noStrike">
                <a:solidFill>
                  <a:srgbClr val="00295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18880"/>
            <a:ext cx="504036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80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3333cc"/>
                </a:solidFill>
                <a:latin typeface="Arial"/>
              </a:rPr>
              <a:t>Рыбки в аквариуме</a:t>
            </a:r>
            <a:endParaRPr b="0" lang="en-US" sz="8000" spc="-1" strike="noStrike">
              <a:solidFill>
                <a:srgbClr val="00295b"/>
              </a:solidFill>
              <a:latin typeface="Georgia"/>
            </a:endParaRPr>
          </a:p>
        </p:txBody>
      </p:sp>
      <p:pic>
        <p:nvPicPr>
          <p:cNvPr id="86" name="Picture 5" descr="002"/>
          <p:cNvPicPr/>
          <p:nvPr/>
        </p:nvPicPr>
        <p:blipFill>
          <a:blip r:embed="rId1"/>
          <a:stretch/>
        </p:blipFill>
        <p:spPr>
          <a:xfrm>
            <a:off x="539640" y="6381720"/>
            <a:ext cx="8425080" cy="14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002"/>
          <p:cNvPicPr/>
          <p:nvPr/>
        </p:nvPicPr>
        <p:blipFill>
          <a:blip r:embed="rId2"/>
          <a:stretch/>
        </p:blipFill>
        <p:spPr>
          <a:xfrm rot="5400000">
            <a:off x="5290920" y="3501720"/>
            <a:ext cx="6597720" cy="11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437990"/>
          <p:cNvPicPr/>
          <p:nvPr/>
        </p:nvPicPr>
        <p:blipFill>
          <a:blip r:embed="rId3"/>
          <a:stretch/>
        </p:blipFill>
        <p:spPr>
          <a:xfrm>
            <a:off x="250920" y="4437000"/>
            <a:ext cx="203832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:\для презентаций с\рыбки разные\3-Kopyala.jpg"/>
          <p:cNvPicPr/>
          <p:nvPr/>
        </p:nvPicPr>
        <p:blipFill>
          <a:blip r:embed="rId4"/>
          <a:stretch/>
        </p:blipFill>
        <p:spPr>
          <a:xfrm>
            <a:off x="1042920" y="333360"/>
            <a:ext cx="6121440" cy="25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4716360" y="981000"/>
            <a:ext cx="3672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от звонок нам дал сигн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н учиться нас позвал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А мы время не теряе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 урок наш начинае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Мы работать будем дружно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Чтоб услышать нам в конце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Что ребята в нашем классе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се конечно молодцы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" name="Picture 2" descr="http://sunveter.ru/uploads/posts/2015-08/1439925582_bell1.png"/>
          <p:cNvPicPr/>
          <p:nvPr/>
        </p:nvPicPr>
        <p:blipFill>
          <a:blip r:embed="rId1"/>
          <a:stretch/>
        </p:blipFill>
        <p:spPr>
          <a:xfrm>
            <a:off x="1835280" y="981000"/>
            <a:ext cx="23349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fs.nashaucheba.ru/tw_files2/urls_3/1335/d-1334423/img12.jpg"/>
          <p:cNvPicPr/>
          <p:nvPr/>
        </p:nvPicPr>
        <p:blipFill>
          <a:blip r:embed="rId1"/>
          <a:stretch/>
        </p:blipFill>
        <p:spPr>
          <a:xfrm>
            <a:off x="3419640" y="549360"/>
            <a:ext cx="5243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s://fs00.infourok.ru/images/doc/259/263948/img4.jpg"/>
          <p:cNvPicPr/>
          <p:nvPr/>
        </p:nvPicPr>
        <p:blipFill>
          <a:blip r:embed="rId1"/>
          <a:stretch/>
        </p:blipFill>
        <p:spPr>
          <a:xfrm>
            <a:off x="3492360" y="368280"/>
            <a:ext cx="53276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https://www.aqa.ru/photos/data/media/13/aqa.ru-20121216205300.jpg"/>
          <p:cNvPicPr/>
          <p:nvPr/>
        </p:nvPicPr>
        <p:blipFill>
          <a:blip r:embed="rId1"/>
          <a:stretch/>
        </p:blipFill>
        <p:spPr>
          <a:xfrm>
            <a:off x="3132000" y="404640"/>
            <a:ext cx="560412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soundpirates.us/wp-content/uploads/309-best-origami-images-on-pinterest-oragami-origami-paper-and-how-to-origami-fish.jpg"/>
          <p:cNvPicPr/>
          <p:nvPr/>
        </p:nvPicPr>
        <p:blipFill>
          <a:blip r:embed="rId1"/>
          <a:stretch/>
        </p:blipFill>
        <p:spPr>
          <a:xfrm>
            <a:off x="4572000" y="692280"/>
            <a:ext cx="394488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418920" y="18900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детей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Picture 2" descr="https://avatars.mds.yandex.net/get-pdb/33827/7348925c-22d7-4f9d-a882-e814bf711a31/s1200?webp=false"/>
          <p:cNvPicPr/>
          <p:nvPr/>
        </p:nvPicPr>
        <p:blipFill>
          <a:blip r:embed="rId1"/>
          <a:stretch/>
        </p:blipFill>
        <p:spPr>
          <a:xfrm>
            <a:off x="3306600" y="981000"/>
            <a:ext cx="5565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2:25:11Z</dcterms:created>
  <dc:creator>Customer</dc:creator>
  <dc:description/>
  <cp:keywords/>
  <dc:language>en-US</dc:language>
  <cp:lastModifiedBy>User</cp:lastModifiedBy>
  <dcterms:modified xsi:type="dcterms:W3CDTF">2018-01-23T12:35:09Z</dcterms:modified>
  <cp:revision>19</cp:revision>
  <dc:subject/>
  <dc:title>Чаруш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41049</vt:lpwstr>
  </property>
</Properties>
</file>