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D6D-54C6-4FDA-9201-EC560F69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14F-2308-4AFB-BD3D-122C219A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3BF-577C-43C7-A9F6-838B5D07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501-B29D-4B84-B102-70514C4F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C548E-5EB1-4385-8B9D-E987E9DF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7D17-C418-42C7-9275-AE4CDAB8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3A9CE-871F-41E7-9D24-72FC615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8833C-C2A3-4180-8FDC-279CC79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C8468-7B74-49A3-9470-5AE2898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99918-BE75-41C2-87E5-F9EB495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78C8B-DE36-4F01-8719-2873C91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9E9-C421-4289-A4FD-F9ADEB00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2C4F5-3B23-407A-ABDC-D82205B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5FB8-6053-4A28-AADA-2EF413F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8C91B-ACFF-4D29-933E-E58F4E2F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4C7A8-F710-4630-8292-C2B0EA08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305D6-BC46-4CD2-91DE-A5C9841A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846-397E-41BA-854D-4EDCB65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222-46E8-4FD7-A74E-6D3C6A95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A7D-DEA5-4313-880A-19CA54C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BA0-3F14-4AAA-80D3-ABB7A1B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307-A335-4C61-A190-E948C9C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080-FE5A-4F57-8652-298EACA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ECB-2D99-4729-89DC-7A2CF98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9C63-9096-4C51-811F-F9F285899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AADA-9FD1-4805-BB32-EA193FB7EE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68520"/>
            <a:ext cx="9144000" cy="2868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Tahoma"/>
              </a:rPr>
              <a:t>Струнные смычковые музыкальные инструменты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857240" y="4653000"/>
            <a:ext cx="55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Составила: музыкальный руководитель МБДОУ детского сада №20 г. Павлово Егорова Е.Б.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1 квалификационная катег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ahoma"/>
              </a:rPr>
              <a:t>Ансамбль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– небольшая группа           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исполн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ahoma"/>
              </a:rPr>
              <a:t>Оркестр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– большой коллектив           музыкантов, которые     объединяются для    совместного исполнения музыкальных                произвед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Симфонический оркест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http://www.mkra.ru/photo/SO.JPG"/>
          <p:cNvPicPr/>
          <p:nvPr/>
        </p:nvPicPr>
        <p:blipFill>
          <a:blip r:embed="rId1"/>
          <a:stretch/>
        </p:blipFill>
        <p:spPr>
          <a:xfrm>
            <a:off x="1285920" y="1428840"/>
            <a:ext cx="6738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Расположение инструментов  симфонического оркес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C:\Documents and Settings\Admin\Рабочий стол\cbvajybx.jpg"/>
          <p:cNvPicPr/>
          <p:nvPr/>
        </p:nvPicPr>
        <p:blipFill>
          <a:blip r:embed="rId1"/>
          <a:stretch/>
        </p:blipFill>
        <p:spPr>
          <a:xfrm>
            <a:off x="533520" y="1628640"/>
            <a:ext cx="8194680" cy="4837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DS Note"/>
              </a:rPr>
              <a:t>Группа Струнных смычковых  инструм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viola_da_gamba"/>
          <p:cNvPicPr/>
          <p:nvPr/>
        </p:nvPicPr>
        <p:blipFill>
          <a:blip r:embed="rId1"/>
          <a:stretch/>
        </p:blipFill>
        <p:spPr>
          <a:xfrm>
            <a:off x="755640" y="1449360"/>
            <a:ext cx="7856640" cy="4938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93"/>
          <p:cNvPicPr/>
          <p:nvPr/>
        </p:nvPicPr>
        <p:blipFill>
          <a:blip r:embed="rId1"/>
          <a:stretch/>
        </p:blipFill>
        <p:spPr>
          <a:xfrm>
            <a:off x="3059280" y="0"/>
            <a:ext cx="2989080" cy="329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img_0886"/>
          <p:cNvPicPr/>
          <p:nvPr/>
        </p:nvPicPr>
        <p:blipFill>
          <a:blip r:embed="rId2"/>
          <a:stretch/>
        </p:blipFill>
        <p:spPr>
          <a:xfrm>
            <a:off x="2411280" y="3716280"/>
            <a:ext cx="3884760" cy="29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800091"/>
          <p:cNvPicPr/>
          <p:nvPr/>
        </p:nvPicPr>
        <p:blipFill>
          <a:blip r:embed="rId3"/>
          <a:stretch/>
        </p:blipFill>
        <p:spPr>
          <a:xfrm>
            <a:off x="6084720" y="134136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68290"/>
          <p:cNvPicPr/>
          <p:nvPr/>
        </p:nvPicPr>
        <p:blipFill>
          <a:blip r:embed="rId4"/>
          <a:stretch/>
        </p:blipFill>
        <p:spPr>
          <a:xfrm>
            <a:off x="250920" y="1268280"/>
            <a:ext cx="2784240" cy="417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кварт"/>
          <p:cNvPicPr/>
          <p:nvPr/>
        </p:nvPicPr>
        <p:blipFill>
          <a:blip r:embed="rId1"/>
          <a:stretch/>
        </p:blipFill>
        <p:spPr>
          <a:xfrm>
            <a:off x="2124000" y="189000"/>
            <a:ext cx="456876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56405417_1"/>
          <p:cNvPicPr/>
          <p:nvPr/>
        </p:nvPicPr>
        <p:blipFill>
          <a:blip r:embed="rId1"/>
          <a:stretch/>
        </p:blipFill>
        <p:spPr>
          <a:xfrm>
            <a:off x="684360" y="620640"/>
            <a:ext cx="380988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5683"/>
          <p:cNvPicPr/>
          <p:nvPr/>
        </p:nvPicPr>
        <p:blipFill>
          <a:blip r:embed="rId2"/>
          <a:stretch/>
        </p:blipFill>
        <p:spPr>
          <a:xfrm>
            <a:off x="5219640" y="642960"/>
            <a:ext cx="3095640" cy="4392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57120" y="521496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Никколо Паганини     Мстислав Ростроп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ВОЛШЕБНЫЙ СМЫЧ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Пришел к нам в се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Музыкант – старичок.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 руках музыканта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олшебный смыч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Ударил по струнам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бежался народ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Танцует, играет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меётся, по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Шел мимо богач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Услыхал скрипача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И вспыхнула зави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 душе богач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- Продай свою скрипку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Ты беден и ста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Я дам за нее теб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Хлеба амбар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-Я скрипку сво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 продам ник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ужна эта скрип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 мне одн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Под звуки е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еселится народ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Танцует, играет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меется, по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54:37Z</dcterms:created>
  <dc:creator>Алинка</dc:creator>
  <dc:description/>
  <dc:language>en-US</dc:language>
  <cp:lastModifiedBy>пользователь</cp:lastModifiedBy>
  <dcterms:modified xsi:type="dcterms:W3CDTF">2018-02-01T12:27:23Z</dcterms:modified>
  <cp:revision>20</cp:revision>
  <dc:subject/>
  <dc:title>Струнные смычковые музыкальные инструм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