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0D79B2-C278-4EE1-A3C7-A01A60F4F3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172321-3119-4D80-9B4E-C5FEB17727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F8D53D-C043-42F0-98D9-B8FA84218E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27AFF-5611-4711-81D8-0BB063E0EA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EE3E77-70A3-4279-B303-A519703BED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03E652-25D3-4D58-A303-64F18A155B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017F4-181A-49FA-B9F6-1EBE6C94C1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9C48DD-406C-4286-AED1-1370EB8B87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034F3-8690-472F-B94C-CA2A79020C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3AADFC-AA84-48D2-97BA-EBA83393CC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AD0BDB-9C8C-41AD-B0A0-47826BA5F2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D5597D-D284-4815-BE1C-4621122571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8C4939-81A0-4286-95E4-3643244076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14BABA-9DC6-4620-93E2-088C272800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BB2F78-648B-4224-A873-5A9CC75AC9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77CCB-B700-4FA7-B3C7-3EAE69754A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6F5FCC-F0F2-4906-BEAE-8347BB7BAF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B72D89-24FD-4288-ADB8-C6186F6C44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9377F8-7302-4082-85BF-AD1FFB2643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00665B-934A-46A6-B748-DEED2AADAE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CC57DA-1664-4AD1-9136-0BE87E0D17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7C1D-4D95-4570-B194-5ECA1E1F5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462D-A79B-42F0-A3A1-9EBD3C2A4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A9CE-4719-477A-A570-1EB4D402A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C730-0FA3-442A-BF19-1B3F05A67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4B17-B77D-476C-99F3-89390ECA7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B3FD-DF4D-4F91-9A6A-7DD2C7BEE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53A1-6597-4509-8A9E-DD65AE1A7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66D2-DFCD-417C-8EE9-697BA1BC4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8B2C-1D86-45BC-9AF5-8AD27FD9B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04A5-09CF-4799-AB90-ACCA81EA9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7291-1D7A-4112-9B5F-DEEC3CE0C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31F2-9A60-4ACE-9578-A54B4586C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BCFB7-F800-4254-850C-964D42BDF9A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1071720" y="1000080"/>
            <a:ext cx="70005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1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ст по теме: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715080" y="521496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0040" y="2928960"/>
            <a:ext cx="8001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6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cc99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«Магнитное поле»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262080" y="203040"/>
            <a:ext cx="885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9. По проводнику течёт ток от нас. Определите направление магнитных линий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5572080" y="2143080"/>
            <a:ext cx="2855880" cy="3070440"/>
            <a:chOff x="5572080" y="2143080"/>
            <a:chExt cx="2855880" cy="3070440"/>
          </a:xfrm>
        </p:grpSpPr>
        <p:sp>
          <p:nvSpPr>
            <p:cNvPr id="154" name="Oval 3"/>
            <p:cNvSpPr/>
            <p:nvPr/>
          </p:nvSpPr>
          <p:spPr>
            <a:xfrm>
              <a:off x="6715080" y="3357720"/>
              <a:ext cx="569880" cy="64116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4"/>
            <p:cNvSpPr/>
            <p:nvPr/>
          </p:nvSpPr>
          <p:spPr>
            <a:xfrm>
              <a:off x="6799320" y="3451320"/>
              <a:ext cx="401760" cy="4525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 flipH="1">
              <a:off x="6797160" y="3451320"/>
              <a:ext cx="405000" cy="4525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6072120" y="2714760"/>
              <a:ext cx="1855800" cy="19270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5572080" y="2143080"/>
              <a:ext cx="2855880" cy="307044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285840" y="2214720"/>
            <a:ext cx="52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по часовой стрелке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против часовой стрелки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не хватает данных для ответа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среди ответов нет правильного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9280" y="274680"/>
            <a:ext cx="8750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0. Определите направление силы Ампера, действующей на проводник с током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6429240" y="1928880"/>
            <a:ext cx="1785960" cy="114300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500880" y="4071960"/>
            <a:ext cx="1785960" cy="1143000"/>
          </a:xfrm>
          <a:prstGeom prst="rect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AutoShape 4"/>
          <p:cNvCxnSpPr/>
          <p:nvPr/>
        </p:nvCxnSpPr>
        <p:spPr>
          <a:xfrm>
            <a:off x="6000480" y="3571920"/>
            <a:ext cx="278676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64" name="Text Box 5"/>
          <p:cNvSpPr/>
          <p:nvPr/>
        </p:nvSpPr>
        <p:spPr>
          <a:xfrm>
            <a:off x="5929200" y="30718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14280" y="2500200"/>
            <a:ext cx="271476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вверх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вниз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на нас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от нас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85840" y="274680"/>
            <a:ext cx="8643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1. Определите направление силы Лоренца, действующей на движущийся электрический заряд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AutoShape 2"/>
          <p:cNvCxnSpPr/>
          <p:nvPr/>
        </p:nvCxnSpPr>
        <p:spPr>
          <a:xfrm>
            <a:off x="4857480" y="2786040"/>
            <a:ext cx="278676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68" name="Text Box 3"/>
          <p:cNvSpPr/>
          <p:nvPr/>
        </p:nvSpPr>
        <p:spPr>
          <a:xfrm>
            <a:off x="1000080" y="2500200"/>
            <a:ext cx="271476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вверх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вниз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на нас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от нас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4786200" y="2142360"/>
            <a:ext cx="428400" cy="521280"/>
            <a:chOff x="4786200" y="2142360"/>
            <a:chExt cx="428400" cy="521280"/>
          </a:xfrm>
        </p:grpSpPr>
        <p:sp>
          <p:nvSpPr>
            <p:cNvPr id="170" name="Text Box 5"/>
            <p:cNvSpPr/>
            <p:nvPr/>
          </p:nvSpPr>
          <p:spPr>
            <a:xfrm>
              <a:off x="4786200" y="2143080"/>
              <a:ext cx="3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AutoShape 6"/>
            <p:cNvCxnSpPr>
              <a:stCxn id="170" idx="0"/>
            </p:cNvCxnSpPr>
            <p:nvPr/>
          </p:nvCxnSpPr>
          <p:spPr>
            <a:xfrm flipV="1">
              <a:off x="4964760" y="2142360"/>
              <a:ext cx="250200" cy="108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" name="Group 7"/>
          <p:cNvGrpSpPr/>
          <p:nvPr/>
        </p:nvGrpSpPr>
        <p:grpSpPr>
          <a:xfrm>
            <a:off x="6072120" y="3357720"/>
            <a:ext cx="569880" cy="569880"/>
            <a:chOff x="6072120" y="3357720"/>
            <a:chExt cx="569880" cy="569880"/>
          </a:xfrm>
        </p:grpSpPr>
        <p:sp>
          <p:nvSpPr>
            <p:cNvPr id="173" name="Oval 8"/>
            <p:cNvSpPr/>
            <p:nvPr/>
          </p:nvSpPr>
          <p:spPr>
            <a:xfrm>
              <a:off x="6072120" y="3357720"/>
              <a:ext cx="569880" cy="5698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 flipH="1">
              <a:off x="6354360" y="3502080"/>
              <a:ext cx="3240" cy="284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6215040" y="3643200"/>
              <a:ext cx="28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1"/>
          <p:cNvCxnSpPr/>
          <p:nvPr/>
        </p:nvCxnSpPr>
        <p:spPr>
          <a:xfrm>
            <a:off x="4928760" y="3285720"/>
            <a:ext cx="278676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77" name="AutoShape 12"/>
          <p:cNvCxnSpPr/>
          <p:nvPr/>
        </p:nvCxnSpPr>
        <p:spPr>
          <a:xfrm>
            <a:off x="4928760" y="4071960"/>
            <a:ext cx="278676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78" name="AutoShape 13"/>
          <p:cNvCxnSpPr/>
          <p:nvPr/>
        </p:nvCxnSpPr>
        <p:spPr>
          <a:xfrm>
            <a:off x="5000400" y="4642920"/>
            <a:ext cx="278676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79" name="AutoShape 14"/>
          <p:cNvCxnSpPr>
            <a:stCxn id="173" idx="4"/>
          </p:cNvCxnSpPr>
          <p:nvPr/>
        </p:nvCxnSpPr>
        <p:spPr>
          <a:xfrm>
            <a:off x="6357960" y="3929040"/>
            <a:ext cx="2160" cy="50400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80" name="Text Box 15"/>
          <p:cNvSpPr/>
          <p:nvPr/>
        </p:nvSpPr>
        <p:spPr>
          <a:xfrm>
            <a:off x="6429240" y="41432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AutoShape 16"/>
          <p:cNvCxnSpPr/>
          <p:nvPr/>
        </p:nvCxnSpPr>
        <p:spPr>
          <a:xfrm>
            <a:off x="6500520" y="4142880"/>
            <a:ext cx="214920" cy="3960"/>
          </a:xfrm>
          <a:prstGeom prst="straightConnector1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08000" y="274680"/>
            <a:ext cx="8821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 В каких единицах измеряется индукция магнитного поля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785880" y="2500200"/>
            <a:ext cx="2714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ньютон (Н)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ампер (А)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тесла (Тл)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вебер (Вб)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357800" y="2286000"/>
            <a:ext cx="388620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rcRect l="52837" t="32359" r="14093" b="26060"/>
          <a:stretch/>
        </p:blipFill>
        <p:spPr>
          <a:xfrm>
            <a:off x="6039000" y="3740040"/>
            <a:ext cx="3105000" cy="2928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"/>
          <p:cNvSpPr/>
          <p:nvPr/>
        </p:nvSpPr>
        <p:spPr>
          <a:xfrm>
            <a:off x="108000" y="274680"/>
            <a:ext cx="8821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3. Как должна располагаться плоскость витка по отношению к линиям магнитной индукции, чтобы магнитный поток был равен нулю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24000" y="2349360"/>
            <a:ext cx="8001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перпендикулярно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параллельно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под некоторым углом к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магнитный поток не зависит от расположения контура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214200" y="274680"/>
            <a:ext cx="8715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4. На рисунке изображён проводник, по которому течёт ток. Направление тока указано стрелкой. Как направлен вектор магнитной индукции в точке С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7000920" y="2714760"/>
            <a:ext cx="1071360" cy="2428920"/>
          </a:xfrm>
          <a:prstGeom prst="can">
            <a:avLst>
              <a:gd name="adj" fmla="val 1102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0" name="AutoShape 3"/>
          <p:cNvCxnSpPr/>
          <p:nvPr/>
        </p:nvCxnSpPr>
        <p:spPr>
          <a:xfrm flipV="1">
            <a:off x="7500960" y="3285720"/>
            <a:ext cx="2160" cy="1357920"/>
          </a:xfrm>
          <a:prstGeom prst="straightConnector1">
            <a:avLst/>
          </a:prstGeom>
          <a:ln cap="sq"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91" name="Line 4"/>
          <p:cNvSpPr/>
          <p:nvPr/>
        </p:nvSpPr>
        <p:spPr>
          <a:xfrm flipH="1">
            <a:off x="6570360" y="3214800"/>
            <a:ext cx="46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143760" y="2714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572240" y="36432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071720" y="2714760"/>
            <a:ext cx="27144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вверх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вниз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от нас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на нас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"/>
          <p:cNvPicPr/>
          <p:nvPr/>
        </p:nvPicPr>
        <p:blipFill>
          <a:blip r:embed="rId1"/>
          <a:srcRect l="48427" t="34243" r="5113" b="4832"/>
          <a:stretch/>
        </p:blipFill>
        <p:spPr>
          <a:xfrm>
            <a:off x="6227640" y="3990960"/>
            <a:ext cx="2916360" cy="2867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"/>
          <p:cNvSpPr/>
          <p:nvPr/>
        </p:nvSpPr>
        <p:spPr>
          <a:xfrm>
            <a:off x="214200" y="274680"/>
            <a:ext cx="8715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5. Как должна располагаться плоскость витка по отношению к линиям магнитной индукции, чтобы магнитный поток был максимален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95280" y="2349360"/>
            <a:ext cx="8001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перпендикулярно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параллельно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под некоторым углом к линиям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магнитный поток не зависит от расположения контура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79280" y="428760"/>
            <a:ext cx="87854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6. С какой силой магнитное поле действует на проводник длиной 20 см, расположенный перпендикулярно магнитным линиям? Сила тока в проводнике 50 А, индукция магнитного поля 0,01 Т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95280" y="3995640"/>
            <a:ext cx="5905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А. 1 Н;                            Б. 0,1 Н;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. 25 Н;                          Г. 250 Н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rcRect l="62602" t="30052" r="0" b="4850"/>
          <a:stretch/>
        </p:blipFill>
        <p:spPr>
          <a:xfrm>
            <a:off x="6084720" y="3044880"/>
            <a:ext cx="2880000" cy="37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б авт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у 012"/>
          <p:cNvPicPr/>
          <p:nvPr/>
        </p:nvPicPr>
        <p:blipFill>
          <a:blip r:embed="rId1"/>
          <a:stretch/>
        </p:blipFill>
        <p:spPr>
          <a:xfrm>
            <a:off x="4973760" y="1773360"/>
            <a:ext cx="323028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Содержимое 3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рапата Ирина Гурьевн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итель физики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линской средней школ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ужского район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енинградской обла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08000" y="274680"/>
            <a:ext cx="892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К магнитной стрелке, которая может поворачиваться вокруг вертикальной оси, поднесли постоянный магнит. При этом стрелка…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14200" y="2000160"/>
            <a:ext cx="8715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повернётся на 180</a:t>
            </a: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º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повернётся на 90</a:t>
            </a: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º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 по часовой стрелке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повернётся на 90</a:t>
            </a: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º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 против часовой стрелки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останется в прежнем положении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1643040" y="4643280"/>
            <a:ext cx="2427480" cy="855720"/>
            <a:chOff x="1643040" y="4643280"/>
            <a:chExt cx="2427480" cy="855720"/>
          </a:xfrm>
        </p:grpSpPr>
        <p:sp>
          <p:nvSpPr>
            <p:cNvPr id="57" name="Rectangle 4"/>
            <p:cNvSpPr/>
            <p:nvPr/>
          </p:nvSpPr>
          <p:spPr>
            <a:xfrm>
              <a:off x="1643040" y="4643280"/>
              <a:ext cx="1212840" cy="855720"/>
            </a:xfrm>
            <a:prstGeom prst="rect">
              <a:avLst/>
            </a:prstGeom>
            <a:solidFill>
              <a:srgbClr val="00b0f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2857680" y="4643280"/>
              <a:ext cx="1212840" cy="855720"/>
            </a:xfrm>
            <a:prstGeom prst="rect">
              <a:avLst/>
            </a:prstGeom>
            <a:solidFill>
              <a:srgbClr val="ff00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6"/>
          <p:cNvGrpSpPr/>
          <p:nvPr/>
        </p:nvGrpSpPr>
        <p:grpSpPr>
          <a:xfrm>
            <a:off x="5072040" y="4214880"/>
            <a:ext cx="497880" cy="1926720"/>
            <a:chOff x="5072040" y="4214880"/>
            <a:chExt cx="497880" cy="1926720"/>
          </a:xfrm>
        </p:grpSpPr>
        <p:sp>
          <p:nvSpPr>
            <p:cNvPr id="60" name="AutoShape 7"/>
            <p:cNvSpPr/>
            <p:nvPr/>
          </p:nvSpPr>
          <p:spPr>
            <a:xfrm>
              <a:off x="5072040" y="4214880"/>
              <a:ext cx="497160" cy="962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0800000">
              <a:off x="5072760" y="5178960"/>
              <a:ext cx="497160" cy="962640"/>
            </a:xfrm>
            <a:prstGeom prst="triangle">
              <a:avLst>
                <a:gd name="adj" fmla="val 50000"/>
              </a:avLst>
            </a:prstGeom>
            <a:solidFill>
              <a:srgbClr val="0000cc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2" name="AutoShape 9"/>
          <p:cNvCxnSpPr/>
          <p:nvPr/>
        </p:nvCxnSpPr>
        <p:spPr>
          <a:xfrm>
            <a:off x="1643040" y="4285800"/>
            <a:ext cx="221688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08000" y="274680"/>
            <a:ext cx="892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 Стальную иглу расположили между полюсами магнита. Через некоторое время игла намагнитилась. Каким полюсам будут соответствовать точки 1 и 2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14200" y="2000160"/>
            <a:ext cx="87156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1 – северному полюсу, 2 – южному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2 – северному полюсу, 1 – южному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И 1, и 2 – северному полюсу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И 1, и 2 – южному полюсу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928880" y="4714920"/>
            <a:ext cx="1214280" cy="857160"/>
          </a:xfrm>
          <a:prstGeom prst="rect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500800" y="4714920"/>
            <a:ext cx="1214280" cy="85716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" name="AutoShape 5"/>
          <p:cNvCxnSpPr/>
          <p:nvPr/>
        </p:nvCxnSpPr>
        <p:spPr>
          <a:xfrm>
            <a:off x="3499920" y="5143680"/>
            <a:ext cx="178668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68" name="Text Box 6"/>
          <p:cNvSpPr/>
          <p:nvPr/>
        </p:nvSpPr>
        <p:spPr>
          <a:xfrm>
            <a:off x="3500280" y="4643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857840" y="4643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14200" y="274680"/>
            <a:ext cx="8715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. Магнитное поле существует …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14200" y="1643040"/>
            <a:ext cx="8715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80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только вокруг движущихся электронов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80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только вокруг движущихся положительных ионов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80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только вокруг движущихся отрицательных ионов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80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вокруг всех движущихся частиц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На рисунке указано положение магнитных линий поля, созданного полюсами постоянного магнита. Определите направление этих линий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833400" y="2511360"/>
            <a:ext cx="27147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вверх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вниз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на нас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от нас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143680" y="4572000"/>
            <a:ext cx="1357200" cy="928800"/>
          </a:xfrm>
          <a:prstGeom prst="rect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2357280"/>
            <a:ext cx="1357200" cy="100044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2"/>
          <p:cNvSpPr/>
          <p:nvPr/>
        </p:nvSpPr>
        <p:spPr>
          <a:xfrm>
            <a:off x="6372360" y="3357720"/>
            <a:ext cx="0" cy="12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5867280" y="3357720"/>
            <a:ext cx="0" cy="12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ая соединительная линия 11"/>
          <p:cNvSpPr/>
          <p:nvPr/>
        </p:nvSpPr>
        <p:spPr>
          <a:xfrm>
            <a:off x="5364000" y="3357720"/>
            <a:ext cx="0" cy="12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5. На рисунке указано направление магнитных линий поля, созданного полюсами постоянного магнита. Где находится южный полюс магнита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2000160"/>
            <a:ext cx="6858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справа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слева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оба полюса – южные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среди ответов нет правильного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357280" y="4214880"/>
            <a:ext cx="928800" cy="1428840"/>
          </a:xfrm>
          <a:prstGeom prst="rect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786200" y="4214880"/>
            <a:ext cx="928800" cy="1428840"/>
          </a:xfrm>
          <a:prstGeom prst="rect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" name="AutoShape 5"/>
          <p:cNvCxnSpPr/>
          <p:nvPr/>
        </p:nvCxnSpPr>
        <p:spPr>
          <a:xfrm>
            <a:off x="3285720" y="4500720"/>
            <a:ext cx="150084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AutoShape 6"/>
          <p:cNvCxnSpPr/>
          <p:nvPr/>
        </p:nvCxnSpPr>
        <p:spPr>
          <a:xfrm>
            <a:off x="3285720" y="4928760"/>
            <a:ext cx="1500840" cy="39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AutoShape 7"/>
          <p:cNvCxnSpPr/>
          <p:nvPr/>
        </p:nvCxnSpPr>
        <p:spPr>
          <a:xfrm>
            <a:off x="3285720" y="5357880"/>
            <a:ext cx="150084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. В разные точки однородного магнитного поля, созданного полюсами постоянного магнита, помещают магнитную стрелку. В какой точке на стрелку будет действовать максимальная сила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00040" y="2428920"/>
            <a:ext cx="33577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1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2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3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сила одинакова во всех точках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214960" y="4857840"/>
            <a:ext cx="1785960" cy="928440"/>
          </a:xfrm>
          <a:prstGeom prst="rect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2357280"/>
            <a:ext cx="1857240" cy="100044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5357880" y="3357720"/>
            <a:ext cx="0" cy="1499760"/>
            <a:chOff x="5357880" y="3357720"/>
            <a:chExt cx="0" cy="1499760"/>
          </a:xfrm>
        </p:grpSpPr>
        <p:sp>
          <p:nvSpPr>
            <p:cNvPr id="91" name="Line 6"/>
            <p:cNvSpPr/>
            <p:nvPr/>
          </p:nvSpPr>
          <p:spPr>
            <a:xfrm>
              <a:off x="5357880" y="3357720"/>
              <a:ext cx="0" cy="149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 flipV="1">
              <a:off x="5357880" y="4285080"/>
              <a:ext cx="0" cy="5724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6072120" y="3357720"/>
            <a:ext cx="0" cy="1499400"/>
            <a:chOff x="6072120" y="3357720"/>
            <a:chExt cx="0" cy="1499400"/>
          </a:xfrm>
        </p:grpSpPr>
        <p:sp>
          <p:nvSpPr>
            <p:cNvPr id="94" name="Line 9"/>
            <p:cNvSpPr/>
            <p:nvPr/>
          </p:nvSpPr>
          <p:spPr>
            <a:xfrm>
              <a:off x="6072120" y="3357720"/>
              <a:ext cx="0" cy="149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V="1">
              <a:off x="6072120" y="3856680"/>
              <a:ext cx="0" cy="1000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6715080" y="3357720"/>
            <a:ext cx="0" cy="1499400"/>
            <a:chOff x="6715080" y="3357720"/>
            <a:chExt cx="0" cy="1499400"/>
          </a:xfrm>
        </p:grpSpPr>
        <p:sp>
          <p:nvSpPr>
            <p:cNvPr id="97" name="Line 12"/>
            <p:cNvSpPr/>
            <p:nvPr/>
          </p:nvSpPr>
          <p:spPr>
            <a:xfrm>
              <a:off x="6715080" y="3357720"/>
              <a:ext cx="0" cy="149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V="1">
              <a:off x="6715080" y="4498920"/>
              <a:ext cx="0" cy="358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 Box 14"/>
          <p:cNvSpPr/>
          <p:nvPr/>
        </p:nvSpPr>
        <p:spPr>
          <a:xfrm>
            <a:off x="4929120" y="4071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715000" y="35719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357960" y="4071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14200" y="274680"/>
            <a:ext cx="8715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. В разные точки неоднородного магнитного поля,  помещают магнитную стрелку. В какой точке на стрелку будет действовать максимальная сила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571760" y="2428920"/>
            <a:ext cx="17859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А. 1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Б. 2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. 3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Г. 4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643720" y="4643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72160" y="3429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429240" y="2357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 rot="20640000">
            <a:off x="4156200" y="4565160"/>
            <a:ext cx="4444920" cy="2778120"/>
          </a:xfrm>
          <a:custGeom>
            <a:avLst/>
            <a:gdLst>
              <a:gd name="textAreaLeft" fmla="*/ 1512720 w 4444920"/>
              <a:gd name="textAreaRight" fmla="*/ 4264920 w 4444920"/>
              <a:gd name="textAreaTop" fmla="*/ 0 h 2778120"/>
              <a:gd name="textAreaBottom" fmla="*/ 840960 h 2778120"/>
            </a:gdLst>
            <a:ahLst/>
            <a:rect l="textAreaLeft" t="textAreaTop" r="textAreaRight" b="textAreaBottom"/>
            <a:pathLst>
              <a:path stroke="0" w="4444925" h="2777362">
                <a:moveTo>
                  <a:pt x="1512944" y="72668"/>
                </a:moveTo>
                <a:lnTo>
                  <a:pt x="1512944" y="72668"/>
                </a:lnTo>
                <a:cubicBezTo>
                  <a:pt x="1741570" y="24543"/>
                  <a:pt x="1981212" y="0"/>
                  <a:pt x="2222463" y="0"/>
                </a:cubicBezTo>
                <a:cubicBezTo>
                  <a:pt x="3111026" y="0"/>
                  <a:pt x="3914192" y="330701"/>
                  <a:pt x="4264703" y="840888"/>
                </a:cubicBezTo>
                <a:lnTo>
                  <a:pt x="2222463" y="1388681"/>
                </a:lnTo>
                <a:lnTo>
                  <a:pt x="1512944" y="72668"/>
                </a:lnTo>
                <a:close/>
              </a:path>
              <a:path fill="none" w="4444925" h="2777362">
                <a:moveTo>
                  <a:pt x="1512944" y="72668"/>
                </a:moveTo>
                <a:lnTo>
                  <a:pt x="1512944" y="72668"/>
                </a:lnTo>
                <a:cubicBezTo>
                  <a:pt x="1741570" y="24543"/>
                  <a:pt x="1981212" y="0"/>
                  <a:pt x="2222463" y="0"/>
                </a:cubicBezTo>
                <a:cubicBezTo>
                  <a:pt x="3111026" y="0"/>
                  <a:pt x="3914192" y="330701"/>
                  <a:pt x="4264703" y="840888"/>
                </a:cubicBezTo>
              </a:path>
            </a:pathLst>
          </a:custGeom>
          <a:noFill/>
          <a:ln cap="sq"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5214960" y="3141720"/>
            <a:ext cx="3214800" cy="15033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 flipV="1" rot="18900000">
            <a:off x="3196080" y="1850040"/>
            <a:ext cx="4147920" cy="2289240"/>
          </a:xfrm>
          <a:custGeom>
            <a:avLst/>
            <a:gdLst>
              <a:gd name="textAreaLeft" fmla="*/ 998640 w 4147920"/>
              <a:gd name="textAreaRight" fmla="*/ 3939480 w 4147920"/>
              <a:gd name="textAreaTop" fmla="*/ 0 h 2289240"/>
              <a:gd name="textAreaBottom" fmla="*/ 644040 h 2289240"/>
            </a:gdLst>
            <a:ahLst/>
            <a:rect l="textAreaLeft" t="textAreaTop" r="textAreaRight" b="textAreaBottom"/>
            <a:pathLst>
              <a:path stroke="0" w="4148055" h="2289091">
                <a:moveTo>
                  <a:pt x="998594" y="165887"/>
                </a:moveTo>
                <a:lnTo>
                  <a:pt x="998594" y="165887"/>
                </a:lnTo>
                <a:cubicBezTo>
                  <a:pt x="1322849" y="57375"/>
                  <a:pt x="1694809" y="0"/>
                  <a:pt x="2074028" y="0"/>
                </a:cubicBezTo>
                <a:cubicBezTo>
                  <a:pt x="2867996" y="0"/>
                  <a:pt x="3592291" y="250135"/>
                  <a:pt x="3939379" y="644200"/>
                </a:cubicBezTo>
                <a:lnTo>
                  <a:pt x="2074028" y="1144546"/>
                </a:lnTo>
                <a:lnTo>
                  <a:pt x="998594" y="165887"/>
                </a:lnTo>
                <a:close/>
              </a:path>
              <a:path fill="none" w="4148055" h="2289091">
                <a:moveTo>
                  <a:pt x="998594" y="165887"/>
                </a:moveTo>
                <a:lnTo>
                  <a:pt x="998594" y="165887"/>
                </a:lnTo>
                <a:cubicBezTo>
                  <a:pt x="1322849" y="57375"/>
                  <a:pt x="1694809" y="0"/>
                  <a:pt x="2074028" y="0"/>
                </a:cubicBezTo>
                <a:cubicBezTo>
                  <a:pt x="2867996" y="0"/>
                  <a:pt x="3592291" y="250135"/>
                  <a:pt x="3939379" y="644200"/>
                </a:cubicBezTo>
              </a:path>
            </a:pathLst>
          </a:custGeom>
          <a:noFill/>
          <a:ln cap="sq"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6856200" y="2571840"/>
            <a:ext cx="4680" cy="71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H="1">
            <a:off x="6927480" y="3857760"/>
            <a:ext cx="4680" cy="71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7785000" y="4643280"/>
            <a:ext cx="5040" cy="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856120" y="4643280"/>
            <a:ext cx="5040" cy="716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7500960" y="4143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14200" y="274680"/>
            <a:ext cx="87156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8. На каком рисунке правильно изображена картина линий магнитного поля для проводника с током, направленным перпендикулярно плоскости чертежа на нас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4280" y="5214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85120" y="2714760"/>
            <a:ext cx="1999440" cy="2141640"/>
            <a:chOff x="285120" y="2714760"/>
            <a:chExt cx="1999440" cy="2141640"/>
          </a:xfrm>
        </p:grpSpPr>
        <p:cxnSp>
          <p:nvCxnSpPr>
            <p:cNvPr id="118" name="AutoShape 4"/>
            <p:cNvCxnSpPr/>
            <p:nvPr/>
          </p:nvCxnSpPr>
          <p:spPr>
            <a:xfrm flipH="1">
              <a:off x="1285200" y="3786120"/>
              <a:ext cx="1080" cy="1070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oval" w="med"/>
              <a:tailEnd len="med" type="arrow" w="med"/>
            </a:ln>
          </p:spPr>
        </p:cxnSp>
        <p:cxnSp>
          <p:nvCxnSpPr>
            <p:cNvPr id="119" name="AutoShape 5"/>
            <p:cNvCxnSpPr/>
            <p:nvPr/>
          </p:nvCxnSpPr>
          <p:spPr>
            <a:xfrm flipH="1">
              <a:off x="1285200" y="2714760"/>
              <a:ext cx="1080" cy="1070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0" name="AutoShape 6"/>
            <p:cNvCxnSpPr/>
            <p:nvPr/>
          </p:nvCxnSpPr>
          <p:spPr>
            <a:xfrm flipH="1" flipV="1">
              <a:off x="285120" y="3785400"/>
              <a:ext cx="999000" cy="108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AutoShape 7"/>
            <p:cNvCxnSpPr/>
            <p:nvPr/>
          </p:nvCxnSpPr>
          <p:spPr>
            <a:xfrm flipH="1" flipV="1">
              <a:off x="1285920" y="3785400"/>
              <a:ext cx="999000" cy="108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2" name="AutoShape 8"/>
            <p:cNvCxnSpPr/>
            <p:nvPr/>
          </p:nvCxnSpPr>
          <p:spPr>
            <a:xfrm>
              <a:off x="1285920" y="3786120"/>
              <a:ext cx="784800" cy="7135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3" name="AutoShape 9"/>
            <p:cNvCxnSpPr/>
            <p:nvPr/>
          </p:nvCxnSpPr>
          <p:spPr>
            <a:xfrm>
              <a:off x="571320" y="2999880"/>
              <a:ext cx="712800" cy="78516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4" name="AutoShape 10"/>
            <p:cNvCxnSpPr/>
            <p:nvPr/>
          </p:nvCxnSpPr>
          <p:spPr>
            <a:xfrm flipH="1">
              <a:off x="642240" y="3786120"/>
              <a:ext cx="641880" cy="7135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5" name="AutoShape 11"/>
            <p:cNvCxnSpPr/>
            <p:nvPr/>
          </p:nvCxnSpPr>
          <p:spPr>
            <a:xfrm flipH="1">
              <a:off x="1285560" y="2999880"/>
              <a:ext cx="713520" cy="78516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</p:grpSp>
      <p:grpSp>
        <p:nvGrpSpPr>
          <p:cNvPr id="126" name="Group 12"/>
          <p:cNvGrpSpPr/>
          <p:nvPr/>
        </p:nvGrpSpPr>
        <p:grpSpPr>
          <a:xfrm>
            <a:off x="2428920" y="2571840"/>
            <a:ext cx="2141640" cy="2213280"/>
            <a:chOff x="2428920" y="2571840"/>
            <a:chExt cx="2141640" cy="2213280"/>
          </a:xfrm>
        </p:grpSpPr>
        <p:cxnSp>
          <p:nvCxnSpPr>
            <p:cNvPr id="127" name="AutoShape 13"/>
            <p:cNvCxnSpPr/>
            <p:nvPr/>
          </p:nvCxnSpPr>
          <p:spPr>
            <a:xfrm flipH="1">
              <a:off x="3499560" y="3714840"/>
              <a:ext cx="1080" cy="1070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8" name="AutoShape 14"/>
            <p:cNvCxnSpPr/>
            <p:nvPr/>
          </p:nvCxnSpPr>
          <p:spPr>
            <a:xfrm flipH="1">
              <a:off x="3499560" y="2571840"/>
              <a:ext cx="1080" cy="1070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9" name="AutoShape 15"/>
            <p:cNvCxnSpPr/>
            <p:nvPr/>
          </p:nvCxnSpPr>
          <p:spPr>
            <a:xfrm flipH="1" flipV="1">
              <a:off x="2428920" y="3714120"/>
              <a:ext cx="999000" cy="108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30" name="AutoShape 16"/>
            <p:cNvCxnSpPr/>
            <p:nvPr/>
          </p:nvCxnSpPr>
          <p:spPr>
            <a:xfrm flipH="1" flipV="1">
              <a:off x="3571920" y="3714120"/>
              <a:ext cx="999000" cy="108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1" name="AutoShape 17"/>
            <p:cNvCxnSpPr/>
            <p:nvPr/>
          </p:nvCxnSpPr>
          <p:spPr>
            <a:xfrm>
              <a:off x="3571920" y="3786120"/>
              <a:ext cx="784800" cy="7135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32" name="AutoShape 18"/>
            <p:cNvCxnSpPr/>
            <p:nvPr/>
          </p:nvCxnSpPr>
          <p:spPr>
            <a:xfrm>
              <a:off x="2714760" y="2857680"/>
              <a:ext cx="713520" cy="78480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3" name="AutoShape 19"/>
            <p:cNvCxnSpPr/>
            <p:nvPr/>
          </p:nvCxnSpPr>
          <p:spPr>
            <a:xfrm flipH="1">
              <a:off x="2785680" y="3786120"/>
              <a:ext cx="642240" cy="7135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34" name="AutoShape 20"/>
            <p:cNvCxnSpPr/>
            <p:nvPr/>
          </p:nvCxnSpPr>
          <p:spPr>
            <a:xfrm flipH="1">
              <a:off x="3571560" y="2857680"/>
              <a:ext cx="713520" cy="78480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5" name="Line 21"/>
          <p:cNvSpPr/>
          <p:nvPr/>
        </p:nvSpPr>
        <p:spPr>
          <a:xfrm flipH="1" flipV="1">
            <a:off x="5784480" y="3713040"/>
            <a:ext cx="4680" cy="50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2"/>
          <p:cNvGrpSpPr/>
          <p:nvPr/>
        </p:nvGrpSpPr>
        <p:grpSpPr>
          <a:xfrm>
            <a:off x="5072040" y="3000240"/>
            <a:ext cx="1428840" cy="1427400"/>
            <a:chOff x="5072040" y="3000240"/>
            <a:chExt cx="1428840" cy="1427400"/>
          </a:xfrm>
        </p:grpSpPr>
        <p:sp>
          <p:nvSpPr>
            <p:cNvPr id="137" name="Oval 23"/>
            <p:cNvSpPr/>
            <p:nvPr/>
          </p:nvSpPr>
          <p:spPr>
            <a:xfrm>
              <a:off x="5572080" y="3500280"/>
              <a:ext cx="426960" cy="42732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5286240" y="3214800"/>
              <a:ext cx="998640" cy="99828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5072040" y="3000240"/>
              <a:ext cx="1428840" cy="142740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0" name="AutoShape 26"/>
            <p:cNvCxnSpPr/>
            <p:nvPr/>
          </p:nvCxnSpPr>
          <p:spPr>
            <a:xfrm flipH="1">
              <a:off x="6500160" y="3714840"/>
              <a:ext cx="1080" cy="72000"/>
            </a:xfrm>
            <a:prstGeom prst="straightConnector1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27"/>
            <p:cNvCxnSpPr/>
            <p:nvPr/>
          </p:nvCxnSpPr>
          <p:spPr>
            <a:xfrm flipH="1">
              <a:off x="6285960" y="3714840"/>
              <a:ext cx="1080" cy="72000"/>
            </a:xfrm>
            <a:prstGeom prst="straightConnector1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2" name="Group 28"/>
          <p:cNvGrpSpPr/>
          <p:nvPr/>
        </p:nvGrpSpPr>
        <p:grpSpPr>
          <a:xfrm>
            <a:off x="7072200" y="3000240"/>
            <a:ext cx="1428840" cy="1427400"/>
            <a:chOff x="7072200" y="3000240"/>
            <a:chExt cx="1428840" cy="1427400"/>
          </a:xfrm>
        </p:grpSpPr>
        <p:sp>
          <p:nvSpPr>
            <p:cNvPr id="143" name="Oval 29"/>
            <p:cNvSpPr/>
            <p:nvPr/>
          </p:nvSpPr>
          <p:spPr>
            <a:xfrm>
              <a:off x="7572240" y="3500280"/>
              <a:ext cx="427320" cy="42732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7286760" y="3214800"/>
              <a:ext cx="998280" cy="99828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7072200" y="3000240"/>
              <a:ext cx="1428840" cy="1427400"/>
            </a:xfrm>
            <a:prstGeom prst="ellipse">
              <a:avLst/>
            </a:prstGeom>
            <a:noFill/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6" name="AutoShape 32"/>
            <p:cNvCxnSpPr/>
            <p:nvPr/>
          </p:nvCxnSpPr>
          <p:spPr>
            <a:xfrm flipH="1">
              <a:off x="8500320" y="3714840"/>
              <a:ext cx="1080" cy="72000"/>
            </a:xfrm>
            <a:prstGeom prst="straightConnector1">
              <a:avLst/>
            </a:prstGeom>
            <a:ln cap="sq"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7" name="AutoShape 33"/>
            <p:cNvCxnSpPr/>
            <p:nvPr/>
          </p:nvCxnSpPr>
          <p:spPr>
            <a:xfrm flipH="1">
              <a:off x="8286120" y="3714840"/>
              <a:ext cx="1080" cy="72000"/>
            </a:xfrm>
            <a:prstGeom prst="straightConnector1">
              <a:avLst/>
            </a:prstGeom>
            <a:ln cap="sq"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148" name="Line 34"/>
          <p:cNvSpPr/>
          <p:nvPr/>
        </p:nvSpPr>
        <p:spPr>
          <a:xfrm flipH="1">
            <a:off x="7785000" y="3714840"/>
            <a:ext cx="5040" cy="712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286080" y="5214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5643720" y="52149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7572240" y="5214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4:44:23Z</dcterms:created>
  <dc:creator>User</dc:creator>
  <dc:description/>
  <dc:language>en-US</dc:language>
  <cp:lastModifiedBy>Dom</cp:lastModifiedBy>
  <dcterms:modified xsi:type="dcterms:W3CDTF">2018-02-01T16:53:57Z</dcterms:modified>
  <cp:revision>35</cp:revision>
  <dc:subject/>
  <dc:title>Слайд 1</dc:title>
</cp:coreProperties>
</file>