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707-71AE-48E5-B70A-FD8026AB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8C5-7014-4766-AD41-7BFD97D4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3D3-6149-413E-A346-CAA377FC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6AA-15F0-4F1B-9410-DAB92EE2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F9A7-5A13-4120-839A-5ABD999B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061E-740A-48F3-9596-8DC9FC8C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1916-F1BF-49AA-8609-AE0A2DF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A0B3-D5EE-4639-89B7-C8050D09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08E0-0738-4F2A-96B1-3B20CDD5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02FC-673E-49B0-9FC6-D28637F0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3D39-83B4-4549-8403-7E5FA0DF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8D6-364F-4ACD-A65A-317868AD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2B72-D948-4451-A8C9-6E8FB8A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6F0A-94E3-4D02-ADA2-88B3D72E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79B8-8A43-4452-A475-29B085C8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27C5-8E21-4A57-AF04-FF042AE5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33C6-F031-4285-9F35-2C3AE323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3DE-E45F-4E3A-A6EB-BEEC76E4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67F-700C-4E76-BE5F-8AB6E9D5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D70-0392-4A28-B714-D2ADDE12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841-872E-49F8-8122-4192BB82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1E2-137E-44CE-A40C-D98F42CD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0CC-40DB-425B-BD91-BA423FA1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A3E-D77D-4D6C-9403-F8F32349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65EA-369C-473B-97EF-9C35C45393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7873-469B-41FF-B54D-326D60D668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52280" y="1828800"/>
            <a:ext cx="8839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ойна солдат не выбирает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5"/>
          <p:cNvSpPr txBox="1"/>
          <p:nvPr/>
        </p:nvSpPr>
        <p:spPr>
          <a:xfrm>
            <a:off x="1600200" y="2057400"/>
            <a:ext cx="6172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Чеченская война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стерзанные души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534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Осенью 1999 г. Началась вторая чеченская война. Отряды боевиков вторглись на территорию Дагестана.                23 сентября российские войска начали массированные бомбардировки Грозного  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ампания – официально КТО (контртеррористическая операция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 сентября 1999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857240" y="3041640"/>
            <a:ext cx="55724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-main-pic" descr="Картинка 6 из 7183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26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Портузенков"/>
          <p:cNvPicPr/>
          <p:nvPr/>
        </p:nvPicPr>
        <p:blipFill>
          <a:blip r:embed="rId1"/>
          <a:stretch/>
        </p:blipFill>
        <p:spPr>
          <a:xfrm>
            <a:off x="2133720" y="0"/>
            <a:ext cx="4584600" cy="63244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152280" y="6248520"/>
            <a:ext cx="8991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ртузенков Рафаэль Мукатдяс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900000" y="166716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Победа в войне – это ликование и скорбь. Время их не приглушает. А мы с вами должны эту память о самой страшной войне, которая коснулась каждой семьи, передавать из поколения в поколение. День Победы был, есть и должен оставаться самым святым праздником. Ведь те, кто заплатил за него своей жизнью, дали нам возможность жить сейчас. Мы обязаны помнить об этом всегда. Память павших и не доживших до сегодняшнего дня почтим минутой молчани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3203640" y="43657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755640" y="4581360"/>
            <a:ext cx="200988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3"/>
          <a:stretch/>
        </p:blipFill>
        <p:spPr>
          <a:xfrm>
            <a:off x="7238880" y="304920"/>
            <a:ext cx="1543320" cy="142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4"/>
          <a:stretch/>
        </p:blipFill>
        <p:spPr>
          <a:xfrm>
            <a:off x="6227640" y="4581360"/>
            <a:ext cx="2286000" cy="1428840"/>
          </a:xfrm>
          <a:prstGeom prst="rect">
            <a:avLst/>
          </a:prstGeom>
          <a:ln w="0">
            <a:noFill/>
          </a:ln>
        </p:spPr>
      </p:pic>
      <p:sp>
        <p:nvSpPr>
          <p:cNvPr id="141" name="WordArt 9"/>
          <p:cNvSpPr txBox="1"/>
          <p:nvPr/>
        </p:nvSpPr>
        <p:spPr>
          <a:xfrm>
            <a:off x="1692360" y="260280"/>
            <a:ext cx="496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ним!</a:t>
            </a:r>
            <a:endParaRPr b="1" i="1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419280" y="3357720"/>
            <a:ext cx="5329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Нет!” – заявляем мы войне, всем злым и чёрным силам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Должна трава зелёной быть, а небо синим-синим!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Ты слышишь, друг, звенят ручьи, поют на ветках птиц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На замечательной земле нам довелось родить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Так пусть она цветёт всегда, пускай шумит сад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Пусть люди смотрят на неё влюблёнными глазами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Сегодня праздник входит в каждый д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И радость к людям с ним приходит след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Мы поздравляем вас с великим днем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Times New Roman"/>
              </a:rPr>
              <a:t>С днем нашей славы!  С Днем Победы!</a:t>
            </a:r>
            <a:r>
              <a:rPr b="0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9"/>
          <p:cNvSpPr txBox="1"/>
          <p:nvPr/>
        </p:nvSpPr>
        <p:spPr>
          <a:xfrm>
            <a:off x="1116000" y="404640"/>
            <a:ext cx="72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Днём Победы!</a:t>
            </a:r>
            <a:endParaRPr b="1" i="1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376720" cy="324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12944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Война и юность… Война и матери… и вдовы.… Но самое страшное, самое бесчеловечное – это Война и дети. Дети войны…Они дети-войны надрывались у станков, хоронили своих близких, замерзали, умирали с голоду в блокадном Ленинграде</a:t>
            </a:r>
            <a:endParaRPr b="0" lang="en-US" sz="19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266220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129708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1332000" y="4724280"/>
            <a:ext cx="2520720" cy="16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4"/>
          <a:stretch/>
        </p:blipFill>
        <p:spPr>
          <a:xfrm>
            <a:off x="5292720" y="4653000"/>
            <a:ext cx="2303640" cy="164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5"/>
          <a:stretch/>
        </p:blipFill>
        <p:spPr>
          <a:xfrm>
            <a:off x="6443640" y="2133720"/>
            <a:ext cx="1706760" cy="201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22 июня 1941 года мирная жизнь советских людей была нарушена. Началась Великая Отечественная война.</a:t>
            </a:r>
            <a:r>
              <a:rPr b="1" lang="ru-RU" sz="27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507672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ускай назад история лист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траницы легендарные сво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 память. Через годы пролета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едет опять в походы и бои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456000" y="3643920"/>
            <a:ext cx="56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от сорок первый год, конец июн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 люди спать легли спокойно накану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о утром уже знала вся стра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Что началась ужасная вой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133720" cy="142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4427640" y="5157720"/>
            <a:ext cx="2857320" cy="133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16216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Arial"/>
              </a:rPr>
              <a:t>В ходе войны было несколько битв, которые определили ее исход. Курская, Сталинградская, Ленинградская и, конечно, битва под Москвой</a:t>
            </a:r>
            <a:endParaRPr b="0" lang="en-US" sz="27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456000" cy="24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517680" y="2060640"/>
            <a:ext cx="3109680" cy="1900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258920" y="4437000"/>
            <a:ext cx="2305080" cy="1644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003640" y="4797360"/>
            <a:ext cx="285768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333360"/>
            <a:ext cx="701028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Arial"/>
              </a:rPr>
              <a:t>И было много страшных битв,</a:t>
            </a:r>
            <a:br>
              <a:rPr sz="2300"/>
            </a:br>
            <a:r>
              <a:rPr b="1" lang="ru-RU" sz="2300" spc="-1" strike="noStrike">
                <a:solidFill>
                  <a:srgbClr val="0000ff"/>
                </a:solidFill>
                <a:latin typeface="Arial"/>
              </a:rPr>
              <a:t>В которых враг проклятый был разбит.</a:t>
            </a:r>
            <a:br>
              <a:rPr sz="2300"/>
            </a:br>
            <a:r>
              <a:rPr b="1" lang="ru-RU" sz="2300" spc="-1" strike="noStrike">
                <a:solidFill>
                  <a:srgbClr val="0000ff"/>
                </a:solidFill>
                <a:latin typeface="Arial"/>
              </a:rPr>
              <a:t>Великое сражение под Москвой, </a:t>
            </a:r>
            <a:br>
              <a:rPr sz="2300"/>
            </a:br>
            <a:r>
              <a:rPr b="1" lang="ru-RU" sz="2300" spc="-1" strike="noStrike">
                <a:solidFill>
                  <a:srgbClr val="0000ff"/>
                </a:solidFill>
                <a:latin typeface="Arial"/>
              </a:rPr>
              <a:t>В котором мы врагу сказали грозно: “Стой!”</a:t>
            </a:r>
            <a:endParaRPr b="0" lang="en-US" sz="23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38320" y="1905120"/>
            <a:ext cx="304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од столицей впервые был остановлен вал фашисткой агрессии. Москва не утратила блеска своего даже в труднейшую военную годину благодаря стойкости воинов, возвестивших миру “Велика Россия, а отступать некуда – позади Москва” 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212580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3635280" y="2205000"/>
            <a:ext cx="2133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3"/>
          <a:stretch/>
        </p:blipFill>
        <p:spPr>
          <a:xfrm>
            <a:off x="971640" y="4292640"/>
            <a:ext cx="20955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4"/>
          <a:stretch/>
        </p:blipFill>
        <p:spPr>
          <a:xfrm>
            <a:off x="3564000" y="4292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371600" y="1219320"/>
            <a:ext cx="5791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фганская войн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79-1989 г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6" descr="16156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75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p47_2"/>
          <p:cNvPicPr/>
          <p:nvPr/>
        </p:nvPicPr>
        <p:blipFill>
          <a:blip r:embed="rId1"/>
          <a:stretch/>
        </p:blipFill>
        <p:spPr>
          <a:xfrm>
            <a:off x="533520" y="838080"/>
            <a:ext cx="7981920" cy="532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зуфяр"/>
          <p:cNvPicPr/>
          <p:nvPr/>
        </p:nvPicPr>
        <p:blipFill>
          <a:blip r:embed="rId1"/>
          <a:srcRect l="33540" t="17647" r="13232" b="33335"/>
          <a:stretch/>
        </p:blipFill>
        <p:spPr>
          <a:xfrm>
            <a:off x="2971800" y="914400"/>
            <a:ext cx="5562720" cy="38098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1752480" y="5257800"/>
            <a:ext cx="6782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далов Зуфяр Анвя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19112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О, Москва!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Ты сердце всей России;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Из очей твоих струится свет,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Живы мы, хоть нас свинцом косили, 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Без тебя, Москва,</a:t>
            </a:r>
            <a:br>
              <a:rPr sz="2700"/>
            </a:b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Нам жизни нет!</a:t>
            </a:r>
            <a:endParaRPr b="0" lang="en-US" sz="27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889960" cy="31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4:34:19Z</dcterms:created>
  <dc:creator>Ильгам</dc:creator>
  <dc:description/>
  <dc:language>en-US</dc:language>
  <cp:lastModifiedBy>Пользователь</cp:lastModifiedBy>
  <dcterms:modified xsi:type="dcterms:W3CDTF">2018-02-01T18:49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