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778-8038-4989-8F69-1314EA3D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265-3671-4F3F-9C32-C9081A94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659-BF6B-4CCD-BD9F-2831EFEC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97D-DE30-4BC2-A3E4-3583C213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81C-B4B6-42DC-B868-8F647A1A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D3C-EE2B-47F5-8018-855B3454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853-BAE7-4CBD-A637-21F010A5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9DC-83E4-43C4-8A9A-D6AF0A69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514-DC3D-406A-8E66-26235AB2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E03-1344-4C38-B95B-EF8A1FB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900-A4FA-453D-A4DE-D3DCD1AC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8FD-4B45-492D-B5CC-79424927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62C0-2D63-4695-B388-A194AFA78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7386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212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тронаж новорожденног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к новорожденным до 1 месяца нрави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а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лушиваться к повторяющимся негромким звука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редотачивать внимание на движении и свет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диться на руках, особенно когда его убаюкив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ча родителей предоставить ребенку возможность слушать их разговоры и пение, негромку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узыку, чувствовать их руки, ощущать телесное общение, особенно во время корм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ет матери: даже если ребенок находится на искусственном вскармливании, во время кормления необходимо брать его на ру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казатели правильного психо-эмоционального развития новорожденного после выписки из роддома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реагирует на поглаживани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 улыбает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тся в ответ на улыбку, голос и прикосновени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каивается, когда берут на рук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ивает свой взгляд на короткий промежуток времени во время корм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мамы правильному выполнению ежедневных для малыша манипуля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упочной ранк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 ребен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мывани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носика, ушей, глаз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у за ногт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п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268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 должно стать для вашего малыша ежедневной процедурой. Во-первых, кожа крошки тонкая, и в ней гораздо активнее, чем у нас с вами, протекают обменные и выделительные процессы и кожное дыхание. Поэтому она должна регулярно очищаться. Во-вторых, купание чрезвычайно полезно с точки зрения закали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ятс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на или детская ванночк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метр для вод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сталлы марганцево-кислого калия (в первые 7–10 дней жизни малыша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е мыло или пена для ванн (1–2 раза в неделю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ровая рукавичка или мягкая губка (по желанию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еленка или махровое полотенце, чтобы завернуть малыша после куп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197000"/>
            <a:ext cx="87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ды должна составлять около 36–37гр. С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закаливания температуру воды можно понижать примерно на 1гр.каждые 2 недел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ть малютку с мылом или в детской пене для ванн нужно 1–2 раза в неделю, в остальных случаях достаточно будет искупать его в простой вод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анны полезно ополоснуть ребенка проточной водой (из кувшина или душа), температура которой можетбыть на 1–2гр. ниж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упания заверните младенца в пеленку или полотенц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ую детскую кожу можно только промокать, но ни в коем случае не растирать, ибо она очень легко травмируетс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анночки следует приступить к обработке пуп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мы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мывать ребенка следует после каждого стула и при смене подгузника(памперс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мперсы меняются после каждого мочеиспускания(каждый час)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обнее всего подмывать малыша под струей проточной воды, так чтобы вода стекала спереди наз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по какой-либо причине вода недоступна (на прогулке, в поликлинике), можно воспользоваться влажными детскими салфет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туа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младенца можно умыть прямо на пеленальном столик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ятся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ватных тампонов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яченая вод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ико и глазки малыша протираем ватным тампоном, смоченным в кипяченой вод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глаза обязательно должен быть отдельный тампо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я направляйте от наружного угла глаза к внутреннем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им нос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 этом возникает, когда слышно, что дыхание крохи затруднено. Для этого удобнее воспользоваться ватным жгут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, подкручивающими движениями, вводим ее в ноздр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носу много сухих корочек, турунду можно смочить в масле (вазелиновом или растительном). От этих манипуляций малыш может чихнуть, что упростит выполнение задач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им уши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ки ребенка следует чистить только тогда, когда ушная сера видна в устье слухового прохо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ужно делать это слишком часто: чем чаще сера удаляется, тем быстрее начинает вырабатыватьс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истке ушей ни в коем случае нельзя проникать в слуховой проход глубже, чем на 5 м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даже существуют специальные ватные палочки с ограничителя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он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онажем называется система активного наблюдения пациента на до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и медсестра навещают малыша в первый месяц его жиз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нем,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истема бесплатного патронажного наблюдения распространяется на всех новорожденных, независимо от наличия у их родителей постоянной прописки и полиса ОМС (обязательного медицинского страхова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гт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ре роста  нужно подстригать ногти, чтобы малыш не поцарапал ни себя, ни вас. Воспользуйтесь «младенческими» маникюрными ножницами, у которых есть расширения на кончиках. Некоторым удобнее пользоваться специальными кусачками. Ноготки следует срезать прямо, не закругляя уголков, чтобы не стимулировать их рост и врастание в кож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ем матери о пограничных состояниях новорождённ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реакции, отражающие процесс приспособления (адаптации) к родам, новым условиям жизни, называют переходными (пограничными, транзиторными, физиологическими) состояниями новорожденны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их состояний  характерно то, что они появляются в родах или после рождения и затем проходя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граничным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называют не только потому, что они возникают на границе двух периодов жизни (внутриутробного и внеутробного)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 и потом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что обычно физиологичные для новорожденных, они при определенных условиях (прежде всего в зависимости от гестационного возраста при рождении, особенностей течения внутриутробного периода и родового акта, условий внешней среды после рождения, ухода, вскармливания, наличия у ребенка заболеваний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ринимать патологические чер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овой криз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молочных желе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имметричное, кожа над ними не изменена, иногда слегка гиперемирована. Степень увеличения железы в диаметре составляет 1,5-2 см. Самостоятельно или при пальпации железы иногда бывают вначале сероватого, а потом беловато-молочного цвета выделения по своему составу приближающиеся к молозиву матери. Увеличение молочных желез отмечается практически у всех девочек и у половины мальч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квамативным вульвовагинит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ильными слизистыми выделениями серовато-беловатого цвета из половой щели у 60-70% девочек в первые три дня жизни. Примерно через 2-3 дня они постепенно исчезаю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ями из влагалищ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озникают на 5-8 день жизни у 5-10% девочек, хотя скрытую кровь во влагалищной слизи можно обнаружить у всех девочек с десквамативным вульвовагинитом. Длительность влагалищного кровотечения 1-3 дня, объем 0,5-1 м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ловато-желтоватые узелки размером 1-2 мм, которые несколько возвышаются над уровнем кожи и локализуются чаще на крыльях носа и переносице, в области лба, подбородка. Узелк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льные желез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ильным секретом и закупоренными выводными протоками. Они исчезают без лечения через 1-2 недели, редко бывают признаки легкого воспаления вокруг узел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пигментацией кож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круг сосков и мошонки у мальчиков, отеком наружных половых органов у новорожденных, умеренным гидроцеле - исчезающие без всякого лечения на 2-й неделе жизни новорожденного. У недоношенных половой криз встречается реже и выраженность его невелика. Генез полового криза: повышенная продукция эстрогенов у плода, которая способствует стимуляции роста и развития молочных желез, структурных отделов ма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анзиторные особенности функции поче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яя неонатальная олигур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деление мочи менее чем 15 мл/кг в сут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у всех здоровых новорожденных первых 3 дней жизни и рассматривается как очень важная компенсаторно-приспособительная реакция (ребенок в первые дни жизни испытывает дефицит поступления жидкости из-за неустановившегося питания, несет большие потери жидкости с дыханием - около 1 мл/кг/ч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тречается у всех новорожденных первых дней жизни, является следствием повышенной проницаемости эпителия почечных клубочков и канальце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екислый инфарк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ложение мочевой кислоты в виде кристаллов, преимущественно в просвете собирательных трубочек поче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адке мочи кроме кристаллов мочевой кислоты находят гиалиновые и зернистые цилиндры, лейкоциты, эпителий. Все они исчезают к 7-10 дню жизни без леч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мочекислого инфаркта лежит катаболическая направленность обмена веществ и распад большого количества клеток (в основном лейкоцитов), а из ядер нуклеиновых кислот образуются пуриновые и пиримидиновые основания, конечным этапом метаболизма которых и является мочевая кисло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анзиторный дисбактерио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ное состояние, развивающееся у всех новорожденных. При неосложненном течении беременности плод стерилен, в то время как внеутробная жизнь проходит в мире микроорганизмов, где естественной аутофлоре человека принадлежит очень большое физиологическое знач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момент рождения кожу и слизистые оболочки ребенка заселяет флора родовых путей матер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ами инфицирования могут являться также руки медперсонала, воздух, предметы ухода, молоко матер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первичная бактериальная флора кишечника и кожи, слизистых оболочек представлена не только такими бактериями, как бифидобактерии, молочнокислые стрептококки, сапрофитный стафилококк, но и условнопатогенными стафилококками, кишечной палочкой с измененными ферментативными свойствами, различными штаммами протея, грибами, которые в небольшом количестве могут быть также естественными симбионтами взрослого чело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ому дисбактериозу способству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, чт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рьерная функция кожи и слизистых оболочек в момент рожд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е совершенна по ряду показателей, чем у детей конца 1-й недели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анзиторный катар кишеч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1196640"/>
            <a:ext cx="87235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изиологическая диспепсия новорожденных, переходный катар кишечника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о стула, наблюдающееся у всех новорожденных в середине 1-й недели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родный кал (меконий) - густая, вязкая масса темно-зеленого (оливкового) цвета, выделяющаяся, как правило, лишь в течение 1-2, реже 3 дн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стул становится более частым, негомогенным как по консистенции (комочки, слизь, жидкая часть), так и по окраске (участки темно-зеленого цвета чередуются с зеленоватыми, желтыми и даже беловатыми), более водянистым (пятно воды на пеленке вокруг каловых масс), а при микроскопии обнаруживают слизь, лейкоциты - до 30 в поле зрения, жирные кислот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ой стул называют переходным, а состояние - переходным катаром кишечни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анзиторные особенности обмена вещес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19664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санного молока не покрывает даже потребности основного обмена (50 ккал/кг в сутки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ая гипераммониемия (ТГАМ)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раничное состояние, впервые выявленное в 70-х годах у глубоконедоношенных и детей с задержкой внутриутробного развития (ЗВУР), но в дальнейшем верифицированное и у доношенных новорожденных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ая гипертирозинемия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раничное состояние, выявляемое у 5-10 % новорожденных из-за отставания созревания оксидазы парагидроксифенилпировиноградной кислоты, что приводит к резкому повышению уровня тирозина в сыворотке крови - вплоть до 600 мг/л (при нормальном уровне до 22 мг/л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рованные гликолиз и липолиз с понижением уровня глюкозы в крови и повышениями кетоновых тел, неэстерифицированных жирных кислот типичны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сех новорожденных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й ацидоз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раничное состояние, характерное для всех детей в родах, ибо в этот момент вследствие особенностей маточно-плацентарного кровотока (уменьшение его, приводящее к периодам гипоксемии у плода во время схваток) рН крови всегда уменьшается на 0,08-0,2 (по сравнению с рН крови плода), составляя в момент рождения около 7,27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ая активация перекисного окисления липидов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мечается у всех новорожденных. Это - адаптивная реакция в условиях резкой перестройки кислородного режима организма, способствующая большей лабильности эритроцитарных мембран, активирующая фагоцитоз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е гипокальциемия и гипомагниемия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ипичны для всех детей в первые двое суток жизн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анзиторная потеря первоначальной массы те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, в основном, вследствие голодания (дефицит молока и воды)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ервые дни жизн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убыль первоначальной массы тела (МУМТ) обычно наблюдается на 3-4-й день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имальных условиях вскармливания и выхаживания у здоровых доношенных новорожденных МУМТ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вышает 6% (допустимые колебания от 3 до 10%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м величинам МУМТ способствуют: недоношенность, большая масса тела при рождении (свыше 3500 г), затяжные роды, родовая травма, гипогалактия у матери, высокая температура и недостаточная влажность воздуха в палате новорожденных и др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МТ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, чем 10% у доношенного свидетельствует о заболевании или о нарушениях в выхаживании ребенк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ез - 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сновном связывают с обезвоживанием, неощутимой потерей воды, с дыханием (до 50%) и потом (до 20%)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3 степени МУМТ (соответственно и 3 степени гипогидратации)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(МУМТ менее 6%)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знаки эксикоза не выражены, но имеют место внутриклеточная гипогидратация, некоторая жадность сосания, иногда беспокойство; гиперемия слизистых при бледности кожи, медленное расправление кожной складк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(МУМТ 6-10%)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мптомы отсутствуют или наблюдаются жажда, раздражительный крик, одышка, тахикардия; выявляются признаки внутриклеточной гипогидратации - повышение гематокрита, общего белка в сыворотке крови, тенденция к олигурии и др.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(МУМТ более 10%)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ажда, сухость слизистых оболочек и кожи, медленное расправление кожной складки, запавший родничок, одышка, тахикардия, тремор, адинамия, мраморность кожи, акроцианоз, гипернатриемия выше 16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0 ммоль/л, олигурия и др. Восстановление массы тела наступает к 6-7 дню жизн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анзиторное нарушение теплового балан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вследствие несовершенства процессов теплорегуляции, повышения или понижения температуры окружающей среды, неадекватной адаптивным возможностям ребе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условиями процесса терморегуляции у новорожденных являютс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высокая температура по отношению к теплопродукции. Это обусловлено в 3 раза большей поверхностью тела новорожденного на 1 кг массы тела и в 2 раза большими величинами минутного объема дыхания по отношению к аналогичным показателям у взрослых. Отсюда потери тепла путем конвекции и испар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 ограниченная способность увеличивать теплоотдачу при перегревании или способность увеличивать теплопродукцию в ответ на охлаждени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давать типичную лихорадочную реакцию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е. перестраивать тепловой гомеостаз так, как это отмечается при лихорадке у взрослых из-за нечувствительности мозга новорожденного к лейкоцитарному пирогену и большой концентрации в крови аргинин-вазопрессина, снижающего температуру те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ая гипотермия (понижение температуры тела) возникает уже в первые 30 мин после рождения (на 0,3°С в 1 мин), а к 5-6 часам жизни происходит подъем температуры тела и устанавливается гомойотерм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восстановление сниженной после рождения температуры тела указывает на недостаточную активность компенсаторно-приспособительных реакций ребен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профилактики переохлаждения ребенка после появления из родовых путей укутывают в стерильную оптимально подогретую пеленку, осторожно промокают ею для предотвращения потерь тепла при испарении околоплодных вод с кожи, помещают на подогреваемый столик под лучистый источник тепла, поддерживают температу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а в родильном зале не меньше 24-25°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ая гипертермия возникает на 3-5-й день жизни и температура может повышать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38,5-39,5°С и выше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беспокоен, жадно пьет, у него отмечаются признаки обезвожив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ствуют развитию транзиторной гипертермии перегрев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 температуре воздуха в палате для здоровых доношенных новорожденных выше 24°С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положение кроватки ребенка рядом с батареей отопления и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 прямыми солнечными лучами и т. 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допаивание,а такж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езвоживание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одильного дома, где малыш появился на свет, сведения о его выписке будут обязательно переданы телефонограммой в детскую районную поликлинику, куда кроха будет прикреплен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актическому адресу прожив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ая медицинская сестра детской поликлиники, получив эту информацию, в тот же день заносит данные в журнал регистрации новорожденных и передает сведения в регистратуру или непосредственно участковой медицинской сестр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е изменения кожных покров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5998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й эритем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активная краснота кожи, которая возникает после удаления первородной смазки и первой ванны. Краснота в первые часы имеет слегка цианотичный оттенок, на 2-е сутки она становится наиболее яркой, далее интенсивность ее постепенно уменьшается и к концу 1-й недели жизни исчезает; у недоношенных эритема более выражена и держится дольше - до 2-3 недел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ого шелушения кожных покров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упнопластинчатое шелушение кожи. Возникает на 3-5 день жизни у детей с яркой простой эритемой при ее угасании. Обильное шелушение отмечается у переношенных де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вой опухол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ек предлежащей части вследствие венозной гиперемии, проходит самостоятельно в течение 1-2 дней. Иногда на месте родовой опухоли имеются петех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еской эрите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лергоидная реакция. Отмечается у 20-30% новорожденных. Возникает на 2-5-й день жизни и проявляется эритематозными, слегка плотноватыми, пятнами с папулами или пузырьками в центре.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кализация: разгибательные поверхности конечностей вокруг суставов, ягодицы, грудь, живот, лиц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ыпания обильные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 не бывает на ладонях, стопах, слизист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ще через 2-3 дня после появления сыпь бесследно исчезает. Состояние детей обычно не нарушается, температура нормальная, лишь при обильной эритеме ребенок становится беспокойным, у не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наблюдается диарея, микрополиадения, увеличение селезенки, эозинофил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ая желтух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ывает у 60-70% новорожденных. Причин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емолиз эритроцитов, содержащих фетальный гемоглобин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достаточная конъюгационная способность печ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лтушное окрашивание кожи возникает на 3 день, усиливается до 6 дня и исчезает к 7-10 дню. Самочувствие не страдает. Уровень билирубина минимальный 26-34 мкмоль/л, максимальный 130-170 мкмоль/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этом заканчивается первичный патронаж к новорожденному. На втором патронаже медсестра проверяет правильность выполнения процед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сещение н/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атронаж к новорожденному должен быть выполнен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же 1-2 дней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ыписки из роддома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анных недоношенных детей с симптомами перинатальной и врожденной патологии медсестра и участковый доктор должны посетить уже в день выписки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т день приходится на выходные или праздники, таких детишек посещает дежурный врач-педиат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патрона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ая цель патронажей: создать программу реабилитации ребен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кретные цел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ить состояние здоровья ребенк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ить состояние здоровья матер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ить социально-экономические условия семь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ать программу обучения матери, направленную на удовлетворение жизненных потребностей ребен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Входя в квартиру, работники детской поликлиники должны снять верхнюю одежду и вымыть руки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атронаж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ам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ервого патронажа сестра проводит беседу с матерью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яет течение беременности и род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 выписной эпикриз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яет тревоги и проблемы семьи, связанные с рождением ребен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сестра уделяет внимание условиям пребывания крох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рекомендации по уходу за малютко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р ребен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сестра проводит обследование ребенка, осмотр кожи и слизистых, оценивает рефлексы. Смотрит активность сосания и характер вскармливания. Так же обращает внимание на плач ребенка, дыхание. Пальпирует животик и   осматривает большой родничок, пупочную ран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узнает о самочувствии матери, соматическом и психическом здоровье и состоянии лактации, характере питания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атривает молочные желез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первичного патронажа матер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ся рекомендаци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хране своего здоровья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невной отдых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нообразная пищ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иленный питьевой режим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блюдение личной гигиены (ежедневно принимать душ или мыть тело до пояса, ежедневно менять бюстгальтер, мыть руки после прихода с улицы, перед пеленанием и кормлением ребенка и т. д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дицинская сестра обучает мам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режиму дня 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питанию для улучшения лактаци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правильному алгоритму  вскармливания ребенк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уходу за н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убеждает родителей в необходимости регулярно наблюдаться у врача и выполнения всех его рекомендаци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Обучает маму и всех членов семьи технологии психо-эмоционального общения с ребенком. Для успешного общения с ребенком необходимо знать уровень его возрастных потребностей и возможностей общ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54:51Z</dcterms:created>
  <dc:creator>Ируська</dc:creator>
  <dc:description/>
  <dc:language>en-US</dc:language>
  <cp:lastModifiedBy>Admin</cp:lastModifiedBy>
  <dcterms:modified xsi:type="dcterms:W3CDTF">2017-12-06T14:52:00Z</dcterms:modified>
  <cp:revision>12</cp:revision>
  <dc:subject/>
  <dc:title>Патронаж новорожденного.</dc:title>
</cp:coreProperties>
</file>