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C7F-5FA5-4620-844D-3ED9C24E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A25-EC00-4AD9-B6A8-146C124C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DB43B-E890-47FA-9A3E-6B08CB34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E2FEA-5732-4BDF-8B6D-F4ED089F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35AC9-AC8A-4A1B-9691-A4A05DF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A8A9A-8B31-47ED-ABDD-C1A6F65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1B02A-1AAB-44DA-8EEE-2AD5931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BB4E3-8276-46EA-947E-116E27FD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668C6-BD08-4AEF-BAA7-BECA4C44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AB63B-76FF-4D7D-80A0-9E65ABCE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518C2-A1EE-4B74-8631-C233A8AC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6D890-42AD-4949-80D5-4A4F7320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136-AB88-43BE-B692-92F1D9AF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92265-B2E6-43DC-9F1F-6783D406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D1E5B-9DE1-44DE-A73A-387723DF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E26B7-A561-4FF4-ADB9-6A82A286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09EC7-43ED-4A9C-B82C-3AC7E01E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C54A8-D188-4155-B0D2-1EE73118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A454A-C000-4634-9686-9195B9D8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E8B07-6567-4DE7-B231-04427F0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118E4-24C9-47AA-A2B0-9685F3E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06447-9A3A-4987-BB29-83700725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09FE7-4A4C-44F1-9700-47657A6C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7D6-C00D-40F1-9B6C-C6B99FE0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02414-92AC-4BF8-A0A2-3C9AB157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DBBCE-76C6-4DE7-9E35-D4F0D977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2EB95-BE7F-491F-84DE-3EFCC0C5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0A49B-2D9B-43D8-99D5-120874AE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80459-6116-4B6C-AC9C-F42E9CC6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F667A-DDE5-48E0-BC2E-7D9318E3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5F37F-9F2B-4EE0-BF31-CB4CB558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6DFBC-98AB-4A84-A1E9-5A489836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6434F-FCC1-47D4-BA90-628D7318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01A1F-F501-42DC-9574-2EE6564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77AA-5CE7-42BD-9153-9D4867E8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EE37B-9433-498B-8C7E-0AF277D9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A7C5D-63D5-4208-8ECE-F0BB5835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58955-6E8B-46F8-88C4-46DB5BB0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D408-144F-4F01-89E1-86535C5E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DE80-0796-47E1-83CC-863E9E7E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1D90-763E-41C8-86C9-1DC0659C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2540-DF7D-4EA2-A6A0-6AA1BC1B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E25E-92A2-4856-95DD-5C76420B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F7A4-DA00-4D9C-87C1-ED231169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9C6-0B19-4BCE-8666-77A82A62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27E0-4EF4-4258-BF16-57DD8B0C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2C1C-D1C4-4962-A70F-CA97631A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5442-0EC7-40D6-B72E-BB8D13DA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766E-1919-4F8F-949B-21C32776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C51C-A9A9-4039-B193-959CB900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3BEF-9E8F-47BF-A530-7DE23750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3B79-4C25-4602-B56E-FB8ACF12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8D72-AA57-452A-A3DB-B723E7B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85C8-6EE3-49E7-833B-615C62DC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96C0-E6BC-4049-8EFD-3C19F293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A92-38F3-426E-913B-61B0BBE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080C-6D4D-4320-8503-2E662374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97E3E-CE41-4398-B6C9-507FC4B2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FE70-1091-40C1-B398-7DAF1B9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F794-7A44-47BE-B9A8-77494EBE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D54A-EBC0-4C8E-8186-2F918D6F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2E07-089F-475A-A232-8CF70B3A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5269-EE82-405D-84B7-B9E656A5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70CC9-B103-4EE8-8FFF-664D86DA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D6CFA-44A0-42B6-95AE-9DB00375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9B3FD-784A-4095-8AED-5A385B53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3B2-7228-4603-98C9-DE832520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EE8C7-7170-4ADA-AC37-223F45F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4CBB5-681D-45C5-AA3D-8ACA01E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B740A-4702-4AC0-8923-2713C052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2A085-5084-4576-8700-57AA838A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07932-9840-4155-B1D2-3EF2724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D4570-5E3A-456D-B362-83B12F0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9A52D-2ACD-4C35-B664-AB70626D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1EA19-DD90-4391-A0B0-58DD6319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55F43-CDD8-4F47-AC27-6BC68141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B40F-55A7-4E68-95E7-42A1D090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F95-6989-4C32-AF59-395549DF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5030-38D2-44BB-9A2A-C3AFF495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EF970-A637-43F6-B8F1-5D110C3D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21AE-D711-4ACB-A2CE-83FD0560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A3EA-43AF-42AB-813D-3ACF2EEE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D532D-784B-428D-BA21-329B93A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2027-2B50-45DD-9AA2-AE6F070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2929-BADC-4A38-B42C-51C214A1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933E-0518-4198-ADD3-F83F7C47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214DF-A98D-4BD1-BF64-91E54B8F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08C81-6A53-4B7F-A090-9C1BD152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3F1-0C2B-47C0-B502-05A2AADB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8431-A908-47D3-B629-7442A96C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87ABA-A9D1-4AA8-BDC9-1AC005F6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E27E-384A-4E1B-A77D-A3C3E67D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2BEB-0D6E-450A-B2FD-4C8F0146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56122-63F5-4D9D-9EF5-04B1258A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0C05-532C-4573-99F3-3498A82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F7D0D-2C5B-470A-A70B-9F34B5E4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821A-7DEB-4361-9AA2-537E1B5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A9AE6-C1AF-4784-A243-BF18BF3B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FE8BB-F04F-4AF1-BB04-6CDD8BC1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893-BC09-4A4E-8726-5F871950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41C9-5B05-495D-A6E8-50CF879F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8DED-D0F5-415E-97E5-C9122F9F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C135-7306-4437-A2B0-DA0EEA3A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FFCD3-D0A8-44B4-99E3-EC2D7797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148E7-AADB-4EF0-A986-7A829989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34670-6575-4D1A-BF3C-315C760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E7850-6866-4CEC-809D-5F69C52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AA39C-A0CE-4954-B0F6-A3128582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5334B-884B-4D48-BF03-B187908F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F9C29-89DC-4DBF-84F9-A658889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360-2281-4C1D-8671-65DD6E0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ACC8-E19D-4C20-A388-C192ADB6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121E5-6E43-4ACC-8CD6-1B4B746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ED823-E8A5-4434-AB01-A7EEBB7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8823A-2F6E-4E03-BC71-7E5A787F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CB962-8200-4785-ADFD-F1A7C651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AD51A2-2CC8-4FE9-BE2D-FA4ABDDB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DE74B-0807-40BF-B66A-F2FE097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1D5570-C1E5-4124-A955-0F3342B2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96A694-7421-4762-8F11-4F78410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E966F2-6556-4106-90D4-0D00EEED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DD8-0C64-47F9-A8EA-2C59C93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9D0A4-8A8A-4FDA-8B72-9307E1CF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D0497-FB3A-4AA7-BA3D-66EAABC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DB8DA-F733-4A54-A3B7-B8A06D07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9ED758-2848-472B-A247-33C926B3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44F9AC-99C4-4749-B573-C9A47182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2030D-C87B-48F0-8656-AFE903DD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D9494C-1B4E-4889-8E61-220EC70C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9DC44-9043-4950-A7CE-E5ED73CE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674B3-B60B-477E-8A8F-22732088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19925-7E6D-46D8-9005-FBB18126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2514-3952-4EB0-897E-94D30FCB7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64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4"/>
            <p:cNvSpPr/>
            <p:nvPr/>
          </p:nvSpPr>
          <p:spPr>
            <a:xfrm>
              <a:off x="0" y="756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5"/>
            <p:cNvSpPr/>
            <p:nvPr/>
          </p:nvSpPr>
          <p:spPr>
            <a:xfrm>
              <a:off x="7953480" y="7560"/>
              <a:ext cx="1203120" cy="685008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5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646" name="Group 7"/>
              <p:cNvGrpSpPr/>
              <p:nvPr/>
            </p:nvGrpSpPr>
            <p:grpSpPr>
              <a:xfrm>
                <a:off x="8381880" y="360"/>
                <a:ext cx="762120" cy="2275920"/>
                <a:chOff x="8381880" y="360"/>
                <a:chExt cx="762120" cy="2275920"/>
              </a:xfrm>
            </p:grpSpPr>
            <p:grpSp>
              <p:nvGrpSpPr>
                <p:cNvPr id="647" name="Group 8"/>
                <p:cNvGrpSpPr/>
                <p:nvPr/>
              </p:nvGrpSpPr>
              <p:grpSpPr>
                <a:xfrm>
                  <a:off x="8713800" y="360"/>
                  <a:ext cx="279360" cy="275400"/>
                  <a:chOff x="8713800" y="360"/>
                  <a:chExt cx="279360" cy="275400"/>
                </a:xfrm>
              </p:grpSpPr>
              <p:grpSp>
                <p:nvGrpSpPr>
                  <p:cNvPr id="648" name="Group 9"/>
                  <p:cNvGrpSpPr/>
                  <p:nvPr/>
                </p:nvGrpSpPr>
                <p:grpSpPr>
                  <a:xfrm>
                    <a:off x="8713800" y="360"/>
                    <a:ext cx="279360" cy="275400"/>
                    <a:chOff x="8713800" y="360"/>
                    <a:chExt cx="279360" cy="275400"/>
                  </a:xfrm>
                </p:grpSpPr>
                <p:sp>
                  <p:nvSpPr>
                    <p:cNvPr id="649" name="Freeform 10"/>
                    <p:cNvSpPr/>
                    <p:nvPr/>
                  </p:nvSpPr>
                  <p:spPr>
                    <a:xfrm rot="16200000">
                      <a:off x="875268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1" name="Oval 12"/>
                  <p:cNvSpPr/>
                  <p:nvPr/>
                </p:nvSpPr>
                <p:spPr>
                  <a:xfrm rot="16200000">
                    <a:off x="8833320" y="137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13"/>
                  <p:cNvSpPr/>
                  <p:nvPr/>
                </p:nvSpPr>
                <p:spPr>
                  <a:xfrm rot="16200000">
                    <a:off x="876708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Freeform 15"/>
                  <p:cNvSpPr/>
                  <p:nvPr/>
                </p:nvSpPr>
                <p:spPr>
                  <a:xfrm rot="16200000">
                    <a:off x="890748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Freeform 16"/>
                  <p:cNvSpPr/>
                  <p:nvPr/>
                </p:nvSpPr>
                <p:spPr>
                  <a:xfrm rot="16200000">
                    <a:off x="8833320" y="19908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Freeform 17"/>
                  <p:cNvSpPr/>
                  <p:nvPr/>
                </p:nvSpPr>
                <p:spPr>
                  <a:xfrm rot="16200000">
                    <a:off x="8781840" y="1742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61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61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07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0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49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59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6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65" name="Group 26"/>
              <p:cNvGrpSpPr/>
              <p:nvPr/>
            </p:nvGrpSpPr>
            <p:grpSpPr>
              <a:xfrm>
                <a:off x="7848720" y="1605960"/>
                <a:ext cx="828720" cy="4704120"/>
                <a:chOff x="7848720" y="1605960"/>
                <a:chExt cx="828720" cy="4704120"/>
              </a:xfrm>
            </p:grpSpPr>
            <p:pic>
              <p:nvPicPr>
                <p:cNvPr id="6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5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0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7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7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1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85" name="Freeform 46"/>
            <p:cNvSpPr/>
            <p:nvPr/>
          </p:nvSpPr>
          <p:spPr>
            <a:xfrm>
              <a:off x="7953480" y="4910760"/>
              <a:ext cx="1190520" cy="19375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47"/>
            <p:cNvSpPr/>
            <p:nvPr/>
          </p:nvSpPr>
          <p:spPr>
            <a:xfrm>
              <a:off x="7939080" y="4860000"/>
              <a:ext cx="1219320" cy="19976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48"/>
            <p:cNvSpPr/>
            <p:nvPr/>
          </p:nvSpPr>
          <p:spPr>
            <a:xfrm>
              <a:off x="7927920" y="2822040"/>
              <a:ext cx="1231920" cy="40323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49"/>
            <p:cNvSpPr/>
            <p:nvPr/>
          </p:nvSpPr>
          <p:spPr>
            <a:xfrm>
              <a:off x="8010360" y="3542040"/>
              <a:ext cx="979560" cy="21819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50"/>
            <p:cNvSpPr/>
            <p:nvPr/>
          </p:nvSpPr>
          <p:spPr>
            <a:xfrm>
              <a:off x="8244000" y="434160"/>
              <a:ext cx="914400" cy="50421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51"/>
            <p:cNvSpPr/>
            <p:nvPr/>
          </p:nvSpPr>
          <p:spPr>
            <a:xfrm>
              <a:off x="8250120" y="269640"/>
              <a:ext cx="909720" cy="30679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52"/>
            <p:cNvSpPr/>
            <p:nvPr/>
          </p:nvSpPr>
          <p:spPr>
            <a:xfrm>
              <a:off x="7943760" y="7560"/>
              <a:ext cx="576360" cy="33487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53"/>
            <p:cNvSpPr/>
            <p:nvPr/>
          </p:nvSpPr>
          <p:spPr>
            <a:xfrm>
              <a:off x="7943760" y="9000"/>
              <a:ext cx="300240" cy="33490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54"/>
            <p:cNvSpPr/>
            <p:nvPr/>
          </p:nvSpPr>
          <p:spPr>
            <a:xfrm>
              <a:off x="7866000" y="9000"/>
              <a:ext cx="88920" cy="68500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55"/>
            <p:cNvSpPr/>
            <p:nvPr/>
          </p:nvSpPr>
          <p:spPr>
            <a:xfrm>
              <a:off x="7958160" y="623016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AutoShape 56"/>
            <p:cNvSpPr/>
            <p:nvPr/>
          </p:nvSpPr>
          <p:spPr>
            <a:xfrm rot="5400000">
              <a:off x="4327920" y="3319920"/>
              <a:ext cx="685008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73C-A4F6-4D5E-BD22-CFBEB1D8FE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738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739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75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757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761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765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769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2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FC05-98A8-41A7-89BC-FFC2A4F5636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109-D8DB-488C-8B33-A6800FEF7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3A39-0972-4F2A-8417-6AEFFAC04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5548-B93E-4D62-8DC5-CC73186AC9D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5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5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A624-7AE6-4B7A-9F21-700734C56E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4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5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35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0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361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36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6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7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80CF-CDE7-4189-8426-FE358001B94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3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4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6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8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9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ED20-F765-43B7-838E-5DA0E2B88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5C3B-F1E4-46AD-BECF-044648C8F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B55F-DB2E-423F-B8FE-ABC9EC0D92F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WordArt 4"/>
          <p:cNvSpPr txBox="1"/>
          <p:nvPr/>
        </p:nvSpPr>
        <p:spPr>
          <a:xfrm>
            <a:off x="380880" y="1143000"/>
            <a:ext cx="7753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6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Практические 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арт- терапевтических технолог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Фото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41" name="Picture 10" descr="SL371743"/>
          <p:cNvPicPr/>
          <p:nvPr/>
        </p:nvPicPr>
        <p:blipFill>
          <a:blip r:embed="rId1"/>
          <a:stretch/>
        </p:blipFill>
        <p:spPr>
          <a:xfrm>
            <a:off x="4648320" y="1905120"/>
            <a:ext cx="3120840" cy="240804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т метод позволяет: -снизить тревожность  человека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повысить уверенность в себ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увидеть свою уникальнос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ень хорошего настро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44" name="Picture 5" descr="DSCN1270"/>
          <p:cNvPicPr/>
          <p:nvPr/>
        </p:nvPicPr>
        <p:blipFill>
          <a:blip r:embed="rId1"/>
          <a:stretch/>
        </p:blipFill>
        <p:spPr>
          <a:xfrm>
            <a:off x="3124080" y="1676520"/>
            <a:ext cx="385452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Цветотерапия. Погружение в определённый цвет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7" name="Picture 8" descr="цветная"/>
          <p:cNvPicPr/>
          <p:nvPr/>
        </p:nvPicPr>
        <p:blipFill>
          <a:blip r:embed="rId1"/>
          <a:stretch/>
        </p:blipFill>
        <p:spPr>
          <a:xfrm>
            <a:off x="2666880" y="1600200"/>
            <a:ext cx="31114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азличные  цвета по разному влияют на психоэмоциональное сознание детей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49" name="Picture 6" descr="DSC02065"/>
          <p:cNvPicPr/>
          <p:nvPr/>
        </p:nvPicPr>
        <p:blipFill>
          <a:blip r:embed="rId1"/>
          <a:stretch/>
        </p:blipFill>
        <p:spPr>
          <a:xfrm>
            <a:off x="3046320" y="1295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Холодные тона –успокаивают, расслабляют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51" name="Picture 6" descr="голубой цвет"/>
          <p:cNvPicPr/>
          <p:nvPr/>
        </p:nvPicPr>
        <p:blipFill>
          <a:blip r:embed="rId1"/>
          <a:stretch/>
        </p:blipFill>
        <p:spPr>
          <a:xfrm>
            <a:off x="3733920" y="1676520"/>
            <a:ext cx="3168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Тёплые цвета- активизируют деятельность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53" name="Picture 6" descr="красный"/>
          <p:cNvPicPr/>
          <p:nvPr/>
        </p:nvPicPr>
        <p:blipFill>
          <a:blip r:embed="rId1"/>
          <a:stretch/>
        </p:blipFill>
        <p:spPr>
          <a:xfrm>
            <a:off x="2666880" y="1752480"/>
            <a:ext cx="32860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алоактивным, пассивным детьям предлагаются задания с использованием тёплых оттенк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57" name="Picture 7" descr="DSC01951"/>
          <p:cNvPicPr/>
          <p:nvPr/>
        </p:nvPicPr>
        <p:blipFill>
          <a:blip r:embed="rId1"/>
          <a:stretch/>
        </p:blipFill>
        <p:spPr>
          <a:xfrm>
            <a:off x="5943600" y="1752480"/>
            <a:ext cx="279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Гиперактивным детям предлагаются упражнения с холодными оттенками цвета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59" name="Picture 6" descr="DSC01953"/>
          <p:cNvPicPr/>
          <p:nvPr/>
        </p:nvPicPr>
        <p:blipFill>
          <a:blip r:embed="rId1"/>
          <a:stretch/>
        </p:blipFill>
        <p:spPr>
          <a:xfrm>
            <a:off x="2362320" y="19051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рапия вод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 –первый и любимый всеми детьми  объект исследования. Она даёт ребёнку приятные ощущения, развивает различные рецепторы, предоставляет неограниченные возможности развития познавательной акти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гра «Поиск сокровищ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4" name="Picture 4" descr="DSC01976"/>
          <p:cNvPicPr/>
          <p:nvPr/>
        </p:nvPicPr>
        <p:blipFill>
          <a:blip r:embed="rId1"/>
          <a:stretch/>
        </p:blipFill>
        <p:spPr>
          <a:xfrm>
            <a:off x="2743200" y="17524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Арттерапия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–лечение искусство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ттерапия основанна на занятиях искусством и любой творческой деятельности с введением элементов психодиагностики и психокоррекции, для достижения положительных изменений в личностном развитии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гра «Кто быстрее доплывёт?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6" name="Picture 4" descr="DSC01981"/>
          <p:cNvPicPr/>
          <p:nvPr/>
        </p:nvPicPr>
        <p:blipFill>
          <a:blip r:embed="rId1"/>
          <a:stretch/>
        </p:blipFill>
        <p:spPr>
          <a:xfrm>
            <a:off x="3124080" y="1600200"/>
            <a:ext cx="35197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узыкально-оздоровительные методики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отерап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калотерап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нцетерап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терап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узыко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Музыка- одно из самых сильнейших орудий воспитания каждого человек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. Д.Шостакови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1" name="Picture 7" descr="250px-Dmitri1шостакович"/>
          <p:cNvPicPr/>
          <p:nvPr/>
        </p:nvPicPr>
        <p:blipFill>
          <a:blip r:embed="rId1"/>
          <a:stretch/>
        </p:blipFill>
        <p:spPr>
          <a:xfrm>
            <a:off x="6324480" y="1828800"/>
            <a:ext cx="2133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Вокалотерапия</a:t>
            </a:r>
            <a:br>
              <a:rPr sz="40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есня «Мама» из сказки «Волк и семеро козлят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352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вук имеет над нами удивительную власть : он может и растрогать, и ранить, и избавить от бо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4" name="Picture 6" descr="P1080197"/>
          <p:cNvPicPr/>
          <p:nvPr/>
        </p:nvPicPr>
        <p:blipFill>
          <a:blip r:embed="rId1"/>
          <a:stretch/>
        </p:blipFill>
        <p:spPr>
          <a:xfrm>
            <a:off x="4572000" y="2286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анцетерапи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76" name="Picture 6" descr="P1080167"/>
          <p:cNvPicPr/>
          <p:nvPr/>
        </p:nvPicPr>
        <p:blipFill>
          <a:blip r:embed="rId1"/>
          <a:stretch/>
        </p:blipFill>
        <p:spPr>
          <a:xfrm>
            <a:off x="2895480" y="1676520"/>
            <a:ext cx="3861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Танец «Поссорились - помирились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78" name="Picture 5" descr="DSC02041"/>
          <p:cNvPicPr/>
          <p:nvPr/>
        </p:nvPicPr>
        <p:blipFill>
          <a:blip r:embed="rId1"/>
          <a:stretch/>
        </p:blipFill>
        <p:spPr>
          <a:xfrm>
            <a:off x="2743200" y="1676520"/>
            <a:ext cx="3778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Танец «Мы в лесок пойдём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80" name="Picture 5" descr="DSC02069"/>
          <p:cNvPicPr/>
          <p:nvPr/>
        </p:nvPicPr>
        <p:blipFill>
          <a:blip r:embed="rId1"/>
          <a:stretch/>
        </p:blipFill>
        <p:spPr>
          <a:xfrm>
            <a:off x="2743200" y="1905120"/>
            <a:ext cx="35798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отерапия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124080" cy="43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процесс проживания ситуации, поданной в игровой фор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3" name="Picture 6" descr="P1060961"/>
          <p:cNvPicPr/>
          <p:nvPr/>
        </p:nvPicPr>
        <p:blipFill>
          <a:blip r:embed="rId1"/>
          <a:stretch/>
        </p:blipFill>
        <p:spPr>
          <a:xfrm>
            <a:off x="4952880" y="1676520"/>
            <a:ext cx="27432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Музыкальная игра «Вкусная каш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85" name="Picture 6" descr="P1060974"/>
          <p:cNvPicPr/>
          <p:nvPr/>
        </p:nvPicPr>
        <p:blipFill>
          <a:blip r:embed="rId1"/>
          <a:stretch/>
        </p:blipFill>
        <p:spPr>
          <a:xfrm>
            <a:off x="3048120" y="1676520"/>
            <a:ext cx="36558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азкотерапия- это лечение сказкой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пользуется для решения целого ряда задач: воспитательной, образовательной, развивающей лич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зотерапия- терапия изобразительным искусством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отерапия позволяет понять самого себя, выразить свободно свои мысли, освободиться от негативных переживаний, снять стр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КАЗКОТЕРОП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сказывание и сочинение сказ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исование сказ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готовление куко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 сказ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азочная песочная терап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Рассказывание и сочинение сказки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(«Смоляной бычок» театр на фланелеграфе 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91" name="Picture 5" descr="DSC02027"/>
          <p:cNvPicPr/>
          <p:nvPr/>
        </p:nvPicPr>
        <p:blipFill>
          <a:blip r:embed="rId1"/>
          <a:stretch/>
        </p:blipFill>
        <p:spPr>
          <a:xfrm>
            <a:off x="2743200" y="1752480"/>
            <a:ext cx="3321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исование сказ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93" name="Picture 5" descr="DSC02053"/>
          <p:cNvPicPr/>
          <p:nvPr/>
        </p:nvPicPr>
        <p:blipFill>
          <a:blip r:embed="rId1"/>
          <a:stretch/>
        </p:blipFill>
        <p:spPr>
          <a:xfrm>
            <a:off x="2819520" y="1676520"/>
            <a:ext cx="35035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казочная песочная 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95" name="Picture 8" descr="DSC02039"/>
          <p:cNvPicPr/>
          <p:nvPr/>
        </p:nvPicPr>
        <p:blipFill>
          <a:blip r:embed="rId1"/>
          <a:stretch/>
        </p:blipFill>
        <p:spPr>
          <a:xfrm>
            <a:off x="2971800" y="1676520"/>
            <a:ext cx="37767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Пирожки для Мишки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97" name="Picture 10" descr="DSC02037"/>
          <p:cNvPicPr/>
          <p:nvPr/>
        </p:nvPicPr>
        <p:blipFill>
          <a:blip r:embed="rId1"/>
          <a:stretch/>
        </p:blipFill>
        <p:spPr>
          <a:xfrm>
            <a:off x="2971800" y="1752480"/>
            <a:ext cx="3471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Использование Юнгианской песочницы.Наполнитель- гречневая круп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99" name="Picture 12" descr="DSC01937"/>
          <p:cNvPicPr/>
          <p:nvPr/>
        </p:nvPicPr>
        <p:blipFill>
          <a:blip r:embed="rId1"/>
          <a:stretch/>
        </p:blipFill>
        <p:spPr>
          <a:xfrm>
            <a:off x="1295280" y="1905120"/>
            <a:ext cx="2616480" cy="19335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1" descr="DSC01934"/>
          <p:cNvPicPr/>
          <p:nvPr/>
        </p:nvPicPr>
        <p:blipFill>
          <a:blip r:embed="rId2"/>
          <a:stretch/>
        </p:blipFill>
        <p:spPr>
          <a:xfrm>
            <a:off x="5484960" y="1905120"/>
            <a:ext cx="2616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полнители – манка,пшено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902" name="Picture 9" descr="DSC01940"/>
          <p:cNvPicPr/>
          <p:nvPr/>
        </p:nvPicPr>
        <p:blipFill>
          <a:blip r:embed="rId1"/>
          <a:stretch/>
        </p:blipFill>
        <p:spPr>
          <a:xfrm>
            <a:off x="1778040" y="2333520"/>
            <a:ext cx="2719440" cy="200988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10" descr="DSC01943"/>
          <p:cNvPicPr/>
          <p:nvPr/>
        </p:nvPicPr>
        <p:blipFill>
          <a:blip r:embed="rId2"/>
          <a:stretch/>
        </p:blipFill>
        <p:spPr>
          <a:xfrm>
            <a:off x="6162840" y="1600200"/>
            <a:ext cx="1962000" cy="14493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1" descr="DSC01945"/>
          <p:cNvPicPr/>
          <p:nvPr/>
        </p:nvPicPr>
        <p:blipFill>
          <a:blip r:embed="rId3"/>
          <a:stretch/>
        </p:blipFill>
        <p:spPr>
          <a:xfrm>
            <a:off x="6162840" y="3902040"/>
            <a:ext cx="1962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Задания на тему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«Создай свой мир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906" name="Picture 9" descr="DSC01928"/>
          <p:cNvPicPr/>
          <p:nvPr/>
        </p:nvPicPr>
        <p:blipFill>
          <a:blip r:embed="rId1"/>
          <a:stretch/>
        </p:blipFill>
        <p:spPr>
          <a:xfrm>
            <a:off x="1468440" y="2333520"/>
            <a:ext cx="3029040" cy="22384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8" descr="DSC01926"/>
          <p:cNvPicPr/>
          <p:nvPr/>
        </p:nvPicPr>
        <p:blipFill>
          <a:blip r:embed="rId2"/>
          <a:stretch/>
        </p:blipFill>
        <p:spPr>
          <a:xfrm>
            <a:off x="4646520" y="2333520"/>
            <a:ext cx="4040280" cy="2986200"/>
          </a:xfrm>
          <a:prstGeom prst="rect">
            <a:avLst/>
          </a:prstGeom>
          <a:ln w="0">
            <a:noFill/>
          </a:ln>
        </p:spPr>
      </p:pic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832000" y="1600200"/>
            <a:ext cx="277812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Настольный театр из пластилина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«Колобок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910" name="Picture 5" descr="DSC02026"/>
          <p:cNvPicPr/>
          <p:nvPr/>
        </p:nvPicPr>
        <p:blipFill>
          <a:blip r:embed="rId1"/>
          <a:stretch/>
        </p:blipFill>
        <p:spPr>
          <a:xfrm>
            <a:off x="2971800" y="1905120"/>
            <a:ext cx="3714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Показ сказки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«Волк и семеро козлят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912" name="Picture 7" descr="DSC02022"/>
          <p:cNvPicPr/>
          <p:nvPr/>
        </p:nvPicPr>
        <p:blipFill>
          <a:blip r:embed="rId1"/>
          <a:stretch/>
        </p:blipFill>
        <p:spPr>
          <a:xfrm>
            <a:off x="1708200" y="1752480"/>
            <a:ext cx="6030720" cy="445608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пра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атривание и анализ картин(репродукции известных художник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творче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альчиковый театр «Сорока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915" name="Picture 6" descr="P1030922"/>
          <p:cNvPicPr/>
          <p:nvPr/>
        </p:nvPicPr>
        <p:blipFill>
          <a:blip r:embed="rId1"/>
          <a:stretch/>
        </p:blipFill>
        <p:spPr>
          <a:xfrm>
            <a:off x="3429000" y="1676520"/>
            <a:ext cx="2360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атр на воде «Колобок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917" name="Picture 5" descr="DSC02046"/>
          <p:cNvPicPr/>
          <p:nvPr/>
        </p:nvPicPr>
        <p:blipFill>
          <a:blip r:embed="rId1"/>
          <a:stretch/>
        </p:blipFill>
        <p:spPr>
          <a:xfrm>
            <a:off x="3200400" y="1752480"/>
            <a:ext cx="278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17680" y="103320"/>
            <a:ext cx="816912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Театр тростевых кукол «Ремонт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919" name="Picture 6" descr="IMG_1393"/>
          <p:cNvPicPr/>
          <p:nvPr/>
        </p:nvPicPr>
        <p:blipFill>
          <a:blip r:embed="rId1"/>
          <a:stretch/>
        </p:blipFill>
        <p:spPr>
          <a:xfrm>
            <a:off x="3581280" y="1600200"/>
            <a:ext cx="26337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Драматизация сказки «Яблоко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921" name="Picture 6" descr="P1060980"/>
          <p:cNvPicPr/>
          <p:nvPr/>
        </p:nvPicPr>
        <p:blipFill>
          <a:blip r:embed="rId1"/>
          <a:stretch/>
        </p:blipFill>
        <p:spPr>
          <a:xfrm>
            <a:off x="3276720" y="1676520"/>
            <a:ext cx="24811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До встречи в «Сказке»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Васнецов«Три богатыр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6" descr="1265886780_paintersscr7"/>
          <p:cNvPicPr/>
          <p:nvPr/>
        </p:nvPicPr>
        <p:blipFill>
          <a:blip r:embed="rId1"/>
          <a:stretch/>
        </p:blipFill>
        <p:spPr>
          <a:xfrm>
            <a:off x="2895480" y="1676520"/>
            <a:ext cx="358164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ень  в картинах разных художник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 Ливитан «Золотая ос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13" descr="levitan18"/>
          <p:cNvPicPr/>
          <p:nvPr/>
        </p:nvPicPr>
        <p:blipFill>
          <a:blip r:embed="rId1"/>
          <a:stretch/>
        </p:blipFill>
        <p:spPr>
          <a:xfrm>
            <a:off x="2819520" y="1981080"/>
            <a:ext cx="40003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амостоятельное творчество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Набрызг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«Краски осени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34" name="Picture 11" descr="DSC01962"/>
          <p:cNvPicPr/>
          <p:nvPr/>
        </p:nvPicPr>
        <p:blipFill>
          <a:blip r:embed="rId1"/>
          <a:stretch/>
        </p:blipFill>
        <p:spPr>
          <a:xfrm>
            <a:off x="2971800" y="1676520"/>
            <a:ext cx="3701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Пальчиковое рисование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«Бабочка»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36" name="Picture 7" descr="DSC01998"/>
          <p:cNvPicPr/>
          <p:nvPr/>
        </p:nvPicPr>
        <p:blipFill>
          <a:blip r:embed="rId1"/>
          <a:stretch/>
        </p:blipFill>
        <p:spPr>
          <a:xfrm>
            <a:off x="2743200" y="1219320"/>
            <a:ext cx="3473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ластилинография (рисование пластилином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38" name="Picture 19" descr="DSC01979"/>
          <p:cNvPicPr/>
          <p:nvPr/>
        </p:nvPicPr>
        <p:blipFill>
          <a:blip r:embed="rId1"/>
          <a:stretch/>
        </p:blipFill>
        <p:spPr>
          <a:xfrm>
            <a:off x="1523880" y="16765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1" descr="DSC01980"/>
          <p:cNvPicPr/>
          <p:nvPr/>
        </p:nvPicPr>
        <p:blipFill>
          <a:blip r:embed="rId2"/>
          <a:stretch/>
        </p:blipFill>
        <p:spPr>
          <a:xfrm>
            <a:off x="5715000" y="1676520"/>
            <a:ext cx="2114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2-02T19:56:4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