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337-24FA-4B3C-8512-DDA21E28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82E-5CB5-4733-AA94-B6797A86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A53-4939-4418-89E7-D42E155D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E08-2F53-4BF6-824F-433AC0F5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E4B2-A092-41C4-9C8D-A9AC0F84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4855-85FB-468E-B839-5DEC008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E87-CBEC-487C-84CF-345FCB3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CE4-F728-468E-B249-10EE481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F93C-AD38-4ECE-B789-2019A0BB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0F82-34EF-4327-9D9B-933B025B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5301-30F7-45CA-84C2-5BA8AFF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3D5-D94E-4A7B-AC52-BEFE202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285A-7EA9-4320-977D-A6EA6EC5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7E3-8C90-41AF-9DB4-4182D27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147-2FEE-4BC7-8AE3-4D5A6B1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E4A0-C1BD-408B-AA90-C399E997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1483-F510-4F8E-B839-D75A00BF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2D0-186A-40C3-A7DA-4EE5918F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A7B-2F71-4037-88BD-FD39E3BA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F73-C422-4B4F-B320-9D8A6F6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5BE-C85B-40DD-A1C0-8835DF7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25C-DE0A-486B-86D9-534A570E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8C8-2926-4408-BBDE-41E66A3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3C6-D174-4040-8388-F8A334D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90C-230A-4D7E-9A08-61981A5EBD7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9B7-E1E8-4AE8-90C2-97F1B50A1D1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БРУ ОТКРОЕТСЯ СЕРДЦ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ект учениц 9в класса Пестыч Ю. и Зюковой П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влечение ровесников к общению с детьми младшего школьного возрас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держание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накомство с коллективом. Игра «Кто я?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икторина «Веселые почемучки» (вопросы на сообразительност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нкурс «Расскажи сказку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Веселые старты» (спортивные эстафет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глашение в театр «Чудо-басн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рганизаторы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лонтеры каждого меропри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вет кла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лавный ответственн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роки проекта (мероприятие в месяц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оя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ка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нва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Феврал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р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риалы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ценарии мероприятий составляются творческой группой волонте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Ход каждого мероприятия отражается в едином творческом отчете проек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езультаты проекта «Добру откроется сердце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здание творческого отче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граждение самых активных участни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ланирование будущих проект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025880" y="2508120"/>
            <a:ext cx="3624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6:31:33Z</dcterms:created>
  <dc:creator>IRU</dc:creator>
  <dc:description/>
  <dc:language>en-US</dc:language>
  <cp:lastModifiedBy>IRU</cp:lastModifiedBy>
  <dcterms:modified xsi:type="dcterms:W3CDTF">2011-10-08T16:30:42Z</dcterms:modified>
  <cp:revision>3</cp:revision>
  <dc:subject/>
  <dc:title>ДОБРУ ОТКРОЕТСЯ СЕРДЦЕ</dc:title>
</cp:coreProperties>
</file>