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33.jpeg" ContentType="image/jpeg"/>
  <Override PartName="/ppt/media/image25.jpeg" ContentType="image/jpeg"/>
  <Override PartName="/ppt/media/image24.jpeg" ContentType="image/jpeg"/>
  <Override PartName="/ppt/media/image23.png" ContentType="image/png"/>
  <Override PartName="/ppt/media/image19.png" ContentType="image/png"/>
  <Override PartName="/ppt/media/image20.jpeg" ContentType="image/jpeg"/>
  <Override PartName="/ppt/media/image21.jpeg" ContentType="image/jpeg"/>
  <Override PartName="/ppt/media/image29.png" ContentType="image/png"/>
  <Override PartName="/ppt/media/image17.gif" ContentType="image/gif"/>
  <Override PartName="/ppt/media/image8.gif" ContentType="image/gif"/>
  <Override PartName="/ppt/media/image13.gif" ContentType="image/gif"/>
  <Override PartName="/ppt/media/image30.jpeg" ContentType="image/jpeg"/>
  <Override PartName="/ppt/media/image7.gif" ContentType="image/gif"/>
  <Override PartName="/ppt/media/image32.jpeg" ContentType="image/jpeg"/>
  <Override PartName="/ppt/media/image35.png" ContentType="image/png"/>
  <Override PartName="/ppt/media/image36.jpeg" ContentType="image/jpeg"/>
  <Override PartName="/ppt/media/image18.wmf" ContentType="image/x-wmf"/>
  <Override PartName="/ppt/media/image26.jpeg" ContentType="image/jpeg"/>
  <Override PartName="/ppt/media/image34.png" ContentType="image/png"/>
  <Override PartName="/ppt/media/image9.gif" ContentType="image/gif"/>
  <Override PartName="/ppt/media/image39.gif" ContentType="image/gif"/>
  <Override PartName="/ppt/media/image37.jpeg" ContentType="image/jpeg"/>
  <Override PartName="/ppt/media/image10.gif" ContentType="image/gif"/>
  <Override PartName="/ppt/media/image38.wmf" ContentType="image/x-wmf"/>
  <Override PartName="/ppt/media/image15.gif" ContentType="image/gif"/>
  <Override PartName="/ppt/media/image16.wmf" ContentType="image/x-wmf"/>
  <Override PartName="/ppt/media/image6.jpeg" ContentType="image/jpeg"/>
  <Override PartName="/ppt/media/image22.jpeg" ContentType="image/jpeg"/>
  <Override PartName="/ppt/media/image12.png" ContentType="image/png"/>
  <Override PartName="/ppt/media/image3.gif" ContentType="image/gif"/>
  <Override PartName="/ppt/media/image11.png" ContentType="image/png"/>
  <Override PartName="/ppt/media/image2.gif" ContentType="image/gif"/>
  <Override PartName="/ppt/media/image5.gif" ContentType="image/gif"/>
  <Override PartName="/ppt/media/image28.png" ContentType="image/png"/>
  <Override PartName="/ppt/media/image1.png" ContentType="image/png"/>
  <Override PartName="/ppt/media/image31.jpeg" ContentType="image/jpeg"/>
  <Override PartName="/ppt/media/image14.gif" ContentType="image/gif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45E209-181B-4E2D-8FE1-3C5069C5C4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CEBC83-5CEF-4E07-8652-30DE8D10C6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19335E-F3D1-4FDB-BFD5-F40BF03225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25AF-C12E-4F3B-B882-BBFDA1F380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087A-4996-4827-9A49-14BB907A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0B48-B9C4-447E-9521-4F0C3C91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F1EB-2C94-4D4A-945B-58224AF87A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A00-9DBC-4F38-9FEA-F82DB77EA0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F59-F133-4032-AE40-8B031D2A68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C56-472E-4F10-BCBD-39EE34205C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9CF-E763-424C-9806-2E9760DD70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F57-3664-49FB-8BC7-65802E43E0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2E6-0229-4D40-8943-160A72545F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AFA3-5C3C-4593-96C8-8B902E3A82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B425F-7E43-47C5-B541-993EBDB5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F5C-1848-4CFF-A767-964156C9F4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3B2-B59C-47CD-A1B2-D7D4BC953D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B73D-D3A3-4F73-975C-EDDFACFB9C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DF5-4C82-4CAE-B564-416C2FA291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ACC-4837-4B6B-99BE-BCC2FFF0AB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B5F5E-4259-4004-978F-EAB3678C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20D80-FC32-46B2-B7A3-61465DFC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45607-6EC9-4F3B-BC5B-9245B5CF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2C95-913C-4E06-AF7A-4C934F09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817D-870A-43BB-BFAF-3C5C0495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C9F76-8BE3-4BD5-A1C9-F4E16FDD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5BC2-C70F-4488-A9B5-D3BB59D4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C9771E-32AD-4D0B-9EC3-24C962E79F8B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9941E3E-F58A-4C95-BDA3-7360FA68C5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" Target="slide16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42920" y="1773360"/>
            <a:ext cx="723924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моциональная жизнь подрост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гуш Л.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3г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75640" y="1989000"/>
            <a:ext cx="1860480" cy="223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1535040" cy="158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68360" y="4292640"/>
            <a:ext cx="1940040" cy="2305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4913280"/>
            <a:ext cx="1098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лидирует ответ б. Вас волнует не ребенок, а проблемы, но неурядицы с учебой могут привести к дестабилизации всей остальной деятельности ребен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лидирует ответ в. Вы не интересуетесь делами ребенка, Вы и другие членам семьи должны помочь ребен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549360"/>
            <a:ext cx="788508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уктура личности подростка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ней нет ничего устойчивого, окончательного и неподвижного. Все в ней- переход, все теч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Л.С.Выготск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Times New Roman"/>
              </a:rPr>
              <a:t>ЧТО ТАКОЕ СЕМЬЯ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Семья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руппа живущих вместе родственников; объединение людей, сплочённых общими интереса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Толковый словарь С.И. Ожегов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80"/>
                </a:solidFill>
                <a:latin typeface="Times New Roman"/>
              </a:rPr>
              <a:t>Главными функциями семьи являются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оспитательная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здоровительная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уховно-нравственная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знавательно-образовательная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бытовая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рудовая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ультурно-просветительная 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осугово-творческая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тимулирующая самостоятельный опыт личности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хранно-защитная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ажность семейного воспитания заключается в том, что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в семье формируются не только социально значимые качества личности, но и свойственные ей оценочные критер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твердые нравственные и идейные убеждения, и пренебрежение к подлинно человеческим моральным ценностя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росток всегда воспринимает в родительской семье определенные образцы повед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высших человеческих ценностей связано с уровнем культуры семьи, с формированием различных интересов, профессиональной и общественной деятельн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987640" y="620640"/>
            <a:ext cx="569592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з психологического словаря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дростковый возраст — стадия онтогенетического развития между детством и взрослость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от 11–12 до 16–17 лет), которая характеризуется качественными изменениями, связанными с половым созреванием и вхождением во взрослую жизнь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246672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ризис подросткового возрас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зис 13- 15 лет очень часто сравнивают с кризисом 3-х лет, только направлен он не на освоение пространства и предметные действия, а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 освоение социального пространства, пространства человеческих взаимо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5661000"/>
            <a:ext cx="273708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7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одростковый комплек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413000"/>
            <a:ext cx="85694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явления подросткового комплекс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вствительность к оценке посторонних своей внеш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няя самонадеянность и безаппеляционные суждения в отношении окружающ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тельность порой уживается с поразительной черствостью, болезненная застенчивость с развязностью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оциональная неустойчивость и резкие колебания настроения . Пик эмоциональной неустойчивости – мальчики 11 – 13 лет, девочки 13 - 15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1657080" cy="160812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8317080" y="6093000"/>
            <a:ext cx="649080" cy="765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765000"/>
              <a:gd name="textAreaBottom" fmla="*/ 723240 h 765000"/>
            </a:gdLst>
            <a:ahLst/>
            <a:rect l="textAreaLeft" t="textAreaTop" r="textAreaRight" b="textAreaBottom"/>
            <a:pathLst>
              <a:path w="21600" h="25455">
                <a:moveTo>
                  <a:pt x="0" y="0"/>
                </a:moveTo>
                <a:lnTo>
                  <a:pt x="21600" y="0"/>
                </a:lnTo>
                <a:lnTo>
                  <a:pt x="21600" y="25455"/>
                </a:lnTo>
                <a:lnTo>
                  <a:pt x="0" y="25455"/>
                </a:lnTo>
                <a:close/>
              </a:path>
              <a:path fill="lightenLess" w="21600" h="25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55">
                <a:moveTo>
                  <a:pt x="21600" y="0"/>
                </a:moveTo>
                <a:lnTo>
                  <a:pt x="21600" y="25455"/>
                </a:lnTo>
                <a:lnTo>
                  <a:pt x="20200" y="24055"/>
                </a:lnTo>
                <a:lnTo>
                  <a:pt x="20200" y="1400"/>
                </a:lnTo>
                <a:close/>
              </a:path>
              <a:path fill="darkenLess" w="21600" h="25455">
                <a:moveTo>
                  <a:pt x="21600" y="25455"/>
                </a:moveTo>
                <a:lnTo>
                  <a:pt x="0" y="25455"/>
                </a:lnTo>
                <a:lnTo>
                  <a:pt x="1400" y="24055"/>
                </a:lnTo>
                <a:lnTo>
                  <a:pt x="20200" y="24055"/>
                </a:lnTo>
                <a:close/>
              </a:path>
              <a:path fill="lighten" w="21600" h="25455">
                <a:moveTo>
                  <a:pt x="0" y="25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55"/>
                </a:lnTo>
                <a:close/>
              </a:path>
              <a:path fill="darken" w="21600" h="25455">
                <a:moveTo>
                  <a:pt x="10800" y="5765"/>
                </a:moveTo>
                <a:lnTo>
                  <a:pt x="13376" y="8376"/>
                </a:lnTo>
                <a:lnTo>
                  <a:pt x="13376" y="6635"/>
                </a:lnTo>
                <a:lnTo>
                  <a:pt x="15152" y="6635"/>
                </a:lnTo>
                <a:lnTo>
                  <a:pt x="15152" y="10151"/>
                </a:lnTo>
                <a:lnTo>
                  <a:pt x="17763" y="12728"/>
                </a:lnTo>
                <a:lnTo>
                  <a:pt x="16109" y="12728"/>
                </a:lnTo>
                <a:lnTo>
                  <a:pt x="16109" y="19917"/>
                </a:lnTo>
                <a:lnTo>
                  <a:pt x="5491" y="19917"/>
                </a:lnTo>
                <a:lnTo>
                  <a:pt x="5491" y="12728"/>
                </a:lnTo>
                <a:lnTo>
                  <a:pt x="3837" y="12728"/>
                </a:lnTo>
                <a:close/>
              </a:path>
              <a:path fill="darkenLess" w="21600" h="25455">
                <a:moveTo>
                  <a:pt x="13376" y="8376"/>
                </a:moveTo>
                <a:lnTo>
                  <a:pt x="13376" y="6635"/>
                </a:lnTo>
                <a:lnTo>
                  <a:pt x="15152" y="6635"/>
                </a:lnTo>
                <a:lnTo>
                  <a:pt x="15152" y="10151"/>
                </a:lnTo>
                <a:close/>
              </a:path>
              <a:path fill="darkenLess" w="21600" h="25455">
                <a:moveTo>
                  <a:pt x="9877" y="16227"/>
                </a:moveTo>
                <a:lnTo>
                  <a:pt x="11723" y="16227"/>
                </a:lnTo>
                <a:lnTo>
                  <a:pt x="11723" y="19917"/>
                </a:lnTo>
                <a:lnTo>
                  <a:pt x="16109" y="19917"/>
                </a:lnTo>
                <a:lnTo>
                  <a:pt x="16109" y="12728"/>
                </a:lnTo>
                <a:lnTo>
                  <a:pt x="5491" y="12728"/>
                </a:lnTo>
                <a:lnTo>
                  <a:pt x="5491" y="19917"/>
                </a:lnTo>
                <a:lnTo>
                  <a:pt x="9877" y="199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03280" y="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подростков характерна полярность психи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268280"/>
            <a:ext cx="77119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Целеустремленность, настойчив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быстро сменяется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мпульсив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Развяз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поведении порой сочетается с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застенчив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Романтические настро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редко граничат с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цинизмом, расчетливостью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Нежность, ласков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ывают на фоне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едетской жестокост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еустойчивость интере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тч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оль узнает, что его сын женится. Он возмущен, топает ногами, взмахивает руками, кричит на ближайшее окружение. Его лик ужасен, а гнев не имеет границ. Он кричит своим подданным: «Почему не доложили, что сын уже вырос?!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радоксы подростковой псих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росток хочет вырваться из-под опеки взрослых, получить свободу, при этом не зная, что с ней дела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есно все сразу и ниче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чется всего, сразу и если позже- «то вообще тогда зачем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всей своей самоуверенности подросток очень неуверен в себ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124000" y="333360"/>
            <a:ext cx="550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мена настро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1557360"/>
            <a:ext cx="73137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Потребность в общен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меняе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желанием уединить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Нежность, ласков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ывают на фоне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едетской жестоко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Веселье, рад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может  быстро сменить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пати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овышенная самоуверенность, безаппеляционность в сужден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ыстро сменяется 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ранимостью и неуверенностью в себ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Романтические настро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редко граничат с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цинизмом, расчетливост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еустойчивость интере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998640" cy="1224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596360" y="4508640"/>
            <a:ext cx="1245960" cy="129672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4" action="ppaction://hlinksldjump"/>
          </p:cNvPr>
          <p:cNvSpPr/>
          <p:nvPr/>
        </p:nvSpPr>
        <p:spPr>
          <a:xfrm>
            <a:off x="849636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837"/>
                </a:moveTo>
                <a:lnTo>
                  <a:pt x="13846" y="6448"/>
                </a:ln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lnTo>
                  <a:pt x="18233" y="10800"/>
                </a:lnTo>
                <a:lnTo>
                  <a:pt x="16579" y="10800"/>
                </a:lnTo>
                <a:lnTo>
                  <a:pt x="16579" y="17989"/>
                </a:lnTo>
                <a:lnTo>
                  <a:pt x="5960" y="17989"/>
                </a:lnTo>
                <a:lnTo>
                  <a:pt x="5960" y="10800"/>
                </a:lnTo>
                <a:lnTo>
                  <a:pt x="4307" y="10800"/>
                </a:lnTo>
                <a:close/>
              </a:path>
              <a:path fill="darkenLess" w="22539" h="21600">
                <a:moveTo>
                  <a:pt x="13846" y="6448"/>
                </a:move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close/>
              </a:path>
              <a:path fill="darkenLess" w="22539" h="21600">
                <a:moveTo>
                  <a:pt x="10347" y="14299"/>
                </a:moveTo>
                <a:lnTo>
                  <a:pt x="12192" y="14299"/>
                </a:lnTo>
                <a:lnTo>
                  <a:pt x="12192" y="17989"/>
                </a:lnTo>
                <a:lnTo>
                  <a:pt x="16579" y="17989"/>
                </a:lnTo>
                <a:lnTo>
                  <a:pt x="16579" y="10800"/>
                </a:lnTo>
                <a:lnTo>
                  <a:pt x="5960" y="10800"/>
                </a:lnTo>
                <a:lnTo>
                  <a:pt x="5960" y="17989"/>
                </a:lnTo>
                <a:lnTo>
                  <a:pt x="103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7740720" y="2421000"/>
            <a:ext cx="104148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92360" y="189000"/>
            <a:ext cx="720072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603ab"/>
              </a:gs>
              <a:gs pos="50000">
                <a:srgbClr val="0066ff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овы ощущ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дрост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4581360"/>
            <a:ext cx="4824720" cy="1800360"/>
          </a:xfrm>
          <a:prstGeom prst="roundRect">
            <a:avLst>
              <a:gd name="adj" fmla="val 16667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</a:rPr>
              <a:t>Внутрен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</a:rPr>
              <a:t>Конфли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 – уникальная лич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 – такой же как и в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3381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79280" y="2205000"/>
            <a:ext cx="2951280" cy="3568680"/>
            <a:chOff x="179280" y="2205000"/>
            <a:chExt cx="2951280" cy="3568680"/>
          </a:xfrm>
        </p:grpSpPr>
        <p:sp>
          <p:nvSpPr>
            <p:cNvPr id="142" name=""/>
            <p:cNvSpPr/>
            <p:nvPr/>
          </p:nvSpPr>
          <p:spPr>
            <a:xfrm>
              <a:off x="179280" y="2781360"/>
              <a:ext cx="2951280" cy="150948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Чувство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взросло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395280" y="4508640"/>
              <a:ext cx="126540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 flipH="1">
              <a:off x="1833480" y="2205000"/>
              <a:ext cx="217440" cy="43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067440" y="2276640"/>
            <a:ext cx="3075120" cy="2979720"/>
            <a:chOff x="6067440" y="2276640"/>
            <a:chExt cx="3075120" cy="2979720"/>
          </a:xfrm>
        </p:grpSpPr>
        <p:sp>
          <p:nvSpPr>
            <p:cNvPr id="146" name=""/>
            <p:cNvSpPr/>
            <p:nvPr/>
          </p:nvSpPr>
          <p:spPr>
            <a:xfrm>
              <a:off x="6067440" y="2779560"/>
              <a:ext cx="2951280" cy="150984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Половое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созрева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7724880" y="4076640"/>
              <a:ext cx="1417680" cy="11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859440" y="2276640"/>
              <a:ext cx="358920" cy="358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76720" y="1700280"/>
            <a:ext cx="2589120" cy="2735280"/>
            <a:chOff x="3276720" y="1700280"/>
            <a:chExt cx="2589120" cy="2735280"/>
          </a:xfrm>
        </p:grpSpPr>
        <p:sp>
          <p:nvSpPr>
            <p:cNvPr id="150" name=""/>
            <p:cNvSpPr/>
            <p:nvPr/>
          </p:nvSpPr>
          <p:spPr>
            <a:xfrm>
              <a:off x="3276720" y="2349360"/>
              <a:ext cx="2589120" cy="2086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99"/>
                </a:gs>
                <a:gs pos="100000">
                  <a:srgbClr val="66ff33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Быстрая</a:t>
              </a: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смена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настрое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43280" y="1700280"/>
              <a:ext cx="0" cy="57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35640" y="1916280"/>
              <a:ext cx="287280" cy="28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916360" y="333360"/>
            <a:ext cx="564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Чувство взросл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росток  объективно не может включиться во взрослую жизнь, но стремиться к ней и претендует на равные со взрослыми права. Изменить он пока ничего не может, но внешне подражает взрослы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сюда и появляются атрибуты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севдовзрослости"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урение сигарет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требление алкоголя, наркотиков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совки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нешнее проявление "я тоже имею свою личную жизнь"). Копирует любые взрослые отношения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5280" y="3933720"/>
            <a:ext cx="120348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4000" y="765000"/>
            <a:ext cx="75610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Внешний вид подростка - еще один источник конфликт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Меняется походка, манеры, внешний облик.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Ещё совсем недавно свободно, легко двигавшийся мальчик начинает ходить вразвалку, опустив руки глубоко в карманы и сплёвывая через плечо. У него появляются новые выражения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евочка начинает ревностно сравнивать свою одежду и причёску с образцами, которые она видит на улице и обложках журналов, выплёскивая на маму эмоции по поводу имеющихся расхождени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8424720" y="6165720"/>
            <a:ext cx="719280" cy="692280"/>
          </a:xfrm>
          <a:custGeom>
            <a:avLst/>
            <a:gdLst>
              <a:gd name="textAreaLeft" fmla="*/ 44640 w 719280"/>
              <a:gd name="textAreaRight" fmla="*/ 674640 w 719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42" h="21600">
                <a:moveTo>
                  <a:pt x="0" y="0"/>
                </a:moveTo>
                <a:lnTo>
                  <a:pt x="22442" y="0"/>
                </a:lnTo>
                <a:lnTo>
                  <a:pt x="22442" y="21600"/>
                </a:lnTo>
                <a:lnTo>
                  <a:pt x="0" y="21600"/>
                </a:lnTo>
                <a:close/>
              </a:path>
              <a:path fill="lightenLess" w="22442" h="21600">
                <a:moveTo>
                  <a:pt x="0" y="0"/>
                </a:moveTo>
                <a:lnTo>
                  <a:pt x="22442" y="0"/>
                </a:lnTo>
                <a:lnTo>
                  <a:pt x="21042" y="1400"/>
                </a:lnTo>
                <a:lnTo>
                  <a:pt x="1400" y="1400"/>
                </a:lnTo>
                <a:close/>
              </a:path>
              <a:path fill="darken" w="22442" h="21600">
                <a:moveTo>
                  <a:pt x="22442" y="0"/>
                </a:moveTo>
                <a:lnTo>
                  <a:pt x="22442" y="21600"/>
                </a:lnTo>
                <a:lnTo>
                  <a:pt x="21042" y="20200"/>
                </a:lnTo>
                <a:lnTo>
                  <a:pt x="21042" y="1400"/>
                </a:lnTo>
                <a:close/>
              </a:path>
              <a:path fill="darkenLess" w="22442" h="21600">
                <a:moveTo>
                  <a:pt x="22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42" y="20200"/>
                </a:lnTo>
                <a:close/>
              </a:path>
              <a:path fill="lighten" w="22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42" h="21600">
                <a:moveTo>
                  <a:pt x="11221" y="3837"/>
                </a:moveTo>
                <a:lnTo>
                  <a:pt x="13797" y="6448"/>
                </a:lnTo>
                <a:lnTo>
                  <a:pt x="13797" y="4707"/>
                </a:lnTo>
                <a:lnTo>
                  <a:pt x="15573" y="4707"/>
                </a:lnTo>
                <a:lnTo>
                  <a:pt x="15573" y="8224"/>
                </a:lnTo>
                <a:lnTo>
                  <a:pt x="18184" y="10800"/>
                </a:lnTo>
                <a:lnTo>
                  <a:pt x="16530" y="10800"/>
                </a:lnTo>
                <a:lnTo>
                  <a:pt x="16530" y="17989"/>
                </a:lnTo>
                <a:lnTo>
                  <a:pt x="5912" y="17989"/>
                </a:lnTo>
                <a:lnTo>
                  <a:pt x="5912" y="10800"/>
                </a:lnTo>
                <a:lnTo>
                  <a:pt x="4258" y="10800"/>
                </a:lnTo>
                <a:close/>
              </a:path>
              <a:path fill="darkenLess" w="22442" h="21600">
                <a:moveTo>
                  <a:pt x="13797" y="6448"/>
                </a:moveTo>
                <a:lnTo>
                  <a:pt x="13797" y="4707"/>
                </a:lnTo>
                <a:lnTo>
                  <a:pt x="15573" y="4707"/>
                </a:lnTo>
                <a:lnTo>
                  <a:pt x="15573" y="8224"/>
                </a:lnTo>
                <a:close/>
              </a:path>
              <a:path fill="darkenLess" w="22442" h="21600">
                <a:moveTo>
                  <a:pt x="10298" y="14299"/>
                </a:moveTo>
                <a:lnTo>
                  <a:pt x="12144" y="14299"/>
                </a:lnTo>
                <a:lnTo>
                  <a:pt x="12144" y="17989"/>
                </a:lnTo>
                <a:lnTo>
                  <a:pt x="16530" y="17989"/>
                </a:lnTo>
                <a:lnTo>
                  <a:pt x="16530" y="10800"/>
                </a:lnTo>
                <a:lnTo>
                  <a:pt x="5912" y="10800"/>
                </a:lnTo>
                <a:lnTo>
                  <a:pt x="5912" y="17989"/>
                </a:lnTo>
                <a:lnTo>
                  <a:pt x="102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380360" y="2421000"/>
            <a:ext cx="151272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7399440" y="5021280"/>
            <a:ext cx="1743120" cy="1835280"/>
            <a:chOff x="7399440" y="5021280"/>
            <a:chExt cx="1743120" cy="183528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7399440" y="5021280"/>
              <a:ext cx="17431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399440" y="5021280"/>
              <a:ext cx="1743120" cy="18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11280" y="549360"/>
            <a:ext cx="820728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ебенок вынужден постоянно приспосабливаться к физическим и физиологическим изменениям, происходящим в его организме,</a:t>
            </a: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ереживать</a:t>
            </a: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990033"/>
                </a:solidFill>
                <a:latin typeface="Comic Sans MS"/>
              </a:rPr>
              <a:t>«гормональную</a:t>
            </a:r>
            <a:r>
              <a:rPr b="0" lang="ru-RU" sz="36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990033"/>
                </a:solidFill>
                <a:latin typeface="Comic Sans MS"/>
              </a:rPr>
              <a:t>бурю».</a:t>
            </a: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дростки как будто все</a:t>
            </a: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ремя находятся в</a:t>
            </a: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990033"/>
                </a:solidFill>
                <a:latin typeface="Comic Sans MS"/>
              </a:rPr>
              <a:t>состоянии стресс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3" name="camera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fill="hold">
                      <p:stCondLst>
                        <p:cond delay="0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нутренний конфлик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1628640"/>
            <a:ext cx="4319280" cy="2592360"/>
          </a:xfrm>
          <a:prstGeom prst="wedgeEllipseCallout">
            <a:avLst>
              <a:gd name="adj1" fmla="val -48273"/>
              <a:gd name="adj2" fmla="val 82763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 должен выглядеть как все в моей компании. Я не должен выделяться в класс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628640"/>
            <a:ext cx="4427640" cy="2376720"/>
          </a:xfrm>
          <a:prstGeom prst="wedgeEllipseCallout">
            <a:avLst>
              <a:gd name="adj1" fmla="val 34078"/>
              <a:gd name="adj2" fmla="val 101037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 – это я. Я сам всё знаю! Я буду делать всё  так, как считаю нужным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564000" y="4508640"/>
            <a:ext cx="1514520" cy="194472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3" action="ppaction://hlinksldjump"/>
          </p:cNvPr>
          <p:cNvSpPr/>
          <p:nvPr/>
        </p:nvSpPr>
        <p:spPr>
          <a:xfrm>
            <a:off x="8424720" y="6165720"/>
            <a:ext cx="719280" cy="692280"/>
          </a:xfrm>
          <a:custGeom>
            <a:avLst/>
            <a:gdLst>
              <a:gd name="textAreaLeft" fmla="*/ 44640 w 719280"/>
              <a:gd name="textAreaRight" fmla="*/ 674640 w 719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42" h="21600">
                <a:moveTo>
                  <a:pt x="0" y="0"/>
                </a:moveTo>
                <a:lnTo>
                  <a:pt x="22442" y="0"/>
                </a:lnTo>
                <a:lnTo>
                  <a:pt x="22442" y="21600"/>
                </a:lnTo>
                <a:lnTo>
                  <a:pt x="0" y="21600"/>
                </a:lnTo>
                <a:close/>
              </a:path>
              <a:path fill="lightenLess" w="22442" h="21600">
                <a:moveTo>
                  <a:pt x="0" y="0"/>
                </a:moveTo>
                <a:lnTo>
                  <a:pt x="22442" y="0"/>
                </a:lnTo>
                <a:lnTo>
                  <a:pt x="21042" y="1400"/>
                </a:lnTo>
                <a:lnTo>
                  <a:pt x="1400" y="1400"/>
                </a:lnTo>
                <a:close/>
              </a:path>
              <a:path fill="darken" w="22442" h="21600">
                <a:moveTo>
                  <a:pt x="22442" y="0"/>
                </a:moveTo>
                <a:lnTo>
                  <a:pt x="22442" y="21600"/>
                </a:lnTo>
                <a:lnTo>
                  <a:pt x="21042" y="20200"/>
                </a:lnTo>
                <a:lnTo>
                  <a:pt x="21042" y="1400"/>
                </a:lnTo>
                <a:close/>
              </a:path>
              <a:path fill="darkenLess" w="22442" h="21600">
                <a:moveTo>
                  <a:pt x="22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42" y="20200"/>
                </a:lnTo>
                <a:close/>
              </a:path>
              <a:path fill="lighten" w="22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42" h="21600">
                <a:moveTo>
                  <a:pt x="11221" y="3837"/>
                </a:moveTo>
                <a:lnTo>
                  <a:pt x="13797" y="6448"/>
                </a:lnTo>
                <a:lnTo>
                  <a:pt x="13797" y="4707"/>
                </a:lnTo>
                <a:lnTo>
                  <a:pt x="15573" y="4707"/>
                </a:lnTo>
                <a:lnTo>
                  <a:pt x="15573" y="8224"/>
                </a:lnTo>
                <a:lnTo>
                  <a:pt x="18184" y="10800"/>
                </a:lnTo>
                <a:lnTo>
                  <a:pt x="16530" y="10800"/>
                </a:lnTo>
                <a:lnTo>
                  <a:pt x="16530" y="17989"/>
                </a:lnTo>
                <a:lnTo>
                  <a:pt x="5912" y="17989"/>
                </a:lnTo>
                <a:lnTo>
                  <a:pt x="5912" y="10800"/>
                </a:lnTo>
                <a:lnTo>
                  <a:pt x="4258" y="10800"/>
                </a:lnTo>
                <a:close/>
              </a:path>
              <a:path fill="darkenLess" w="22442" h="21600">
                <a:moveTo>
                  <a:pt x="13797" y="6448"/>
                </a:moveTo>
                <a:lnTo>
                  <a:pt x="13797" y="4707"/>
                </a:lnTo>
                <a:lnTo>
                  <a:pt x="15573" y="4707"/>
                </a:lnTo>
                <a:lnTo>
                  <a:pt x="15573" y="8224"/>
                </a:lnTo>
                <a:close/>
              </a:path>
              <a:path fill="darkenLess" w="22442" h="21600">
                <a:moveTo>
                  <a:pt x="10298" y="14299"/>
                </a:moveTo>
                <a:lnTo>
                  <a:pt x="12144" y="14299"/>
                </a:lnTo>
                <a:lnTo>
                  <a:pt x="12144" y="17989"/>
                </a:lnTo>
                <a:lnTo>
                  <a:pt x="16530" y="17989"/>
                </a:lnTo>
                <a:lnTo>
                  <a:pt x="16530" y="10800"/>
                </a:lnTo>
                <a:lnTo>
                  <a:pt x="5912" y="10800"/>
                </a:lnTo>
                <a:lnTo>
                  <a:pt x="5912" y="17989"/>
                </a:lnTo>
                <a:lnTo>
                  <a:pt x="102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рьба подростка:</a:t>
            </a: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 то, чтобы перестать быть ребенк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 утверждение среди сверстни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 прекращение посягательства на его физическое начало, неприкосновен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ив замечаний, обсуждений по поводу его физической взросл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авным для подростка со стороны семьи являе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вер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227160"/>
            <a:ext cx="88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Century Gothic"/>
                <a:ea typeface="Arial"/>
              </a:rPr>
              <a:t>Развитие психических функ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подростковом возрасте продолжает развиваться </a:t>
            </a:r>
            <a:r>
              <a:rPr b="1" i="1" lang="ru-RU" sz="2400" spc="-1" strike="noStrike">
                <a:solidFill>
                  <a:srgbClr val="cc6600"/>
                </a:solidFill>
                <a:latin typeface="Comic Sans MS"/>
              </a:rPr>
              <a:t>теоретическое рефлексивное мышление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ерации становятся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формально-логическ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подросток, абстрагируясь от конкретного, наглядного материала, рассуждает в чисто словесном план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ссуждает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гипотетико – дедуктив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на основе общих посылок подросток строит гипотезы и проверяет и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?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56000" y="23493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37893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ст "Хорошо ли я знаю своего ребенк"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лько новых учебных предметов у вашего ребенка добавились в этом учебном год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27792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Century Gothic"/>
              </a:rPr>
              <a:t>Подрос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3520" y="1052640"/>
            <a:ext cx="85564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ссуждает об идеалах, о будущ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ногда создает собствен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обретает новый, более глубокий и обобщенный взгляд на ми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Comic Sans MS"/>
              </a:rPr>
              <a:t>С интеллектуальным развитием тесно связано начинающееся в этот период</a:t>
            </a:r>
            <a:r>
              <a:rPr b="1" i="1" lang="ru-RU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cc6600"/>
                </a:solidFill>
                <a:latin typeface="Comic Sans MS"/>
              </a:rPr>
              <a:t>становлении</a:t>
            </a:r>
            <a:r>
              <a:rPr b="1" i="1" lang="ru-RU" sz="2800" spc="-1" strike="noStrike">
                <a:solidFill>
                  <a:srgbClr val="0033cc"/>
                </a:solidFill>
                <a:latin typeface="Comic Sans MS"/>
              </a:rPr>
              <a:t>    основ мировоззр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обретает взрослую логику мыш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интеллектуализация </a:t>
            </a:r>
            <a:r>
              <a:rPr b="1" i="1" lang="ru-RU" sz="2400" spc="-1" strike="noStrike">
                <a:solidFill>
                  <a:srgbClr val="cc6600"/>
                </a:solidFill>
                <a:latin typeface="Comic Sans MS"/>
              </a:rPr>
              <a:t>восприятия и памя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развитие различных видов </a:t>
            </a:r>
            <a:r>
              <a:rPr b="1" i="1" lang="ru-RU" sz="2400" spc="-1" strike="noStrike">
                <a:solidFill>
                  <a:srgbClr val="cc6600"/>
                </a:solidFill>
                <a:latin typeface="Comic Sans MS"/>
              </a:rPr>
              <a:t>ре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развитие </a:t>
            </a:r>
            <a:r>
              <a:rPr b="1" i="1" lang="ru-RU" sz="2400" spc="-1" strike="noStrike">
                <a:solidFill>
                  <a:srgbClr val="cc6600"/>
                </a:solidFill>
                <a:latin typeface="Comic Sans MS"/>
              </a:rPr>
              <a:t>вооб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40360" y="4005360"/>
            <a:ext cx="504720" cy="288720"/>
          </a:xfrm>
          <a:custGeom>
            <a:avLst/>
            <a:gdLst>
              <a:gd name="textAreaLeft" fmla="*/ 88200 w 504720"/>
              <a:gd name="textAreaRight" fmla="*/ 366120 w 50472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40360" y="4724280"/>
            <a:ext cx="504720" cy="287280"/>
          </a:xfrm>
          <a:custGeom>
            <a:avLst/>
            <a:gdLst>
              <a:gd name="textAreaLeft" fmla="*/ 88200 w 504720"/>
              <a:gd name="textAreaRight" fmla="*/ 366120 w 504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5445000"/>
            <a:ext cx="504720" cy="287640"/>
          </a:xfrm>
          <a:custGeom>
            <a:avLst/>
            <a:gdLst>
              <a:gd name="textAreaLeft" fmla="*/ 88200 w 504720"/>
              <a:gd name="textAreaRight" fmla="*/ 366120 w 5047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3929040" y="2300400"/>
            <a:ext cx="1284480" cy="1806480"/>
            <a:chOff x="3929040" y="2300400"/>
            <a:chExt cx="1284480" cy="180648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3929040" y="2300400"/>
              <a:ext cx="128448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9040" y="2300400"/>
              <a:ext cx="1284480" cy="18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227160"/>
            <a:ext cx="89647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008000"/>
                </a:solidFill>
                <a:uFillTx/>
                <a:latin typeface="Century Gothic"/>
              </a:rPr>
              <a:t>Подражание взрослы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27160" y="1531800"/>
            <a:ext cx="801684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нешний об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ане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азвлечения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(поездки за город, дискоте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омантические отношения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(свидания, записки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3" name="camera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обенности эмоций в младшем подростковом возраст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езкие перепады настроения и эмоц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Эмоции меняются от безудержного веселья до выраженного уныния. Противоположные эмоции сменяют друг друга безо всякой видимой прич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осредоточенность на собственном «я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этот период подростки полностью поглощены рассуждениями о себе, о том, что о них думают окружающие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ни преданны без остатка друзьям, т.к. им небезразлично то, как их оценят сверстник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тличаются повышенной ранимостью и чувствительностью ко всему, что к ним относится, хотя в тоже время весьма категоричны, иногда даже бесцеремонны и грубы по отношению к окружающи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клонность к снижению настроения и депрессия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ышенная самоуверенность и недооценка собственных сил часто ведет к тому, что подросток терпит фиаско или выполняет взятое на себя обязательство хуже, чем он себе представля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ритика к окружающим и к себе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Любое критическое замечание, насмешки в адрес неловкого поведения, сорвавшегося в неподходящий момент голоса или внешнего вида, накладываясь на заниженную самооценку и подростковую ранимость, могут вызвать бурную эмоциональную реакцию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Эмоциональная реакция может проявиться в виде дерзости, грубости, громких высказываний со слезами, либо в виде чувства обиды, тоски и уныния с последующей замкнутостью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Формирование эмоциональной зрел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в отношениях с родител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оценка подростка находится в прямой зависимости от того, насколько родители готовы к самостоятельности ребенка и способности принимать им решения, и насколько родители готовы поддерживать инициативность своего ребен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286680" y="2643120"/>
            <a:ext cx="2543040" cy="38102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1280" y="692280"/>
            <a:ext cx="56275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Эмансипац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специфически подростковая реакция. Она проявляется стремлением высвободиться из–под опеки, контроля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обенности эмоций в старшем подростковом возра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ьшается эмоциональная напряжен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является потребность выделиться среди сверстников - внешностью, манерами поведения, своими знаниями, умениями, хобб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рьезный интерес к собственной личности во всех ее проявлениях, появляются рассуждения на темы смысла жизни и устройства своего будущ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иливается сосредоточенность на своем внутреннем мире, растет потребность в общении и одновременно повышается его избирательность и потребность в уедин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нтенсивность эмоций  и повышенная чувствительность к события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1600200"/>
            <a:ext cx="822960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вышенная чувствительность к происходящим событиям, яркие, пылкие эмоции, склонность обобщать переживаемые события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дростку старшего возраста свойственно часто ощущать 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чувство одиночества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только потому, что в какой-то момент он был обойден вниманием, или у него появилось ощущение, что его отвергли или не поддержал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Глубокие переживания формируют эмоциональность, с которой он пойдет по жизни в дальнейшем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90400" y="90000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ете ли вы всех преподавателей, работающих в классе,где учится ваш ребено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знаю все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знаю половин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знаю лишь некотор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ружба и любов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жба приобретает глубокий смыс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возрасте подросткам характерно идеализировать своих друзей, «придумывая и приписывая» им качества, которые бы они хотели в своих друзьях виде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900000"/>
            <a:ext cx="822960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юбовь отличается яркими эмоциями, появлением символов взрослости – в отношениях появляются ухаживания, обмен знаками внимания,  романтические отношен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Юношеская влюбленность  характеризуется больше трепетным, бережным отношением, собственные фантазии по отношению к объекту влюбленности не всегда реализуютс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9640" y="981000"/>
            <a:ext cx="791856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Georgia"/>
              </a:rPr>
              <a:t>Конфликты между родителями и детьми в семь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4105080" cy="29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24000" y="235080"/>
            <a:ext cx="8362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Georgia"/>
              </a:rPr>
              <a:t>Психологические причи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981000"/>
            <a:ext cx="547200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1125360"/>
            <a:ext cx="49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. Тип внутрисемейных отнош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2421000"/>
            <a:ext cx="1152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7640" y="2421000"/>
            <a:ext cx="1152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2997360"/>
            <a:ext cx="3816360" cy="115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88000" y="3068640"/>
            <a:ext cx="4248000" cy="1081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306864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армоничный ти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76720" y="306864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исгармоничный ти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3160800" cy="2401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435640" y="4221000"/>
            <a:ext cx="3128760" cy="24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130320"/>
            <a:ext cx="903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Georgia"/>
              </a:rPr>
              <a:t>2. Деструктивность семейного вос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1341360"/>
            <a:ext cx="8785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разногласия членов семьи по вопросам воспитания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763640" y="2421000"/>
            <a:ext cx="576108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50920" y="260280"/>
            <a:ext cx="84978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пека и запреты во многих сферах жизни детей («Я жизнь прожил, мне лучше знать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547640" y="1773360"/>
            <a:ext cx="6048720" cy="49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вышенные требования к детям, частое применение угроз, осу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9780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6676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Georgia"/>
              </a:rPr>
              <a:t>3. Возрастные кризисы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907920"/>
            <a:ext cx="82296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кризис 1 год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(переход от младенчества к раннему детству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кризис 3 лет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(переход от раннего детства к дошкольному возрасту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кризис 7 лет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(переход от дошкольного к младшему школьному возрасту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кризис 12-14 лет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(переход от младшего школьного к подростковому возрасту, начало полового созревания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подростковый кризис 15-17 лет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9280" y="166680"/>
            <a:ext cx="871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Georgia"/>
              </a:rPr>
              <a:t>4. Личностные особенности родите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1268280"/>
            <a:ext cx="42498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сервативный способ мышл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вторитарнос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верженность вредным привычка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верженность устаревшим правилам по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4284720" y="1341360"/>
            <a:ext cx="469908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68360" y="166680"/>
            <a:ext cx="821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Georgia"/>
              </a:rPr>
              <a:t>Реакция (стратегия) ребенка на конфли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268280"/>
            <a:ext cx="590544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Georgia"/>
              </a:rPr>
              <a:t>реакция оппозиц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(демонстративные действия негативного характер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Georgia"/>
              </a:rPr>
              <a:t>реакция отказ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(неподчинение требованиям родителей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Georgia"/>
              </a:rPr>
              <a:t>реакция изоляц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(стремление избежать нежелательных контактов с родителями, сокрытие информации и действи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6012000" y="1341360"/>
            <a:ext cx="29844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лько раз вы просматриваете тетради (учебники) ребенка ради интерес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постоян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1-2 раза в четвер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ни раз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63640" y="260280"/>
            <a:ext cx="5832720" cy="15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0920" y="260280"/>
            <a:ext cx="51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Неконструктивное разрешение конфли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3429000"/>
            <a:ext cx="367344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3357720"/>
            <a:ext cx="374508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3573360"/>
            <a:ext cx="33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«Выигрывает только родител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03640" y="3500280"/>
            <a:ext cx="33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«Выигрывает только ребенок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8000" y="2060640"/>
            <a:ext cx="648000" cy="1152360"/>
          </a:xfrm>
          <a:prstGeom prst="downArrow">
            <a:avLst>
              <a:gd name="adj1" fmla="val 50000"/>
              <a:gd name="adj2" fmla="val 444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84720" y="2060640"/>
            <a:ext cx="648000" cy="108108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26676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Georgia"/>
              </a:rPr>
              <a:t>«Выигрывает только родител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907920"/>
            <a:ext cx="87138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еобходимо «победить» ребенка, сломать его сопротивление, чтоб потом «не сел на шею», не стал делать то, что хоч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484360" y="2565360"/>
            <a:ext cx="3998880" cy="39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79280" y="271440"/>
            <a:ext cx="878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Georgia"/>
              </a:rPr>
              <a:t>«Выигрывает только ребенок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981000"/>
            <a:ext cx="86421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«Мир любой ценой», жертва собой ради блага ребен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669600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Georgia"/>
              </a:rPr>
              <a:t>Конструктивный способ – «выигрывают обе стороны»: и родители, и ребен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611964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57200" y="27144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Georgia"/>
              </a:rPr>
              <a:t>Алгоритм действ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981000"/>
            <a:ext cx="82296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прояснение конфликтной ситу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сбор предложений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оценка предложений и выбор наиболее приемлемого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детализация решени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выполнение решения, провер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-6480" y="109440"/>
            <a:ext cx="5656320" cy="2754360"/>
            <a:chOff x="-6480" y="109440"/>
            <a:chExt cx="5656320" cy="275436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-6480" y="109440"/>
              <a:ext cx="565632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-6480" y="109440"/>
              <a:ext cx="5656320" cy="27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43200" y="3786120"/>
            <a:ext cx="550080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бежать конфликта и наладить отношения с ребенк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imes New Roman"/>
              </a:rPr>
              <a:t>«Наказания и поощрени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429160" y="357120"/>
            <a:ext cx="3071880" cy="3448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rcRect l="6311" t="11499" r="11167" b="19868"/>
          <a:stretch/>
        </p:blipFill>
        <p:spPr>
          <a:xfrm>
            <a:off x="714240" y="3429000"/>
            <a:ext cx="242892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11120" y="60480"/>
            <a:ext cx="82296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блема 1. «Мой ребенок меня не слышит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ило 1. Обращаясь к ребенку, говорите меньше, а не больш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арайтесь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ворить кратко и точно, избегайте длительных монолог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возрас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бенок становится восприимчивее, если знает, что не придется выслушивать целую лекц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авило 2. Говорите доброжелательно, вежливо – как бы вы хотели, чтобы говорили с вами, - и... тихо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ниженный, приглушенный голос обычно застает человека врасплох, и ребенок обязательно остановится, чтобы послушать вас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авило 3. Будьте внимательным слушателем, не отвлекайтесь на посторонние дела, когда ребенок вам что-то рассказывает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Слушайте его в два раза больше, чем говорит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о 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Если вы очень сильно раздражены, разговор начинать не стоит. Ваше раздражение, агрессия моментально передадутся вашему ребенку, и он вас уже не услышит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о 5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Прежде чем что-то сказать,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овите зрительный контакт с ребенк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начала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бедитесь, что он смотрит на в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не в сторо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о 6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 Подросткам бывает сложно с ходу переключить свое внимание на ваш вопрос.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лайте предупрежд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– установите временное ограничение. При этом установленный временной интервал не должен превышать пяти минут, иначе подросток просто забуд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блема 2. «Грубость, неуважение к старшим. Мой ребенок все время раздражен»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сихологическая причина подобного поведения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появление необходимости почувствовать себя взрослыми. Желание чувствовать себя взрослым есть, а истинной взрослости еще нет.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ебенок-подросток еще не может пользоваться теми привилегиями, которые дает человеку статус взрослого, но уже потерял те преимущества, которые у него были в детств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640" y="41400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ы обнаружили, что ребенок испытывает трудности по одному или нескольким предметам, и не способны ему помочь, что вы будете дела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Обращусь за помощью к учителя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пойду к завуч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заставлю ребенка более серьёзно учить предм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63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авило 1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Если ваш ребенок грубит,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разу же укажите ему на это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чтобы он всегда знал, что перешагнул черту.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правляйте свои замечания на поведение, а не на саму личность ребен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пример: «Когда я говорю с тобой, ты закатываешь глаза. Это проявление неуважения. Не надо так больше делать», «Говорить мне «отстань», когда я с тобой разговариваю, недопустимо. Постарайся сделать так, чтобы я больше это не повторяла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907920"/>
            <a:ext cx="8229600" cy="57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авило 2. Научитесь говорить с ребенком на равны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не сюсюкайте и не подавляйте – дайте ему почувствовать свою значимость, чтобы он не искал другие способы для получения этого ощущен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чаще советуйтесь с ним в разных семейных вопросах – не исключено, что он предложит какое-нибудь свежее решение, да и грубить в такой ситуации нет никакой надобности, более того, грубость здесь будет выглядеть по-детск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404640"/>
            <a:ext cx="82296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авило 3. Разъясняйте ребенку, как правильно, а как нет, что можно, а что нельз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 Не думайте, что ребенок сам знает, как надо правильно себя вест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авило 4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Старайтесь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е вступайте в пререкания.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ети-подростки перестают грубить, дерзить, когда видят, что это неэффективно для привлечения внимания взрослы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авило 5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елайте ему замечание только с глазу на глаз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а не в присутствии других взрослых или подростков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57200" y="792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блема 3 . «Мой ребенок все время врет»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чина: в общении со взрослы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это проявляется потому, что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является все больше секретов от родител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следовательно, и причин обмануть.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общении со сверстник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– чтобы приукрасить свои качества, возможности и способ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57200" y="333360"/>
            <a:ext cx="822960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равило 1. Предполагайте честность и требуйте правдивости.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стоянно объясняйте свое отношение к честности: «Все в нашей семье должны быть честными друг с другом». Но перед этим проанализируйте, какой пример честности подаете вы сами. Используете ли вы сами «невинную» ложь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равило 2. Попробуйте выявить возможные причины обмана.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ак правило, подросток начинает врать в первую очередь для того, чтобы привлечь к себе внимание родителей, взрослых, друзей. На втором месте зависть, отчаяние, обида или злость. А на третьем – страх перед наказанием или боязнь подвести родителей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404640"/>
            <a:ext cx="8229600" cy="68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ило 3. Несмотря на 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что ваш ребенок уже не малыш, продолжайте объяснять ему, почему обманывать плохо: вранье может привести к неприятностям, часто к очень большим; репутация тоже страдает,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уппа сверстников перестает тебе довер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,обман обижает, особенно самых близких людей и т. д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вайте вопрос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ые помогут ребенку самому понять, к чему может привести подобное поведение, и дожидайтесь на них ответа. Например: «Если ты не будешь держать слово, как я могу верить тебе?» и т. 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549360"/>
            <a:ext cx="8229600" cy="67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ило 5. Введите «штраф» за лож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Причем выберите такой метод, чтобы ваш ребенок в результате его использования расхотел обманывать. Например, пусть каждый раз, обманув,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шет извин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«пострадавшему» – матери, отцу и п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ило 4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Старайтес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гировать на преувеличение или искажение правды не слишком остр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Если ваш ребенок поступил именно так, постарайтесь сохранить спокойствие – от вашего крика и причитаний ему захочется только сбежать куда подальше, но никак не стать честны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792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блема 4. «Постоянное стремление к власти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сихологическая причина: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вызвано повышенной потребностью в одобрении, низкой самооценко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и просто – отсутствием коммуникативных навыков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«Раз у меня получается добиться своего, значит это хорошо, значит друзья меня уважают», – рассуждает подросток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авило 1. 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щательно разберитесь в поведении подростка. В чем бы ни была причина его властного поведения, главное – чтобы он отдавал себе в этом отчет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692280"/>
            <a:ext cx="8229600" cy="58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ило 2.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овите момент, когда ребенок ведет себя правильно, и похвалите его– поощрение всегда стимулирует к тому, чтобы почаще так себя ве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ило 3.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андирам надо дать понять, что их поведение – неуважительное, а зачастую и причиняет боль. Поэтому предложите ребенку «сменить роль»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Представь, что ты – это..., которой подруга постоянно диктует, что делать, что не делать, что можно, а что нельзя. О чем, по-твоему, она сейчас думает? что чувствует?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476280"/>
            <a:ext cx="822960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авило 4. 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бъясните, что нужно соблюдать очередность. Это хорошо – всегда быть первым, но не надо при этом жестко подавлять и ущемлять окружающих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авило 5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Объясняйте своему ребенку, что «командовать» также означает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брать на себя ответственность за свои команды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 «Вожак» должен понимать и даже чувствовать, какие действия группы наилучшим образом подходят для ее членов. Он должен заботиться о группе в целом и о каждом человеке в частност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ете ли вы интересы (увлечения) своего ребен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да, зна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част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догадываюсь, но не точ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619280" y="274680"/>
            <a:ext cx="7067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Советы психол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1197000"/>
            <a:ext cx="82296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Общение с подростком должно  носить успокаивающий характе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040" y="2143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  Уметь выслушивать подрост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0040" y="27604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Разговаривайте, объясняйте, но не ставьте условий, не требуйте сразу идеального поведения. Комплексно вводите изменения в режим дня, в общество подростка, в досу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8760" y="4147920"/>
            <a:ext cx="76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оговоритесь с учителями, чтобы ваш ребенок мог показать свои знания именно в определенный момент перед всем класс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680" y="542916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Улучшайте его самооценку. Говорите, что у него многое получи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19280" y="274680"/>
            <a:ext cx="7067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Советы психол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1197000"/>
            <a:ext cx="825804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Знать состояние здоровья ребенка, замечать признаки утомляем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На проступок надо реагировать мерой наказания, но наказание должно завершать конфликт, а не создавать ег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Во взаимодействии необходимо избегать чрезмерного физического и психологического давления на подрост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Обязательно говорите с ребенком серьезно. Выясните, что беспокоит его в связи с посещением школ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. Замечайте даже незначительные изменения в поведении, так как сначала асоциальное поведение проявляется эпизодически, ситуативн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19280" y="274680"/>
            <a:ext cx="7067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Советы психол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1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лагодарите учителей за преподавание, хорошее отношение к детям, это настроит человека доброжелательно к вашему ребенк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1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икогда не обсуждайте с ребенком недостатков учителя. Лучше объясните, как тяжело ему работать, указав этим на то, что учитель такой же человек, как и все остальные, и может устать и быть раздраженны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1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йдите стимул (только не деньги), чтобы ребенок старался успешно занимать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319800" y="-357120"/>
            <a:ext cx="2824200" cy="27860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28760" y="1214280"/>
            <a:ext cx="7924680" cy="350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1376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доровья и удачи Вам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и вашим детям!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928800" y="4214880"/>
            <a:ext cx="2112480" cy="2081880"/>
            <a:chOff x="928800" y="4214880"/>
            <a:chExt cx="2112480" cy="2081880"/>
          </a:xfrm>
        </p:grpSpPr>
        <p:sp>
          <p:nvSpPr>
            <p:cNvPr id="288" name=""/>
            <p:cNvSpPr/>
            <p:nvPr/>
          </p:nvSpPr>
          <p:spPr>
            <a:xfrm flipH="1">
              <a:off x="1820160" y="5388480"/>
              <a:ext cx="609480" cy="24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928800" y="5083560"/>
              <a:ext cx="1141200" cy="515520"/>
              <a:chOff x="928800" y="5083560"/>
              <a:chExt cx="1141200" cy="515520"/>
            </a:xfrm>
          </p:grpSpPr>
          <p:sp>
            <p:nvSpPr>
              <p:cNvPr id="290" name=""/>
              <p:cNvSpPr/>
              <p:nvPr/>
            </p:nvSpPr>
            <p:spPr>
              <a:xfrm flipH="1">
                <a:off x="928800" y="5083560"/>
                <a:ext cx="1141200" cy="515520"/>
              </a:xfrm>
              <a:custGeom>
                <a:avLst/>
                <a:gdLst>
                  <a:gd name="textAreaLeft" fmla="*/ 360 w 1141200"/>
                  <a:gd name="textAreaRight" fmla="*/ 1141920 w 11412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1441" h="652">
                    <a:moveTo>
                      <a:pt x="0" y="652"/>
                    </a:moveTo>
                    <a:lnTo>
                      <a:pt x="46" y="561"/>
                    </a:lnTo>
                    <a:lnTo>
                      <a:pt x="86" y="530"/>
                    </a:lnTo>
                    <a:lnTo>
                      <a:pt x="163" y="434"/>
                    </a:lnTo>
                    <a:lnTo>
                      <a:pt x="739" y="72"/>
                    </a:lnTo>
                    <a:lnTo>
                      <a:pt x="811" y="67"/>
                    </a:lnTo>
                    <a:lnTo>
                      <a:pt x="861" y="40"/>
                    </a:lnTo>
                    <a:lnTo>
                      <a:pt x="879" y="18"/>
                    </a:lnTo>
                    <a:lnTo>
                      <a:pt x="893" y="13"/>
                    </a:lnTo>
                    <a:lnTo>
                      <a:pt x="920" y="27"/>
                    </a:lnTo>
                    <a:lnTo>
                      <a:pt x="974" y="27"/>
                    </a:lnTo>
                    <a:lnTo>
                      <a:pt x="1001" y="18"/>
                    </a:lnTo>
                    <a:lnTo>
                      <a:pt x="1051" y="13"/>
                    </a:lnTo>
                    <a:lnTo>
                      <a:pt x="1092" y="0"/>
                    </a:lnTo>
                    <a:lnTo>
                      <a:pt x="1160" y="45"/>
                    </a:lnTo>
                    <a:lnTo>
                      <a:pt x="1205" y="63"/>
                    </a:lnTo>
                    <a:lnTo>
                      <a:pt x="1228" y="86"/>
                    </a:lnTo>
                    <a:lnTo>
                      <a:pt x="1251" y="126"/>
                    </a:lnTo>
                    <a:lnTo>
                      <a:pt x="1287" y="190"/>
                    </a:lnTo>
                    <a:lnTo>
                      <a:pt x="1350" y="276"/>
                    </a:lnTo>
                    <a:lnTo>
                      <a:pt x="1377" y="294"/>
                    </a:lnTo>
                    <a:lnTo>
                      <a:pt x="1414" y="312"/>
                    </a:lnTo>
                    <a:lnTo>
                      <a:pt x="1441" y="367"/>
                    </a:lnTo>
                    <a:lnTo>
                      <a:pt x="1418" y="357"/>
                    </a:lnTo>
                    <a:lnTo>
                      <a:pt x="1387" y="348"/>
                    </a:lnTo>
                    <a:lnTo>
                      <a:pt x="1355" y="367"/>
                    </a:lnTo>
                    <a:lnTo>
                      <a:pt x="1319" y="407"/>
                    </a:lnTo>
                    <a:lnTo>
                      <a:pt x="1305" y="425"/>
                    </a:lnTo>
                    <a:lnTo>
                      <a:pt x="1260" y="434"/>
                    </a:lnTo>
                    <a:lnTo>
                      <a:pt x="1214" y="466"/>
                    </a:lnTo>
                    <a:lnTo>
                      <a:pt x="1187" y="475"/>
                    </a:lnTo>
                    <a:lnTo>
                      <a:pt x="1142" y="484"/>
                    </a:lnTo>
                    <a:lnTo>
                      <a:pt x="1115" y="480"/>
                    </a:lnTo>
                    <a:lnTo>
                      <a:pt x="1083" y="462"/>
                    </a:lnTo>
                    <a:lnTo>
                      <a:pt x="1069" y="466"/>
                    </a:lnTo>
                    <a:lnTo>
                      <a:pt x="1024" y="511"/>
                    </a:lnTo>
                    <a:lnTo>
                      <a:pt x="997" y="521"/>
                    </a:lnTo>
                    <a:lnTo>
                      <a:pt x="947" y="525"/>
                    </a:lnTo>
                    <a:lnTo>
                      <a:pt x="929" y="507"/>
                    </a:lnTo>
                    <a:lnTo>
                      <a:pt x="888" y="525"/>
                    </a:lnTo>
                    <a:lnTo>
                      <a:pt x="870" y="570"/>
                    </a:lnTo>
                    <a:lnTo>
                      <a:pt x="847" y="575"/>
                    </a:lnTo>
                    <a:lnTo>
                      <a:pt x="798" y="593"/>
                    </a:lnTo>
                    <a:lnTo>
                      <a:pt x="712" y="643"/>
                    </a:lnTo>
                    <a:lnTo>
                      <a:pt x="0" y="652"/>
                    </a:lnTo>
                    <a:close/>
                  </a:path>
                </a:pathLst>
              </a:cu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1317600" y="5251680"/>
                <a:ext cx="271440" cy="120240"/>
              </a:xfrm>
              <a:custGeom>
                <a:avLst/>
                <a:gdLst>
                  <a:gd name="textAreaLeft" fmla="*/ 360 w 271440"/>
                  <a:gd name="textAreaRight" fmla="*/ 272160 w 271440"/>
                  <a:gd name="textAreaTop" fmla="*/ 0 h 120240"/>
                  <a:gd name="textAreaBottom" fmla="*/ 120240 h 120240"/>
                </a:gdLst>
                <a:ahLst/>
                <a:rect l="textAreaLeft" t="textAreaTop" r="textAreaRight" b="textAreaBottom"/>
                <a:pathLst>
                  <a:path w="345" h="154">
                    <a:moveTo>
                      <a:pt x="345" y="0"/>
                    </a:moveTo>
                    <a:lnTo>
                      <a:pt x="218" y="72"/>
                    </a:lnTo>
                    <a:lnTo>
                      <a:pt x="91" y="122"/>
                    </a:lnTo>
                    <a:lnTo>
                      <a:pt x="0" y="154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071800" y="5469120"/>
              <a:ext cx="689040" cy="781920"/>
              <a:chOff x="2071800" y="5469120"/>
              <a:chExt cx="689040" cy="781920"/>
            </a:xfrm>
          </p:grpSpPr>
          <p:sp>
            <p:nvSpPr>
              <p:cNvPr id="293" name=""/>
              <p:cNvSpPr/>
              <p:nvPr/>
            </p:nvSpPr>
            <p:spPr>
              <a:xfrm flipH="1">
                <a:off x="2071800" y="5469120"/>
                <a:ext cx="689040" cy="781920"/>
              </a:xfrm>
              <a:custGeom>
                <a:avLst/>
                <a:gdLst>
                  <a:gd name="textAreaLeft" fmla="*/ 360 w 689040"/>
                  <a:gd name="textAreaRight" fmla="*/ 689760 w 689040"/>
                  <a:gd name="textAreaTop" fmla="*/ 0 h 781920"/>
                  <a:gd name="textAreaBottom" fmla="*/ 782280 h 781920"/>
                </a:gdLst>
                <a:ahLst/>
                <a:rect l="textAreaLeft" t="textAreaTop" r="textAreaRight" b="textAreaBottom"/>
                <a:pathLst>
                  <a:path w="870" h="988">
                    <a:moveTo>
                      <a:pt x="626" y="141"/>
                    </a:moveTo>
                    <a:lnTo>
                      <a:pt x="707" y="159"/>
                    </a:lnTo>
                    <a:lnTo>
                      <a:pt x="743" y="182"/>
                    </a:lnTo>
                    <a:lnTo>
                      <a:pt x="775" y="222"/>
                    </a:lnTo>
                    <a:lnTo>
                      <a:pt x="861" y="322"/>
                    </a:lnTo>
                    <a:lnTo>
                      <a:pt x="870" y="345"/>
                    </a:lnTo>
                    <a:lnTo>
                      <a:pt x="870" y="354"/>
                    </a:lnTo>
                    <a:lnTo>
                      <a:pt x="870" y="372"/>
                    </a:lnTo>
                    <a:lnTo>
                      <a:pt x="780" y="481"/>
                    </a:lnTo>
                    <a:lnTo>
                      <a:pt x="748" y="508"/>
                    </a:lnTo>
                    <a:lnTo>
                      <a:pt x="657" y="567"/>
                    </a:lnTo>
                    <a:lnTo>
                      <a:pt x="626" y="603"/>
                    </a:lnTo>
                    <a:lnTo>
                      <a:pt x="585" y="630"/>
                    </a:lnTo>
                    <a:lnTo>
                      <a:pt x="530" y="657"/>
                    </a:lnTo>
                    <a:lnTo>
                      <a:pt x="481" y="680"/>
                    </a:lnTo>
                    <a:lnTo>
                      <a:pt x="444" y="766"/>
                    </a:lnTo>
                    <a:lnTo>
                      <a:pt x="363" y="802"/>
                    </a:lnTo>
                    <a:lnTo>
                      <a:pt x="336" y="866"/>
                    </a:lnTo>
                    <a:lnTo>
                      <a:pt x="195" y="911"/>
                    </a:lnTo>
                    <a:lnTo>
                      <a:pt x="159" y="911"/>
                    </a:lnTo>
                    <a:lnTo>
                      <a:pt x="105" y="979"/>
                    </a:lnTo>
                    <a:lnTo>
                      <a:pt x="96" y="988"/>
                    </a:lnTo>
                    <a:lnTo>
                      <a:pt x="82" y="988"/>
                    </a:lnTo>
                    <a:lnTo>
                      <a:pt x="77" y="983"/>
                    </a:lnTo>
                    <a:lnTo>
                      <a:pt x="73" y="970"/>
                    </a:lnTo>
                    <a:lnTo>
                      <a:pt x="59" y="925"/>
                    </a:lnTo>
                    <a:lnTo>
                      <a:pt x="23" y="893"/>
                    </a:lnTo>
                    <a:lnTo>
                      <a:pt x="19" y="866"/>
                    </a:lnTo>
                    <a:lnTo>
                      <a:pt x="5" y="802"/>
                    </a:lnTo>
                    <a:lnTo>
                      <a:pt x="0" y="694"/>
                    </a:lnTo>
                    <a:lnTo>
                      <a:pt x="10" y="666"/>
                    </a:lnTo>
                    <a:lnTo>
                      <a:pt x="32" y="589"/>
                    </a:lnTo>
                    <a:lnTo>
                      <a:pt x="32" y="571"/>
                    </a:lnTo>
                    <a:lnTo>
                      <a:pt x="50" y="539"/>
                    </a:lnTo>
                    <a:lnTo>
                      <a:pt x="82" y="503"/>
                    </a:lnTo>
                    <a:lnTo>
                      <a:pt x="105" y="458"/>
                    </a:lnTo>
                    <a:lnTo>
                      <a:pt x="123" y="394"/>
                    </a:lnTo>
                    <a:lnTo>
                      <a:pt x="173" y="231"/>
                    </a:lnTo>
                    <a:lnTo>
                      <a:pt x="213" y="123"/>
                    </a:lnTo>
                    <a:lnTo>
                      <a:pt x="227" y="105"/>
                    </a:lnTo>
                    <a:lnTo>
                      <a:pt x="254" y="77"/>
                    </a:lnTo>
                    <a:lnTo>
                      <a:pt x="254" y="50"/>
                    </a:lnTo>
                    <a:lnTo>
                      <a:pt x="268" y="41"/>
                    </a:lnTo>
                    <a:lnTo>
                      <a:pt x="295" y="55"/>
                    </a:lnTo>
                    <a:lnTo>
                      <a:pt x="304" y="55"/>
                    </a:lnTo>
                    <a:lnTo>
                      <a:pt x="313" y="5"/>
                    </a:lnTo>
                    <a:lnTo>
                      <a:pt x="336" y="0"/>
                    </a:lnTo>
                    <a:lnTo>
                      <a:pt x="395" y="14"/>
                    </a:lnTo>
                    <a:lnTo>
                      <a:pt x="453" y="32"/>
                    </a:lnTo>
                    <a:lnTo>
                      <a:pt x="490" y="41"/>
                    </a:lnTo>
                    <a:lnTo>
                      <a:pt x="571" y="73"/>
                    </a:lnTo>
                    <a:lnTo>
                      <a:pt x="626" y="141"/>
                    </a:lnTo>
                    <a:close/>
                  </a:path>
                </a:pathLst>
              </a:cu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2179800" y="5560920"/>
                <a:ext cx="372960" cy="256680"/>
              </a:xfrm>
              <a:custGeom>
                <a:avLst/>
                <a:gdLst>
                  <a:gd name="textAreaLeft" fmla="*/ 360 w 372960"/>
                  <a:gd name="textAreaRight" fmla="*/ 373680 w 372960"/>
                  <a:gd name="textAreaTop" fmla="*/ 0 h 256680"/>
                  <a:gd name="textAreaBottom" fmla="*/ 256680 h 256680"/>
                </a:gdLst>
                <a:ahLst/>
                <a:rect l="textAreaLeft" t="textAreaTop" r="textAreaRight" b="textAreaBottom"/>
                <a:pathLst>
                  <a:path w="471" h="326">
                    <a:moveTo>
                      <a:pt x="267" y="72"/>
                    </a:moveTo>
                    <a:lnTo>
                      <a:pt x="313" y="104"/>
                    </a:lnTo>
                    <a:lnTo>
                      <a:pt x="354" y="117"/>
                    </a:lnTo>
                    <a:lnTo>
                      <a:pt x="390" y="131"/>
                    </a:lnTo>
                    <a:lnTo>
                      <a:pt x="422" y="154"/>
                    </a:lnTo>
                    <a:lnTo>
                      <a:pt x="458" y="176"/>
                    </a:lnTo>
                    <a:lnTo>
                      <a:pt x="462" y="199"/>
                    </a:lnTo>
                    <a:lnTo>
                      <a:pt x="471" y="235"/>
                    </a:lnTo>
                    <a:lnTo>
                      <a:pt x="471" y="267"/>
                    </a:lnTo>
                    <a:lnTo>
                      <a:pt x="467" y="294"/>
                    </a:lnTo>
                    <a:lnTo>
                      <a:pt x="444" y="312"/>
                    </a:lnTo>
                    <a:lnTo>
                      <a:pt x="394" y="326"/>
                    </a:lnTo>
                    <a:lnTo>
                      <a:pt x="340" y="321"/>
                    </a:lnTo>
                    <a:lnTo>
                      <a:pt x="272" y="312"/>
                    </a:lnTo>
                    <a:lnTo>
                      <a:pt x="190" y="308"/>
                    </a:lnTo>
                    <a:lnTo>
                      <a:pt x="150" y="294"/>
                    </a:lnTo>
                    <a:lnTo>
                      <a:pt x="141" y="281"/>
                    </a:lnTo>
                    <a:lnTo>
                      <a:pt x="127" y="267"/>
                    </a:lnTo>
                    <a:lnTo>
                      <a:pt x="127" y="249"/>
                    </a:lnTo>
                    <a:lnTo>
                      <a:pt x="159" y="203"/>
                    </a:lnTo>
                    <a:lnTo>
                      <a:pt x="123" y="185"/>
                    </a:lnTo>
                    <a:lnTo>
                      <a:pt x="77" y="158"/>
                    </a:lnTo>
                    <a:lnTo>
                      <a:pt x="46" y="158"/>
                    </a:lnTo>
                    <a:lnTo>
                      <a:pt x="27" y="149"/>
                    </a:lnTo>
                    <a:lnTo>
                      <a:pt x="14" y="131"/>
                    </a:lnTo>
                    <a:lnTo>
                      <a:pt x="0" y="90"/>
                    </a:lnTo>
                    <a:lnTo>
                      <a:pt x="0" y="72"/>
                    </a:lnTo>
                    <a:lnTo>
                      <a:pt x="23" y="36"/>
                    </a:lnTo>
                    <a:lnTo>
                      <a:pt x="68" y="9"/>
                    </a:lnTo>
                    <a:lnTo>
                      <a:pt x="127" y="0"/>
                    </a:lnTo>
                    <a:lnTo>
                      <a:pt x="154" y="9"/>
                    </a:lnTo>
                    <a:lnTo>
                      <a:pt x="218" y="36"/>
                    </a:lnTo>
                    <a:lnTo>
                      <a:pt x="267" y="72"/>
                    </a:lnTo>
                    <a:close/>
                  </a:path>
                </a:pathLst>
              </a:cu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334600" y="5671800"/>
                <a:ext cx="282600" cy="382320"/>
              </a:xfrm>
              <a:custGeom>
                <a:avLst/>
                <a:gdLst>
                  <a:gd name="textAreaLeft" fmla="*/ -360 w 282600"/>
                  <a:gd name="textAreaRight" fmla="*/ 282600 w 282600"/>
                  <a:gd name="textAreaTop" fmla="*/ 0 h 382320"/>
                  <a:gd name="textAreaBottom" fmla="*/ 382680 h 382320"/>
                </a:gdLst>
                <a:ahLst/>
                <a:rect l="textAreaLeft" t="textAreaTop" r="textAreaRight" b="textAreaBottom"/>
                <a:pathLst>
                  <a:path w="358" h="485">
                    <a:moveTo>
                      <a:pt x="358" y="0"/>
                    </a:moveTo>
                    <a:lnTo>
                      <a:pt x="276" y="41"/>
                    </a:lnTo>
                    <a:lnTo>
                      <a:pt x="217" y="91"/>
                    </a:lnTo>
                    <a:lnTo>
                      <a:pt x="190" y="127"/>
                    </a:lnTo>
                    <a:lnTo>
                      <a:pt x="163" y="177"/>
                    </a:lnTo>
                    <a:lnTo>
                      <a:pt x="108" y="276"/>
                    </a:lnTo>
                    <a:lnTo>
                      <a:pt x="49" y="381"/>
                    </a:lnTo>
                    <a:lnTo>
                      <a:pt x="0" y="485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924200" y="4214880"/>
              <a:ext cx="498240" cy="1374840"/>
              <a:chOff x="1924200" y="4214880"/>
              <a:chExt cx="498240" cy="1374840"/>
            </a:xfrm>
          </p:grpSpPr>
          <p:sp>
            <p:nvSpPr>
              <p:cNvPr id="297" name=""/>
              <p:cNvSpPr/>
              <p:nvPr/>
            </p:nvSpPr>
            <p:spPr>
              <a:xfrm flipH="1">
                <a:off x="1924200" y="4214880"/>
                <a:ext cx="498240" cy="1374840"/>
              </a:xfrm>
              <a:custGeom>
                <a:avLst/>
                <a:gdLst>
                  <a:gd name="textAreaLeft" fmla="*/ 360 w 498240"/>
                  <a:gd name="textAreaRight" fmla="*/ 498960 w 49824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630" h="1735">
                    <a:moveTo>
                      <a:pt x="77" y="834"/>
                    </a:moveTo>
                    <a:lnTo>
                      <a:pt x="77" y="711"/>
                    </a:lnTo>
                    <a:lnTo>
                      <a:pt x="100" y="675"/>
                    </a:lnTo>
                    <a:lnTo>
                      <a:pt x="104" y="625"/>
                    </a:lnTo>
                    <a:lnTo>
                      <a:pt x="109" y="598"/>
                    </a:lnTo>
                    <a:lnTo>
                      <a:pt x="104" y="562"/>
                    </a:lnTo>
                    <a:lnTo>
                      <a:pt x="73" y="548"/>
                    </a:lnTo>
                    <a:lnTo>
                      <a:pt x="73" y="508"/>
                    </a:lnTo>
                    <a:lnTo>
                      <a:pt x="109" y="476"/>
                    </a:lnTo>
                    <a:lnTo>
                      <a:pt x="109" y="449"/>
                    </a:lnTo>
                    <a:lnTo>
                      <a:pt x="59" y="412"/>
                    </a:lnTo>
                    <a:lnTo>
                      <a:pt x="41" y="376"/>
                    </a:lnTo>
                    <a:lnTo>
                      <a:pt x="37" y="322"/>
                    </a:lnTo>
                    <a:lnTo>
                      <a:pt x="46" y="276"/>
                    </a:lnTo>
                    <a:lnTo>
                      <a:pt x="37" y="249"/>
                    </a:lnTo>
                    <a:lnTo>
                      <a:pt x="0" y="199"/>
                    </a:lnTo>
                    <a:lnTo>
                      <a:pt x="0" y="181"/>
                    </a:lnTo>
                    <a:lnTo>
                      <a:pt x="5" y="154"/>
                    </a:lnTo>
                    <a:lnTo>
                      <a:pt x="14" y="86"/>
                    </a:lnTo>
                    <a:lnTo>
                      <a:pt x="41" y="73"/>
                    </a:lnTo>
                    <a:lnTo>
                      <a:pt x="55" y="50"/>
                    </a:lnTo>
                    <a:lnTo>
                      <a:pt x="123" y="0"/>
                    </a:lnTo>
                    <a:lnTo>
                      <a:pt x="150" y="0"/>
                    </a:lnTo>
                    <a:lnTo>
                      <a:pt x="191" y="14"/>
                    </a:lnTo>
                    <a:lnTo>
                      <a:pt x="249" y="32"/>
                    </a:lnTo>
                    <a:lnTo>
                      <a:pt x="281" y="32"/>
                    </a:lnTo>
                    <a:lnTo>
                      <a:pt x="295" y="32"/>
                    </a:lnTo>
                    <a:lnTo>
                      <a:pt x="322" y="41"/>
                    </a:lnTo>
                    <a:lnTo>
                      <a:pt x="349" y="54"/>
                    </a:lnTo>
                    <a:lnTo>
                      <a:pt x="422" y="109"/>
                    </a:lnTo>
                    <a:lnTo>
                      <a:pt x="431" y="122"/>
                    </a:lnTo>
                    <a:lnTo>
                      <a:pt x="435" y="177"/>
                    </a:lnTo>
                    <a:lnTo>
                      <a:pt x="453" y="190"/>
                    </a:lnTo>
                    <a:lnTo>
                      <a:pt x="476" y="190"/>
                    </a:lnTo>
                    <a:lnTo>
                      <a:pt x="512" y="213"/>
                    </a:lnTo>
                    <a:lnTo>
                      <a:pt x="512" y="272"/>
                    </a:lnTo>
                    <a:lnTo>
                      <a:pt x="526" y="276"/>
                    </a:lnTo>
                    <a:lnTo>
                      <a:pt x="544" y="335"/>
                    </a:lnTo>
                    <a:lnTo>
                      <a:pt x="544" y="462"/>
                    </a:lnTo>
                    <a:lnTo>
                      <a:pt x="589" y="489"/>
                    </a:lnTo>
                    <a:lnTo>
                      <a:pt x="621" y="566"/>
                    </a:lnTo>
                    <a:lnTo>
                      <a:pt x="630" y="675"/>
                    </a:lnTo>
                    <a:lnTo>
                      <a:pt x="476" y="1414"/>
                    </a:lnTo>
                    <a:lnTo>
                      <a:pt x="317" y="1735"/>
                    </a:lnTo>
                    <a:lnTo>
                      <a:pt x="272" y="1704"/>
                    </a:lnTo>
                    <a:lnTo>
                      <a:pt x="326" y="1305"/>
                    </a:lnTo>
                    <a:lnTo>
                      <a:pt x="77" y="834"/>
                    </a:lnTo>
                    <a:close/>
                  </a:path>
                </a:pathLst>
              </a:cu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068560" y="4317480"/>
                <a:ext cx="271440" cy="250560"/>
              </a:xfrm>
              <a:custGeom>
                <a:avLst/>
                <a:gdLst>
                  <a:gd name="textAreaLeft" fmla="*/ 360 w 271440"/>
                  <a:gd name="textAreaRight" fmla="*/ 272160 w 27144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345" h="317">
                    <a:moveTo>
                      <a:pt x="222" y="267"/>
                    </a:moveTo>
                    <a:lnTo>
                      <a:pt x="241" y="281"/>
                    </a:lnTo>
                    <a:lnTo>
                      <a:pt x="268" y="299"/>
                    </a:lnTo>
                    <a:lnTo>
                      <a:pt x="304" y="294"/>
                    </a:lnTo>
                    <a:lnTo>
                      <a:pt x="340" y="276"/>
                    </a:lnTo>
                    <a:lnTo>
                      <a:pt x="345" y="249"/>
                    </a:lnTo>
                    <a:lnTo>
                      <a:pt x="345" y="208"/>
                    </a:lnTo>
                    <a:lnTo>
                      <a:pt x="322" y="149"/>
                    </a:lnTo>
                    <a:lnTo>
                      <a:pt x="295" y="91"/>
                    </a:lnTo>
                    <a:lnTo>
                      <a:pt x="245" y="27"/>
                    </a:lnTo>
                    <a:lnTo>
                      <a:pt x="222" y="9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6" y="9"/>
                    </a:lnTo>
                    <a:lnTo>
                      <a:pt x="132" y="18"/>
                    </a:lnTo>
                    <a:lnTo>
                      <a:pt x="114" y="32"/>
                    </a:lnTo>
                    <a:lnTo>
                      <a:pt x="78" y="32"/>
                    </a:lnTo>
                    <a:lnTo>
                      <a:pt x="37" y="23"/>
                    </a:lnTo>
                    <a:lnTo>
                      <a:pt x="28" y="23"/>
                    </a:lnTo>
                    <a:lnTo>
                      <a:pt x="19" y="27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82"/>
                    </a:lnTo>
                    <a:lnTo>
                      <a:pt x="10" y="95"/>
                    </a:lnTo>
                    <a:lnTo>
                      <a:pt x="19" y="109"/>
                    </a:lnTo>
                    <a:lnTo>
                      <a:pt x="32" y="145"/>
                    </a:lnTo>
                    <a:lnTo>
                      <a:pt x="32" y="177"/>
                    </a:lnTo>
                    <a:lnTo>
                      <a:pt x="41" y="204"/>
                    </a:lnTo>
                    <a:lnTo>
                      <a:pt x="46" y="231"/>
                    </a:lnTo>
                    <a:lnTo>
                      <a:pt x="55" y="254"/>
                    </a:lnTo>
                    <a:lnTo>
                      <a:pt x="68" y="272"/>
                    </a:lnTo>
                    <a:lnTo>
                      <a:pt x="91" y="304"/>
                    </a:lnTo>
                    <a:lnTo>
                      <a:pt x="109" y="304"/>
                    </a:lnTo>
                    <a:lnTo>
                      <a:pt x="127" y="317"/>
                    </a:lnTo>
                    <a:lnTo>
                      <a:pt x="159" y="313"/>
                    </a:lnTo>
                    <a:lnTo>
                      <a:pt x="159" y="308"/>
                    </a:lnTo>
                    <a:lnTo>
                      <a:pt x="222" y="267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129760" y="4363560"/>
                <a:ext cx="112680" cy="682200"/>
              </a:xfrm>
              <a:custGeom>
                <a:avLst/>
                <a:gdLst>
                  <a:gd name="textAreaLeft" fmla="*/ -360 w 112680"/>
                  <a:gd name="textAreaRight" fmla="*/ 112680 w 112680"/>
                  <a:gd name="textAreaTop" fmla="*/ 0 h 682200"/>
                  <a:gd name="textAreaBottom" fmla="*/ 682560 h 682200"/>
                </a:gdLst>
                <a:ahLst/>
                <a:rect l="textAreaLeft" t="textAreaTop" r="textAreaRight" b="textAreaBottom"/>
                <a:pathLst>
                  <a:path w="145" h="861">
                    <a:moveTo>
                      <a:pt x="0" y="0"/>
                    </a:moveTo>
                    <a:lnTo>
                      <a:pt x="54" y="136"/>
                    </a:lnTo>
                    <a:lnTo>
                      <a:pt x="77" y="217"/>
                    </a:lnTo>
                    <a:lnTo>
                      <a:pt x="99" y="281"/>
                    </a:lnTo>
                    <a:lnTo>
                      <a:pt x="136" y="408"/>
                    </a:lnTo>
                    <a:lnTo>
                      <a:pt x="140" y="471"/>
                    </a:lnTo>
                    <a:lnTo>
                      <a:pt x="145" y="525"/>
                    </a:lnTo>
                    <a:lnTo>
                      <a:pt x="140" y="612"/>
                    </a:lnTo>
                    <a:lnTo>
                      <a:pt x="131" y="716"/>
                    </a:lnTo>
                    <a:lnTo>
                      <a:pt x="127" y="824"/>
                    </a:lnTo>
                    <a:lnTo>
                      <a:pt x="127" y="861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139480" y="4671360"/>
              <a:ext cx="901800" cy="910080"/>
              <a:chOff x="2139480" y="4671360"/>
              <a:chExt cx="901800" cy="91008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2139120" y="4671360"/>
                <a:ext cx="901800" cy="910080"/>
              </a:xfrm>
              <a:custGeom>
                <a:avLst/>
                <a:gdLst>
                  <a:gd name="textAreaLeft" fmla="*/ -360 w 901800"/>
                  <a:gd name="textAreaRight" fmla="*/ 901800 w 901800"/>
                  <a:gd name="textAreaTop" fmla="*/ 0 h 910080"/>
                  <a:gd name="textAreaBottom" fmla="*/ 910440 h 910080"/>
                </a:gdLst>
                <a:ahLst/>
                <a:rect l="textAreaLeft" t="textAreaTop" r="textAreaRight" b="textAreaBottom"/>
                <a:pathLst>
                  <a:path w="1137" h="1151">
                    <a:moveTo>
                      <a:pt x="1074" y="1151"/>
                    </a:moveTo>
                    <a:lnTo>
                      <a:pt x="1028" y="1120"/>
                    </a:lnTo>
                    <a:lnTo>
                      <a:pt x="1028" y="1083"/>
                    </a:lnTo>
                    <a:lnTo>
                      <a:pt x="956" y="1088"/>
                    </a:lnTo>
                    <a:lnTo>
                      <a:pt x="707" y="1002"/>
                    </a:lnTo>
                    <a:lnTo>
                      <a:pt x="684" y="970"/>
                    </a:lnTo>
                    <a:lnTo>
                      <a:pt x="630" y="925"/>
                    </a:lnTo>
                    <a:lnTo>
                      <a:pt x="580" y="879"/>
                    </a:lnTo>
                    <a:lnTo>
                      <a:pt x="521" y="848"/>
                    </a:lnTo>
                    <a:lnTo>
                      <a:pt x="507" y="839"/>
                    </a:lnTo>
                    <a:lnTo>
                      <a:pt x="471" y="789"/>
                    </a:lnTo>
                    <a:lnTo>
                      <a:pt x="430" y="703"/>
                    </a:lnTo>
                    <a:lnTo>
                      <a:pt x="340" y="612"/>
                    </a:lnTo>
                    <a:lnTo>
                      <a:pt x="304" y="567"/>
                    </a:lnTo>
                    <a:lnTo>
                      <a:pt x="290" y="526"/>
                    </a:lnTo>
                    <a:lnTo>
                      <a:pt x="267" y="472"/>
                    </a:lnTo>
                    <a:lnTo>
                      <a:pt x="263" y="413"/>
                    </a:lnTo>
                    <a:lnTo>
                      <a:pt x="245" y="358"/>
                    </a:lnTo>
                    <a:lnTo>
                      <a:pt x="231" y="340"/>
                    </a:lnTo>
                    <a:lnTo>
                      <a:pt x="195" y="313"/>
                    </a:lnTo>
                    <a:lnTo>
                      <a:pt x="172" y="290"/>
                    </a:lnTo>
                    <a:lnTo>
                      <a:pt x="145" y="259"/>
                    </a:lnTo>
                    <a:lnTo>
                      <a:pt x="109" y="204"/>
                    </a:lnTo>
                    <a:lnTo>
                      <a:pt x="82" y="173"/>
                    </a:lnTo>
                    <a:lnTo>
                      <a:pt x="27" y="136"/>
                    </a:lnTo>
                    <a:lnTo>
                      <a:pt x="0" y="118"/>
                    </a:lnTo>
                    <a:lnTo>
                      <a:pt x="0" y="73"/>
                    </a:lnTo>
                    <a:lnTo>
                      <a:pt x="0" y="46"/>
                    </a:lnTo>
                    <a:lnTo>
                      <a:pt x="14" y="28"/>
                    </a:lnTo>
                    <a:lnTo>
                      <a:pt x="27" y="10"/>
                    </a:lnTo>
                    <a:lnTo>
                      <a:pt x="68" y="10"/>
                    </a:lnTo>
                    <a:lnTo>
                      <a:pt x="168" y="0"/>
                    </a:lnTo>
                    <a:lnTo>
                      <a:pt x="254" y="10"/>
                    </a:lnTo>
                    <a:lnTo>
                      <a:pt x="331" y="14"/>
                    </a:lnTo>
                    <a:lnTo>
                      <a:pt x="417" y="0"/>
                    </a:lnTo>
                    <a:lnTo>
                      <a:pt x="494" y="41"/>
                    </a:lnTo>
                    <a:lnTo>
                      <a:pt x="603" y="68"/>
                    </a:lnTo>
                    <a:lnTo>
                      <a:pt x="648" y="78"/>
                    </a:lnTo>
                    <a:lnTo>
                      <a:pt x="698" y="105"/>
                    </a:lnTo>
                    <a:lnTo>
                      <a:pt x="725" y="114"/>
                    </a:lnTo>
                    <a:lnTo>
                      <a:pt x="766" y="145"/>
                    </a:lnTo>
                    <a:lnTo>
                      <a:pt x="775" y="209"/>
                    </a:lnTo>
                    <a:lnTo>
                      <a:pt x="843" y="236"/>
                    </a:lnTo>
                    <a:lnTo>
                      <a:pt x="874" y="254"/>
                    </a:lnTo>
                    <a:lnTo>
                      <a:pt x="1024" y="372"/>
                    </a:lnTo>
                    <a:lnTo>
                      <a:pt x="1078" y="476"/>
                    </a:lnTo>
                    <a:lnTo>
                      <a:pt x="1119" y="639"/>
                    </a:lnTo>
                    <a:lnTo>
                      <a:pt x="1124" y="725"/>
                    </a:lnTo>
                    <a:lnTo>
                      <a:pt x="1137" y="744"/>
                    </a:lnTo>
                    <a:lnTo>
                      <a:pt x="1133" y="866"/>
                    </a:lnTo>
                    <a:lnTo>
                      <a:pt x="1119" y="916"/>
                    </a:lnTo>
                    <a:lnTo>
                      <a:pt x="1119" y="1033"/>
                    </a:lnTo>
                    <a:lnTo>
                      <a:pt x="1101" y="1083"/>
                    </a:lnTo>
                    <a:lnTo>
                      <a:pt x="1074" y="1151"/>
                    </a:lnTo>
                    <a:close/>
                  </a:path>
                </a:pathLst>
              </a:cu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2388600" y="4740840"/>
                <a:ext cx="461880" cy="50580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505800"/>
                  <a:gd name="textAreaBottom" fmla="*/ 506160 h 505800"/>
                </a:gdLst>
                <a:ahLst/>
                <a:rect l="textAreaLeft" t="textAreaTop" r="textAreaRight" b="textAreaBottom"/>
                <a:pathLst>
                  <a:path w="585" h="638">
                    <a:moveTo>
                      <a:pt x="0" y="0"/>
                    </a:moveTo>
                    <a:lnTo>
                      <a:pt x="113" y="68"/>
                    </a:lnTo>
                    <a:lnTo>
                      <a:pt x="200" y="122"/>
                    </a:lnTo>
                    <a:lnTo>
                      <a:pt x="272" y="176"/>
                    </a:lnTo>
                    <a:lnTo>
                      <a:pt x="331" y="222"/>
                    </a:lnTo>
                    <a:lnTo>
                      <a:pt x="376" y="262"/>
                    </a:lnTo>
                    <a:lnTo>
                      <a:pt x="458" y="358"/>
                    </a:lnTo>
                    <a:lnTo>
                      <a:pt x="494" y="421"/>
                    </a:lnTo>
                    <a:lnTo>
                      <a:pt x="548" y="525"/>
                    </a:lnTo>
                    <a:lnTo>
                      <a:pt x="585" y="638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255680" y="4430520"/>
              <a:ext cx="822240" cy="992520"/>
              <a:chOff x="1255680" y="4430520"/>
              <a:chExt cx="822240" cy="992520"/>
            </a:xfrm>
          </p:grpSpPr>
          <p:sp>
            <p:nvSpPr>
              <p:cNvPr id="304" name=""/>
              <p:cNvSpPr/>
              <p:nvPr/>
            </p:nvSpPr>
            <p:spPr>
              <a:xfrm flipH="1">
                <a:off x="1255680" y="4430520"/>
                <a:ext cx="822240" cy="992520"/>
              </a:xfrm>
              <a:custGeom>
                <a:avLst/>
                <a:gdLst>
                  <a:gd name="textAreaLeft" fmla="*/ 360 w 822240"/>
                  <a:gd name="textAreaRight" fmla="*/ 822960 w 822240"/>
                  <a:gd name="textAreaTop" fmla="*/ 0 h 992520"/>
                  <a:gd name="textAreaBottom" fmla="*/ 992880 h 992520"/>
                </a:gdLst>
                <a:ahLst/>
                <a:rect l="textAreaLeft" t="textAreaTop" r="textAreaRight" b="textAreaBottom"/>
                <a:pathLst>
                  <a:path w="1038" h="1255">
                    <a:moveTo>
                      <a:pt x="127" y="1250"/>
                    </a:moveTo>
                    <a:lnTo>
                      <a:pt x="168" y="1255"/>
                    </a:lnTo>
                    <a:lnTo>
                      <a:pt x="349" y="1223"/>
                    </a:lnTo>
                    <a:lnTo>
                      <a:pt x="385" y="1232"/>
                    </a:lnTo>
                    <a:lnTo>
                      <a:pt x="431" y="1223"/>
                    </a:lnTo>
                    <a:lnTo>
                      <a:pt x="471" y="1205"/>
                    </a:lnTo>
                    <a:lnTo>
                      <a:pt x="503" y="1178"/>
                    </a:lnTo>
                    <a:lnTo>
                      <a:pt x="603" y="1124"/>
                    </a:lnTo>
                    <a:lnTo>
                      <a:pt x="621" y="1096"/>
                    </a:lnTo>
                    <a:lnTo>
                      <a:pt x="716" y="988"/>
                    </a:lnTo>
                    <a:lnTo>
                      <a:pt x="770" y="815"/>
                    </a:lnTo>
                    <a:lnTo>
                      <a:pt x="770" y="770"/>
                    </a:lnTo>
                    <a:lnTo>
                      <a:pt x="770" y="729"/>
                    </a:lnTo>
                    <a:lnTo>
                      <a:pt x="788" y="666"/>
                    </a:lnTo>
                    <a:lnTo>
                      <a:pt x="788" y="643"/>
                    </a:lnTo>
                    <a:lnTo>
                      <a:pt x="788" y="593"/>
                    </a:lnTo>
                    <a:lnTo>
                      <a:pt x="866" y="394"/>
                    </a:lnTo>
                    <a:lnTo>
                      <a:pt x="970" y="240"/>
                    </a:lnTo>
                    <a:lnTo>
                      <a:pt x="974" y="217"/>
                    </a:lnTo>
                    <a:lnTo>
                      <a:pt x="1024" y="168"/>
                    </a:lnTo>
                    <a:lnTo>
                      <a:pt x="1038" y="149"/>
                    </a:lnTo>
                    <a:lnTo>
                      <a:pt x="1038" y="136"/>
                    </a:lnTo>
                    <a:lnTo>
                      <a:pt x="1033" y="122"/>
                    </a:lnTo>
                    <a:lnTo>
                      <a:pt x="1020" y="122"/>
                    </a:lnTo>
                    <a:lnTo>
                      <a:pt x="997" y="122"/>
                    </a:lnTo>
                    <a:lnTo>
                      <a:pt x="933" y="63"/>
                    </a:lnTo>
                    <a:lnTo>
                      <a:pt x="906" y="50"/>
                    </a:lnTo>
                    <a:lnTo>
                      <a:pt x="843" y="18"/>
                    </a:lnTo>
                    <a:lnTo>
                      <a:pt x="752" y="0"/>
                    </a:lnTo>
                    <a:lnTo>
                      <a:pt x="689" y="4"/>
                    </a:lnTo>
                    <a:lnTo>
                      <a:pt x="639" y="27"/>
                    </a:lnTo>
                    <a:lnTo>
                      <a:pt x="585" y="59"/>
                    </a:lnTo>
                    <a:lnTo>
                      <a:pt x="517" y="91"/>
                    </a:lnTo>
                    <a:lnTo>
                      <a:pt x="467" y="127"/>
                    </a:lnTo>
                    <a:lnTo>
                      <a:pt x="340" y="236"/>
                    </a:lnTo>
                    <a:lnTo>
                      <a:pt x="258" y="303"/>
                    </a:lnTo>
                    <a:lnTo>
                      <a:pt x="168" y="390"/>
                    </a:lnTo>
                    <a:lnTo>
                      <a:pt x="118" y="448"/>
                    </a:lnTo>
                    <a:lnTo>
                      <a:pt x="82" y="525"/>
                    </a:lnTo>
                    <a:lnTo>
                      <a:pt x="23" y="752"/>
                    </a:lnTo>
                    <a:lnTo>
                      <a:pt x="32" y="811"/>
                    </a:lnTo>
                    <a:lnTo>
                      <a:pt x="18" y="933"/>
                    </a:lnTo>
                    <a:lnTo>
                      <a:pt x="0" y="1228"/>
                    </a:lnTo>
                    <a:lnTo>
                      <a:pt x="127" y="1250"/>
                    </a:lnTo>
                    <a:close/>
                  </a:path>
                </a:pathLst>
              </a:cu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1348560" y="4479120"/>
                <a:ext cx="236520" cy="152280"/>
              </a:xfrm>
              <a:custGeom>
                <a:avLst/>
                <a:gdLst>
                  <a:gd name="textAreaLeft" fmla="*/ -360 w 236520"/>
                  <a:gd name="textAreaRight" fmla="*/ 236520 w 236520"/>
                  <a:gd name="textAreaTop" fmla="*/ 0 h 152280"/>
                  <a:gd name="textAreaBottom" fmla="*/ 152280 h 152280"/>
                </a:gdLst>
                <a:ahLst/>
                <a:rect l="textAreaLeft" t="textAreaTop" r="textAreaRight" b="textAreaBottom"/>
                <a:pathLst>
                  <a:path w="299" h="195">
                    <a:moveTo>
                      <a:pt x="167" y="32"/>
                    </a:moveTo>
                    <a:lnTo>
                      <a:pt x="245" y="27"/>
                    </a:lnTo>
                    <a:lnTo>
                      <a:pt x="281" y="41"/>
                    </a:lnTo>
                    <a:lnTo>
                      <a:pt x="290" y="63"/>
                    </a:lnTo>
                    <a:lnTo>
                      <a:pt x="299" y="86"/>
                    </a:lnTo>
                    <a:lnTo>
                      <a:pt x="294" y="122"/>
                    </a:lnTo>
                    <a:lnTo>
                      <a:pt x="272" y="154"/>
                    </a:lnTo>
                    <a:lnTo>
                      <a:pt x="258" y="172"/>
                    </a:lnTo>
                    <a:lnTo>
                      <a:pt x="235" y="181"/>
                    </a:lnTo>
                    <a:lnTo>
                      <a:pt x="177" y="190"/>
                    </a:lnTo>
                    <a:lnTo>
                      <a:pt x="104" y="195"/>
                    </a:lnTo>
                    <a:lnTo>
                      <a:pt x="72" y="195"/>
                    </a:lnTo>
                    <a:lnTo>
                      <a:pt x="36" y="195"/>
                    </a:lnTo>
                    <a:lnTo>
                      <a:pt x="9" y="140"/>
                    </a:lnTo>
                    <a:lnTo>
                      <a:pt x="0" y="100"/>
                    </a:lnTo>
                    <a:lnTo>
                      <a:pt x="0" y="59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18" y="13"/>
                    </a:lnTo>
                    <a:lnTo>
                      <a:pt x="50" y="4"/>
                    </a:lnTo>
                    <a:lnTo>
                      <a:pt x="72" y="0"/>
                    </a:lnTo>
                    <a:lnTo>
                      <a:pt x="113" y="4"/>
                    </a:lnTo>
                    <a:lnTo>
                      <a:pt x="167" y="32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1465200" y="4518720"/>
                <a:ext cx="317520" cy="523440"/>
              </a:xfrm>
              <a:custGeom>
                <a:avLst/>
                <a:gdLst>
                  <a:gd name="textAreaLeft" fmla="*/ 360 w 317520"/>
                  <a:gd name="textAreaRight" fmla="*/ 318240 w 317520"/>
                  <a:gd name="textAreaTop" fmla="*/ 0 h 523440"/>
                  <a:gd name="textAreaBottom" fmla="*/ 523800 h 523440"/>
                </a:gdLst>
                <a:ahLst/>
                <a:rect l="textAreaLeft" t="textAreaTop" r="textAreaRight" b="textAreaBottom"/>
                <a:pathLst>
                  <a:path w="403" h="661">
                    <a:moveTo>
                      <a:pt x="403" y="0"/>
                    </a:moveTo>
                    <a:lnTo>
                      <a:pt x="272" y="167"/>
                    </a:lnTo>
                    <a:lnTo>
                      <a:pt x="149" y="317"/>
                    </a:lnTo>
                    <a:lnTo>
                      <a:pt x="108" y="380"/>
                    </a:lnTo>
                    <a:lnTo>
                      <a:pt x="72" y="453"/>
                    </a:lnTo>
                    <a:lnTo>
                      <a:pt x="50" y="525"/>
                    </a:lnTo>
                    <a:lnTo>
                      <a:pt x="0" y="661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1677960" y="4904640"/>
              <a:ext cx="526320" cy="716400"/>
              <a:chOff x="1677960" y="4904640"/>
              <a:chExt cx="526320" cy="716400"/>
            </a:xfrm>
          </p:grpSpPr>
          <p:sp>
            <p:nvSpPr>
              <p:cNvPr id="308" name=""/>
              <p:cNvSpPr/>
              <p:nvPr/>
            </p:nvSpPr>
            <p:spPr>
              <a:xfrm flipH="1">
                <a:off x="1715040" y="5151960"/>
                <a:ext cx="453960" cy="437400"/>
              </a:xfrm>
              <a:custGeom>
                <a:avLst/>
                <a:gdLst>
                  <a:gd name="textAreaLeft" fmla="*/ -360 w 453960"/>
                  <a:gd name="textAreaRight" fmla="*/ 453960 w 453960"/>
                  <a:gd name="textAreaTop" fmla="*/ 0 h 437400"/>
                  <a:gd name="textAreaBottom" fmla="*/ 437760 h 437400"/>
                </a:gdLst>
                <a:ahLst/>
                <a:rect l="textAreaLeft" t="textAreaTop" r="textAreaRight" b="textAreaBottom"/>
                <a:pathLst>
                  <a:path w="576" h="552">
                    <a:moveTo>
                      <a:pt x="576" y="27"/>
                    </a:moveTo>
                    <a:lnTo>
                      <a:pt x="444" y="108"/>
                    </a:lnTo>
                    <a:lnTo>
                      <a:pt x="381" y="172"/>
                    </a:lnTo>
                    <a:lnTo>
                      <a:pt x="290" y="262"/>
                    </a:lnTo>
                    <a:lnTo>
                      <a:pt x="218" y="358"/>
                    </a:lnTo>
                    <a:lnTo>
                      <a:pt x="164" y="430"/>
                    </a:lnTo>
                    <a:lnTo>
                      <a:pt x="118" y="480"/>
                    </a:lnTo>
                    <a:lnTo>
                      <a:pt x="68" y="516"/>
                    </a:lnTo>
                    <a:lnTo>
                      <a:pt x="46" y="552"/>
                    </a:lnTo>
                    <a:lnTo>
                      <a:pt x="0" y="548"/>
                    </a:lnTo>
                    <a:lnTo>
                      <a:pt x="154" y="339"/>
                    </a:lnTo>
                    <a:lnTo>
                      <a:pt x="241" y="244"/>
                    </a:lnTo>
                    <a:lnTo>
                      <a:pt x="336" y="145"/>
                    </a:lnTo>
                    <a:lnTo>
                      <a:pt x="390" y="99"/>
                    </a:lnTo>
                    <a:lnTo>
                      <a:pt x="453" y="45"/>
                    </a:lnTo>
                    <a:lnTo>
                      <a:pt x="526" y="0"/>
                    </a:lnTo>
                    <a:lnTo>
                      <a:pt x="576" y="27"/>
                    </a:lnTo>
                    <a:close/>
                  </a:path>
                </a:pathLst>
              </a:cu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052720" y="5112360"/>
                <a:ext cx="80640" cy="34416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104" h="435">
                    <a:moveTo>
                      <a:pt x="45" y="0"/>
                    </a:moveTo>
                    <a:lnTo>
                      <a:pt x="99" y="99"/>
                    </a:lnTo>
                    <a:lnTo>
                      <a:pt x="104" y="340"/>
                    </a:lnTo>
                    <a:lnTo>
                      <a:pt x="59" y="435"/>
                    </a:lnTo>
                    <a:lnTo>
                      <a:pt x="63" y="118"/>
                    </a:lnTo>
                    <a:lnTo>
                      <a:pt x="0" y="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1987920" y="4989960"/>
                <a:ext cx="153360" cy="540720"/>
              </a:xfrm>
              <a:custGeom>
                <a:avLst/>
                <a:gdLst>
                  <a:gd name="textAreaLeft" fmla="*/ 360 w 153360"/>
                  <a:gd name="textAreaRight" fmla="*/ 154080 w 15336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194" h="684">
                    <a:moveTo>
                      <a:pt x="194" y="18"/>
                    </a:moveTo>
                    <a:lnTo>
                      <a:pt x="167" y="267"/>
                    </a:lnTo>
                    <a:lnTo>
                      <a:pt x="145" y="448"/>
                    </a:lnTo>
                    <a:lnTo>
                      <a:pt x="4" y="684"/>
                    </a:lnTo>
                    <a:lnTo>
                      <a:pt x="0" y="611"/>
                    </a:lnTo>
                    <a:lnTo>
                      <a:pt x="45" y="543"/>
                    </a:lnTo>
                    <a:lnTo>
                      <a:pt x="40" y="471"/>
                    </a:lnTo>
                    <a:lnTo>
                      <a:pt x="72" y="444"/>
                    </a:lnTo>
                    <a:lnTo>
                      <a:pt x="99" y="371"/>
                    </a:lnTo>
                    <a:lnTo>
                      <a:pt x="122" y="163"/>
                    </a:lnTo>
                    <a:lnTo>
                      <a:pt x="140" y="0"/>
                    </a:lnTo>
                    <a:lnTo>
                      <a:pt x="194" y="18"/>
                    </a:lnTo>
                    <a:close/>
                  </a:path>
                </a:pathLst>
              </a:cu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1839960" y="5034600"/>
                <a:ext cx="363960" cy="586440"/>
              </a:xfrm>
              <a:custGeom>
                <a:avLst/>
                <a:gdLst>
                  <a:gd name="textAreaLeft" fmla="*/ -360 w 363960"/>
                  <a:gd name="textAreaRight" fmla="*/ 363960 w 363960"/>
                  <a:gd name="textAreaTop" fmla="*/ 0 h 586440"/>
                  <a:gd name="textAreaBottom" fmla="*/ 586800 h 586440"/>
                </a:gdLst>
                <a:ahLst/>
                <a:rect l="textAreaLeft" t="textAreaTop" r="textAreaRight" b="textAreaBottom"/>
                <a:pathLst>
                  <a:path w="462" h="743">
                    <a:moveTo>
                      <a:pt x="399" y="0"/>
                    </a:moveTo>
                    <a:lnTo>
                      <a:pt x="299" y="209"/>
                    </a:lnTo>
                    <a:lnTo>
                      <a:pt x="222" y="349"/>
                    </a:lnTo>
                    <a:lnTo>
                      <a:pt x="136" y="526"/>
                    </a:lnTo>
                    <a:lnTo>
                      <a:pt x="77" y="625"/>
                    </a:lnTo>
                    <a:lnTo>
                      <a:pt x="0" y="728"/>
                    </a:lnTo>
                    <a:lnTo>
                      <a:pt x="64" y="743"/>
                    </a:lnTo>
                    <a:lnTo>
                      <a:pt x="163" y="598"/>
                    </a:lnTo>
                    <a:lnTo>
                      <a:pt x="245" y="435"/>
                    </a:lnTo>
                    <a:lnTo>
                      <a:pt x="299" y="331"/>
                    </a:lnTo>
                    <a:lnTo>
                      <a:pt x="394" y="150"/>
                    </a:lnTo>
                    <a:lnTo>
                      <a:pt x="462" y="14"/>
                    </a:lnTo>
                    <a:lnTo>
                      <a:pt x="399" y="0"/>
                    </a:lnTo>
                    <a:close/>
                  </a:path>
                </a:pathLst>
              </a:cu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1677960" y="5112360"/>
                <a:ext cx="79200" cy="835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2091600" y="5069520"/>
                <a:ext cx="91800" cy="756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1813680" y="4947120"/>
                <a:ext cx="87120" cy="1123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1963440" y="4904640"/>
                <a:ext cx="83880" cy="1267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1356840" y="5298120"/>
              <a:ext cx="1033560" cy="998640"/>
              <a:chOff x="1356840" y="5298120"/>
              <a:chExt cx="1033560" cy="99864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1356840" y="5298120"/>
                <a:ext cx="1033560" cy="998640"/>
                <a:chOff x="1356840" y="5298120"/>
                <a:chExt cx="1033560" cy="998640"/>
              </a:xfrm>
            </p:grpSpPr>
            <p:sp>
              <p:nvSpPr>
                <p:cNvPr id="318" name=""/>
                <p:cNvSpPr/>
                <p:nvPr/>
              </p:nvSpPr>
              <p:spPr>
                <a:xfrm flipH="1">
                  <a:off x="1356480" y="5435640"/>
                  <a:ext cx="844920" cy="861120"/>
                </a:xfrm>
                <a:custGeom>
                  <a:avLst/>
                  <a:gdLst>
                    <a:gd name="textAreaLeft" fmla="*/ -360 w 844920"/>
                    <a:gd name="textAreaRight" fmla="*/ 844920 w 844920"/>
                    <a:gd name="textAreaTop" fmla="*/ 0 h 861120"/>
                    <a:gd name="textAreaBottom" fmla="*/ 861120 h 861120"/>
                  </a:gdLst>
                  <a:ahLst/>
                  <a:rect l="textAreaLeft" t="textAreaTop" r="textAreaRight" b="textAreaBottom"/>
                  <a:pathLst>
                    <a:path w="1069" h="1087">
                      <a:moveTo>
                        <a:pt x="68" y="190"/>
                      </a:moveTo>
                      <a:lnTo>
                        <a:pt x="167" y="190"/>
                      </a:lnTo>
                      <a:lnTo>
                        <a:pt x="190" y="203"/>
                      </a:lnTo>
                      <a:lnTo>
                        <a:pt x="244" y="145"/>
                      </a:lnTo>
                      <a:lnTo>
                        <a:pt x="294" y="104"/>
                      </a:lnTo>
                      <a:lnTo>
                        <a:pt x="339" y="90"/>
                      </a:lnTo>
                      <a:lnTo>
                        <a:pt x="394" y="54"/>
                      </a:lnTo>
                      <a:lnTo>
                        <a:pt x="453" y="22"/>
                      </a:lnTo>
                      <a:lnTo>
                        <a:pt x="498" y="4"/>
                      </a:lnTo>
                      <a:lnTo>
                        <a:pt x="566" y="0"/>
                      </a:lnTo>
                      <a:lnTo>
                        <a:pt x="675" y="0"/>
                      </a:lnTo>
                      <a:lnTo>
                        <a:pt x="715" y="9"/>
                      </a:lnTo>
                      <a:lnTo>
                        <a:pt x="774" y="45"/>
                      </a:lnTo>
                      <a:lnTo>
                        <a:pt x="811" y="72"/>
                      </a:lnTo>
                      <a:lnTo>
                        <a:pt x="847" y="122"/>
                      </a:lnTo>
                      <a:lnTo>
                        <a:pt x="901" y="172"/>
                      </a:lnTo>
                      <a:lnTo>
                        <a:pt x="919" y="194"/>
                      </a:lnTo>
                      <a:lnTo>
                        <a:pt x="978" y="303"/>
                      </a:lnTo>
                      <a:lnTo>
                        <a:pt x="992" y="344"/>
                      </a:lnTo>
                      <a:lnTo>
                        <a:pt x="996" y="380"/>
                      </a:lnTo>
                      <a:lnTo>
                        <a:pt x="1010" y="412"/>
                      </a:lnTo>
                      <a:lnTo>
                        <a:pt x="1046" y="462"/>
                      </a:lnTo>
                      <a:lnTo>
                        <a:pt x="1051" y="493"/>
                      </a:lnTo>
                      <a:lnTo>
                        <a:pt x="1051" y="752"/>
                      </a:lnTo>
                      <a:lnTo>
                        <a:pt x="1064" y="797"/>
                      </a:lnTo>
                      <a:lnTo>
                        <a:pt x="1069" y="851"/>
                      </a:lnTo>
                      <a:lnTo>
                        <a:pt x="1060" y="928"/>
                      </a:lnTo>
                      <a:lnTo>
                        <a:pt x="987" y="1087"/>
                      </a:lnTo>
                      <a:lnTo>
                        <a:pt x="960" y="1010"/>
                      </a:lnTo>
                      <a:lnTo>
                        <a:pt x="860" y="956"/>
                      </a:lnTo>
                      <a:lnTo>
                        <a:pt x="779" y="897"/>
                      </a:lnTo>
                      <a:lnTo>
                        <a:pt x="765" y="874"/>
                      </a:lnTo>
                      <a:lnTo>
                        <a:pt x="693" y="747"/>
                      </a:lnTo>
                      <a:lnTo>
                        <a:pt x="629" y="661"/>
                      </a:lnTo>
                      <a:lnTo>
                        <a:pt x="575" y="602"/>
                      </a:lnTo>
                      <a:lnTo>
                        <a:pt x="493" y="543"/>
                      </a:lnTo>
                      <a:lnTo>
                        <a:pt x="412" y="507"/>
                      </a:lnTo>
                      <a:lnTo>
                        <a:pt x="335" y="471"/>
                      </a:lnTo>
                      <a:lnTo>
                        <a:pt x="285" y="462"/>
                      </a:lnTo>
                      <a:lnTo>
                        <a:pt x="258" y="462"/>
                      </a:lnTo>
                      <a:lnTo>
                        <a:pt x="235" y="444"/>
                      </a:lnTo>
                      <a:lnTo>
                        <a:pt x="204" y="425"/>
                      </a:lnTo>
                      <a:lnTo>
                        <a:pt x="190" y="398"/>
                      </a:lnTo>
                      <a:lnTo>
                        <a:pt x="131" y="353"/>
                      </a:lnTo>
                      <a:lnTo>
                        <a:pt x="0" y="212"/>
                      </a:lnTo>
                      <a:lnTo>
                        <a:pt x="68" y="190"/>
                      </a:lnTo>
                      <a:close/>
                    </a:path>
                  </a:pathLst>
                </a:cu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2256120" y="5488200"/>
                  <a:ext cx="20160" cy="201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2241720" y="5407200"/>
                  <a:ext cx="20160" cy="201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2118960" y="5602320"/>
                  <a:ext cx="20520" cy="21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2061000" y="5612040"/>
                  <a:ext cx="18720" cy="21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1890360" y="5714640"/>
                  <a:ext cx="20520" cy="21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1946880" y="5732280"/>
                  <a:ext cx="18720" cy="201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>
                  <a:off x="2005560" y="5634000"/>
                  <a:ext cx="122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>
                  <a:off x="2081160" y="5597640"/>
                  <a:ext cx="15480" cy="1548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>
                  <a:off x="2094480" y="5616720"/>
                  <a:ext cx="10800" cy="90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>
                  <a:off x="1995840" y="5706720"/>
                  <a:ext cx="9360" cy="93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>
                  <a:off x="1973160" y="569556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040" bIns="-41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>
                  <a:off x="1903320" y="5687640"/>
                  <a:ext cx="9000" cy="93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>
                  <a:off x="1920600" y="573876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>
                  <a:off x="1870920" y="5762520"/>
                  <a:ext cx="122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>
                  <a:off x="2232000" y="5454720"/>
                  <a:ext cx="10800" cy="108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>
                  <a:off x="2168640" y="5442120"/>
                  <a:ext cx="122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2295720" y="5427720"/>
                  <a:ext cx="12240" cy="126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2291040" y="5403960"/>
                  <a:ext cx="122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2355120" y="5443560"/>
                  <a:ext cx="12600" cy="126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>
                  <a:off x="2211480" y="5392800"/>
                  <a:ext cx="12240" cy="126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>
                  <a:off x="2171160" y="5332680"/>
                  <a:ext cx="9000" cy="108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>
                  <a:off x="2221920" y="531036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2275920" y="533880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2328840" y="5298120"/>
                  <a:ext cx="9360" cy="108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2378160" y="5335560"/>
                  <a:ext cx="12240" cy="126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2376720" y="5400720"/>
                  <a:ext cx="12240" cy="126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 flipH="1">
                <a:off x="1449360" y="5586480"/>
                <a:ext cx="380880" cy="561240"/>
              </a:xfrm>
              <a:custGeom>
                <a:avLst/>
                <a:gdLst>
                  <a:gd name="textAreaLeft" fmla="*/ 360 w 380880"/>
                  <a:gd name="textAreaRight" fmla="*/ 381600 w 380880"/>
                  <a:gd name="textAreaTop" fmla="*/ 0 h 561240"/>
                  <a:gd name="textAreaBottom" fmla="*/ 561240 h 561240"/>
                </a:gdLst>
                <a:ahLst/>
                <a:rect l="textAreaLeft" t="textAreaTop" r="textAreaRight" b="textAreaBottom"/>
                <a:pathLst>
                  <a:path w="480" h="712">
                    <a:moveTo>
                      <a:pt x="0" y="0"/>
                    </a:moveTo>
                    <a:lnTo>
                      <a:pt x="127" y="59"/>
                    </a:lnTo>
                    <a:lnTo>
                      <a:pt x="222" y="150"/>
                    </a:lnTo>
                    <a:lnTo>
                      <a:pt x="285" y="218"/>
                    </a:lnTo>
                    <a:lnTo>
                      <a:pt x="331" y="290"/>
                    </a:lnTo>
                    <a:lnTo>
                      <a:pt x="380" y="385"/>
                    </a:lnTo>
                    <a:lnTo>
                      <a:pt x="417" y="499"/>
                    </a:lnTo>
                    <a:lnTo>
                      <a:pt x="471" y="621"/>
                    </a:lnTo>
                    <a:lnTo>
                      <a:pt x="480" y="680"/>
                    </a:lnTo>
                    <a:lnTo>
                      <a:pt x="480" y="712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1763640" y="5180400"/>
              <a:ext cx="622080" cy="602280"/>
              <a:chOff x="1763640" y="5180400"/>
              <a:chExt cx="622080" cy="602280"/>
            </a:xfrm>
          </p:grpSpPr>
          <p:sp>
            <p:nvSpPr>
              <p:cNvPr id="347" name=""/>
              <p:cNvSpPr/>
              <p:nvPr/>
            </p:nvSpPr>
            <p:spPr>
              <a:xfrm flipH="1">
                <a:off x="1804680" y="5544360"/>
                <a:ext cx="2016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1802160" y="5610600"/>
                <a:ext cx="2052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1869840" y="5695920"/>
                <a:ext cx="1872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1810800" y="5678640"/>
                <a:ext cx="18720" cy="205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1839600" y="5761080"/>
                <a:ext cx="18720" cy="21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1796760" y="5514120"/>
                <a:ext cx="13680" cy="154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1951200" y="5718240"/>
                <a:ext cx="9000" cy="108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1972440" y="5727600"/>
                <a:ext cx="9360" cy="108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1918080" y="5732280"/>
                <a:ext cx="14040" cy="12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1906920" y="5716440"/>
                <a:ext cx="1404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1806120" y="5727600"/>
                <a:ext cx="10800" cy="93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1951920" y="5678640"/>
                <a:ext cx="18720" cy="205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1852200" y="565812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1763640" y="5616720"/>
                <a:ext cx="18720" cy="205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2183400" y="5335200"/>
                <a:ext cx="20160" cy="205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2365560" y="543024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2333880" y="5438160"/>
                <a:ext cx="1872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2266200" y="5473080"/>
                <a:ext cx="2052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2279880" y="5376600"/>
                <a:ext cx="1872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2279880" y="531144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909440" y="560412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871280" y="5533200"/>
                <a:ext cx="20160" cy="21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1836360" y="5502960"/>
                <a:ext cx="2016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2138760" y="5333760"/>
                <a:ext cx="1872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2192040" y="5388840"/>
                <a:ext cx="20520" cy="205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2244960" y="5322600"/>
                <a:ext cx="1872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1899000" y="5648760"/>
                <a:ext cx="140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1827720" y="5624640"/>
                <a:ext cx="1404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1942560" y="5650200"/>
                <a:ext cx="13680" cy="154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1974960" y="5610600"/>
                <a:ext cx="15480" cy="136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1990080" y="5637600"/>
                <a:ext cx="122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1899000" y="5576040"/>
                <a:ext cx="126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2237040" y="5487120"/>
                <a:ext cx="1224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238480" y="5447880"/>
                <a:ext cx="17280" cy="16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2258280" y="5417640"/>
                <a:ext cx="126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2276640" y="5431680"/>
                <a:ext cx="12240" cy="12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2219760" y="5302080"/>
                <a:ext cx="1224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238480" y="5276880"/>
                <a:ext cx="10800" cy="93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169000" y="5268960"/>
                <a:ext cx="20160" cy="18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111040" y="5248440"/>
                <a:ext cx="2052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2203920" y="5248440"/>
                <a:ext cx="2016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2235240" y="5585040"/>
                <a:ext cx="18720" cy="205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2196000" y="5580720"/>
                <a:ext cx="1872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2256120" y="5534640"/>
                <a:ext cx="2016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2302200" y="551232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2349720" y="5495040"/>
                <a:ext cx="26640" cy="26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2148480" y="5482440"/>
                <a:ext cx="1872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2210400" y="5446080"/>
                <a:ext cx="2016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2143080" y="5428800"/>
                <a:ext cx="18360" cy="21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2116800" y="5387400"/>
                <a:ext cx="2016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110320" y="5306760"/>
                <a:ext cx="1872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2363040" y="5367240"/>
                <a:ext cx="20520" cy="21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2233800" y="5364000"/>
                <a:ext cx="2016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2238480" y="529884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2046600" y="5629680"/>
                <a:ext cx="1836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1861920" y="5598000"/>
                <a:ext cx="2016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1817280" y="557604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1937520" y="5563080"/>
                <a:ext cx="18720" cy="205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1813320" y="5483880"/>
                <a:ext cx="2052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1842840" y="537192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1872000" y="5395320"/>
                <a:ext cx="2052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2191320" y="5302080"/>
                <a:ext cx="1872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2134080" y="5284440"/>
                <a:ext cx="18720" cy="205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1877760" y="5454000"/>
                <a:ext cx="20160" cy="205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1915920" y="5493240"/>
                <a:ext cx="12240" cy="12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1939320" y="5510880"/>
                <a:ext cx="122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1960560" y="5536440"/>
                <a:ext cx="14040" cy="136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1977480" y="5550480"/>
                <a:ext cx="122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2336400" y="5373360"/>
                <a:ext cx="16920" cy="172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2147760" y="5256360"/>
                <a:ext cx="9000" cy="108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2276640" y="5214960"/>
                <a:ext cx="12240" cy="12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2105640" y="5180400"/>
                <a:ext cx="18720" cy="18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2065320" y="5441400"/>
                <a:ext cx="20520" cy="201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2116800" y="5479560"/>
                <a:ext cx="1224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2124720" y="5526720"/>
                <a:ext cx="20160" cy="219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2080080" y="5477760"/>
                <a:ext cx="20160" cy="205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1850760" y="5229360"/>
                <a:ext cx="21600" cy="219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1925640" y="5191200"/>
                <a:ext cx="1260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1881720" y="5276880"/>
                <a:ext cx="15480" cy="140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5786280" y="4579920"/>
            <a:ext cx="3124440" cy="227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dur="indefinite" fill="hold">
                      <p:stCondLst>
                        <p:cond delay="0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0" y="500040"/>
            <a:ext cx="9144000" cy="3643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пения 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мей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агополучия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0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ете ли вы, где и с кем ребенок проводит свое свободное врем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ин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нет, но догадываюс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720720"/>
            <a:ext cx="822960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считайте отдельно количество высказываний а, б, 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лидирует ответ а. Вы знаете своего ребенка, знаете, что ребенок нуждается в вашей помощи, и оказываете эту помощь своевремен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14:45:44Z</dcterms:created>
  <dc:creator>1</dc:creator>
  <dc:description/>
  <dc:language>en-US</dc:language>
  <cp:lastModifiedBy>1</cp:lastModifiedBy>
  <dcterms:modified xsi:type="dcterms:W3CDTF">2013-12-18T16:07:20Z</dcterms:modified>
  <cp:revision>11</cp:revision>
  <dc:subject/>
  <dc:title>Эмоциональная жизнь подростка</dc:title>
</cp:coreProperties>
</file>