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152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5B620-B7F5-488E-9612-507CF63032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9FFDA-5727-490D-B2E5-F1D5D8FB10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6D805-5B56-4FCC-A010-57A61D4F27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11306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4520" y="4063680"/>
            <a:ext cx="11306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E8375-DF68-4B71-B6B5-66811DD4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08000" y="175392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4520" y="406368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08000" y="406368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7CC9D-169E-4C43-AB11-EA095416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3640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37360" y="1753920"/>
            <a:ext cx="3640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59840" y="1753920"/>
            <a:ext cx="3640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4520" y="4063680"/>
            <a:ext cx="3640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37360" y="4063680"/>
            <a:ext cx="3640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59840" y="4063680"/>
            <a:ext cx="3640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C3B02-541B-48DC-B2E8-AA658C30D2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1FB8F-8DC6-4B8A-98FE-EDF9C1BE29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4520" y="1753920"/>
            <a:ext cx="113061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E3142-3E8A-4F5F-838A-63AC68FE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11306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2F7D8-E525-49AC-9E57-FDC0BA8A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5517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08000" y="1753920"/>
            <a:ext cx="5517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43467-6D87-4738-8B12-C0944184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1629D-5539-4574-B5ED-A5233C95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4520" y="274680"/>
            <a:ext cx="11306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377B1-EAE6-4161-9FC1-79446892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408000" y="1753920"/>
            <a:ext cx="5517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4520" y="406368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246BE-B41C-4F2B-B32A-9A5B63FC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4520" y="1753920"/>
            <a:ext cx="113061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74B77-3B05-42FD-B167-3447E1ED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5517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408000" y="175392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08000" y="406368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AEACA-A4FF-4EB9-830B-1CB82BF7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408000" y="175392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4520" y="4063680"/>
            <a:ext cx="11306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63F7A-B70F-4D63-BC38-C577CC10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11306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4520" y="4063680"/>
            <a:ext cx="11306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E24EA-1063-4FC1-91DF-CC2A36D1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08000" y="175392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4520" y="406368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408000" y="406368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029C9-38A7-4F79-9500-090A03E9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3640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37360" y="1753920"/>
            <a:ext cx="3640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59840" y="1753920"/>
            <a:ext cx="3640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4520" y="4063680"/>
            <a:ext cx="3640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37360" y="4063680"/>
            <a:ext cx="3640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259840" y="4063680"/>
            <a:ext cx="3640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7E25E-E024-41FD-AC02-2A19354433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11306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83D3A-EB56-43DA-BA41-CFFD5BDE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5517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08000" y="1753920"/>
            <a:ext cx="5517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AA68E-F824-4DD8-9217-73E01A7D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1F3AC-08BF-49BE-A488-AC316BDF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4520" y="274680"/>
            <a:ext cx="11306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EF58C-AAF5-4728-AEE1-4F4D9C5E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08000" y="1753920"/>
            <a:ext cx="5517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4520" y="406368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AA1AF-EABB-49D8-A422-7010AA33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5517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08000" y="175392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08000" y="406368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39DF0-93F9-4D1B-B0EA-95A212C6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08000" y="175392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4520" y="4063680"/>
            <a:ext cx="11306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0044B-ABD2-4113-B247-21A313A7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4520" y="1604880"/>
            <a:ext cx="876636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4520" y="4332240"/>
            <a:ext cx="87663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2000"/>
          </a:bodyPr>
          <a:p>
            <a:pPr marL="144000" indent="-1440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11760" indent="-1198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479880" indent="-9576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671760" indent="-9576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864000" indent="-9576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864000" indent="-9576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864000" indent="-9576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358D0-F148-48FF-ABDD-2C74E5EF274C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4520" y="1753920"/>
            <a:ext cx="11306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D4A97-B4D6-4A6D-AB48-C546CDB116E1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9.xml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0.jpe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image" Target="../media/image11.jpe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slide" Target="slide29.xml"/><Relationship Id="rId27" Type="http://schemas.openxmlformats.org/officeDocument/2006/relationships/image" Target="../media/image3.png"/><Relationship Id="rId28" Type="http://schemas.openxmlformats.org/officeDocument/2006/relationships/image" Target="../media/image9.jpeg"/><Relationship Id="rId29" Type="http://schemas.openxmlformats.org/officeDocument/2006/relationships/image" Target="../media/image9.jpeg"/><Relationship Id="rId30" Type="http://schemas.openxmlformats.org/officeDocument/2006/relationships/image" Target="../media/image12.png"/><Relationship Id="rId31" Type="http://schemas.openxmlformats.org/officeDocument/2006/relationships/slide" Target="slide4.xml"/><Relationship Id="rId32" Type="http://schemas.openxmlformats.org/officeDocument/2006/relationships/slide" Target="slide5.xml"/><Relationship Id="rId33" Type="http://schemas.openxmlformats.org/officeDocument/2006/relationships/slide" Target="slide6.xml"/><Relationship Id="rId34" Type="http://schemas.openxmlformats.org/officeDocument/2006/relationships/slide" Target="slide7.xml"/><Relationship Id="rId35" Type="http://schemas.openxmlformats.org/officeDocument/2006/relationships/slide" Target="slide9.xml"/><Relationship Id="rId36" Type="http://schemas.openxmlformats.org/officeDocument/2006/relationships/slide" Target="slide8.xml"/><Relationship Id="rId37" Type="http://schemas.openxmlformats.org/officeDocument/2006/relationships/slide" Target="slide10.xml"/><Relationship Id="rId38" Type="http://schemas.openxmlformats.org/officeDocument/2006/relationships/slide" Target="slide11.xml"/><Relationship Id="rId39" Type="http://schemas.openxmlformats.org/officeDocument/2006/relationships/slide" Target="slide12.xml"/><Relationship Id="rId40" Type="http://schemas.openxmlformats.org/officeDocument/2006/relationships/slide" Target="slide13.xml"/><Relationship Id="rId41" Type="http://schemas.openxmlformats.org/officeDocument/2006/relationships/slide" Target="slide14.xml"/><Relationship Id="rId42" Type="http://schemas.openxmlformats.org/officeDocument/2006/relationships/slide" Target="slide15.xml"/><Relationship Id="rId43" Type="http://schemas.openxmlformats.org/officeDocument/2006/relationships/slide" Target="slide16.xml"/><Relationship Id="rId44" Type="http://schemas.openxmlformats.org/officeDocument/2006/relationships/slide" Target="slide17.xml"/><Relationship Id="rId45" Type="http://schemas.openxmlformats.org/officeDocument/2006/relationships/slide" Target="slide18.xml"/><Relationship Id="rId46" Type="http://schemas.openxmlformats.org/officeDocument/2006/relationships/slide" Target="slide19.xml"/><Relationship Id="rId47" Type="http://schemas.openxmlformats.org/officeDocument/2006/relationships/slide" Target="slide20.xml"/><Relationship Id="rId48" Type="http://schemas.openxmlformats.org/officeDocument/2006/relationships/slide" Target="slide21.xml"/><Relationship Id="rId49" Type="http://schemas.openxmlformats.org/officeDocument/2006/relationships/slide" Target="slide22.xml"/><Relationship Id="rId50" Type="http://schemas.openxmlformats.org/officeDocument/2006/relationships/slide" Target="slide23.xml"/><Relationship Id="rId51" Type="http://schemas.openxmlformats.org/officeDocument/2006/relationships/slide" Target="slide24.xml"/><Relationship Id="rId52" Type="http://schemas.openxmlformats.org/officeDocument/2006/relationships/slide" Target="slide25.xml"/><Relationship Id="rId53" Type="http://schemas.openxmlformats.org/officeDocument/2006/relationships/slide" Target="slide26.xml"/><Relationship Id="rId54" Type="http://schemas.openxmlformats.org/officeDocument/2006/relationships/slide" Target="slide27.xml"/><Relationship Id="rId55" Type="http://schemas.openxmlformats.org/officeDocument/2006/relationships/slide" Target="slide28.xml"/><Relationship Id="rId56" Type="http://schemas.openxmlformats.org/officeDocument/2006/relationships/slide" Target="slide29.xml"/><Relationship Id="rId5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s://st.weblancer.net/download/233864_935xp.png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4520" y="1604880"/>
            <a:ext cx="876636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гра </a:t>
            </a:r>
            <a:r>
              <a:rPr b="1" lang="ru-RU" sz="4800" spc="-1" strike="noStrike">
                <a:solidFill>
                  <a:srgbClr val="3333cc"/>
                </a:solidFill>
                <a:latin typeface="Calibri"/>
              </a:rPr>
              <a:t>«КОТ В МЕШКЕ»</a:t>
            </a:r>
            <a:br>
              <a:rPr sz="4800"/>
            </a:b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11160" y="4332240"/>
            <a:ext cx="58597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Georgia"/>
              </a:rPr>
              <a:t>Подготовила Евсеева Ирина Серафимовн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2" name="Picture 5" descr="233864_935xp"/>
          <p:cNvPicPr/>
          <p:nvPr/>
        </p:nvPicPr>
        <p:blipFill>
          <a:blip r:embed="rId1"/>
          <a:stretch/>
        </p:blipFill>
        <p:spPr>
          <a:xfrm>
            <a:off x="9191520" y="2060640"/>
            <a:ext cx="1268640" cy="2089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2363400" y="514440"/>
            <a:ext cx="199116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 - 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162200" y="620640"/>
            <a:ext cx="231444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К: люб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631880" y="4365720"/>
            <a:ext cx="287964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3880" y="1714320"/>
            <a:ext cx="1130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У Бабы Яги собиралось 15 внуков и внучек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оличество внучек составляет половину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оличества внуков. Сколько внуков и внучек у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Бабы Яги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1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6"/>
          <p:cNvSpPr/>
          <p:nvPr/>
        </p:nvSpPr>
        <p:spPr>
          <a:xfrm>
            <a:off x="4008600" y="5429160"/>
            <a:ext cx="71276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5внучек, 10вну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2d2db9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2d2db9"/>
                </a:solidFill>
                <a:latin typeface="Arial"/>
              </a:rPr>
              <a:t> 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50800" y="1412640"/>
            <a:ext cx="1130616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акое наименьшее количество конфет надо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обавить к 111 уже имеющимся конфетам,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чтобы получившееся количество конфет можно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было полностью разложить по пакетам по 9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онфет в каждом?    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6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6"/>
          <p:cNvSpPr/>
          <p:nvPr/>
        </p:nvSpPr>
        <p:spPr>
          <a:xfrm>
            <a:off x="5095800" y="5429160"/>
            <a:ext cx="2786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95440" y="1857240"/>
            <a:ext cx="11190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дин старик прожил 12 лет одних пятниц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колько всего лет прожил старик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1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5095800" y="5429160"/>
            <a:ext cx="2786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2d2db9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2d2db9"/>
                </a:solidFill>
                <a:latin typeface="Arial"/>
              </a:rPr>
              <a:t> 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4520" y="1754280"/>
            <a:ext cx="1130616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ешить уравнение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 : х = 36 : 12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217" name="TextBox 6"/>
          <p:cNvSpPr/>
          <p:nvPr/>
        </p:nvSpPr>
        <p:spPr>
          <a:xfrm>
            <a:off x="5095800" y="5429160"/>
            <a:ext cx="2786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2d2db9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2d2db9"/>
                </a:solidFill>
                <a:latin typeface="Arial"/>
              </a:rPr>
              <a:t> 1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800" y="4941720"/>
            <a:ext cx="2376360" cy="17449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614520" y="1341360"/>
            <a:ext cx="113061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Музыкальный конкурс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омандам предлагается петь по строчке из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есен, где встречаются числа. Команды поют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о очереди. Повторяться нельзя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обеждает команда, которая споет больше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есен. 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1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50800" y="1412640"/>
            <a:ext cx="1130616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 однозначному числу  приписали такую же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цифру. Во сколько раз изменится число?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4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5095800" y="5429160"/>
            <a:ext cx="4888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в 11 р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1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50800" y="1267920"/>
            <a:ext cx="1130616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числить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лощад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фигуры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21"/>
          <p:cNvGrpSpPr/>
          <p:nvPr/>
        </p:nvGrpSpPr>
        <p:grpSpPr>
          <a:xfrm>
            <a:off x="3952800" y="2000160"/>
            <a:ext cx="5113440" cy="3081240"/>
            <a:chOff x="3952800" y="2000160"/>
            <a:chExt cx="5113440" cy="3081240"/>
          </a:xfrm>
        </p:grpSpPr>
        <p:sp>
          <p:nvSpPr>
            <p:cNvPr id="231" name="Text Box 3"/>
            <p:cNvSpPr/>
            <p:nvPr/>
          </p:nvSpPr>
          <p:spPr>
            <a:xfrm>
              <a:off x="3952800" y="2287440"/>
              <a:ext cx="7923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800" spc="-1" strike="noStrike">
                  <a:solidFill>
                    <a:srgbClr val="2d2db9"/>
                  </a:solidFill>
                  <a:latin typeface="Arial"/>
                </a:rPr>
                <a:t>6</a:t>
              </a:r>
              <a:r>
                <a:rPr b="1" lang="en-US" sz="2800" spc="-1" strike="noStrike">
                  <a:solidFill>
                    <a:srgbClr val="2d2db9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2d2db9"/>
                  </a:solidFill>
                  <a:latin typeface="Arial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7337520" y="4590720"/>
              <a:ext cx="12589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800" spc="-1" strike="noStrike">
                  <a:solidFill>
                    <a:srgbClr val="2d2db9"/>
                  </a:solidFill>
                  <a:latin typeface="Arial"/>
                </a:rPr>
                <a:t>15 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20"/>
            <p:cNvGrpSpPr/>
            <p:nvPr/>
          </p:nvGrpSpPr>
          <p:grpSpPr>
            <a:xfrm>
              <a:off x="4673520" y="2000160"/>
              <a:ext cx="4392720" cy="2590560"/>
              <a:chOff x="4673520" y="2000160"/>
              <a:chExt cx="4392720" cy="2590560"/>
            </a:xfrm>
          </p:grpSpPr>
          <p:sp>
            <p:nvSpPr>
              <p:cNvPr id="234" name="Rectangle 18"/>
              <p:cNvSpPr/>
              <p:nvPr/>
            </p:nvSpPr>
            <p:spPr>
              <a:xfrm>
                <a:off x="4673520" y="2000160"/>
                <a:ext cx="4392720" cy="251928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9"/>
              <p:cNvSpPr/>
              <p:nvPr/>
            </p:nvSpPr>
            <p:spPr>
              <a:xfrm>
                <a:off x="4673520" y="3224160"/>
                <a:ext cx="1727280" cy="1366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Text Box 4"/>
            <p:cNvSpPr/>
            <p:nvPr/>
          </p:nvSpPr>
          <p:spPr>
            <a:xfrm>
              <a:off x="5608800" y="3655800"/>
              <a:ext cx="10810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800" spc="-1" strike="noStrike">
                  <a:solidFill>
                    <a:srgbClr val="2d2db9"/>
                  </a:solidFill>
                  <a:latin typeface="Arial"/>
                </a:rPr>
                <a:t>8 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7"/>
            <p:cNvSpPr/>
            <p:nvPr/>
          </p:nvSpPr>
          <p:spPr>
            <a:xfrm>
              <a:off x="5105520" y="2647800"/>
              <a:ext cx="12762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800" spc="-1" strike="noStrike">
                  <a:solidFill>
                    <a:srgbClr val="2d2db9"/>
                  </a:solidFill>
                  <a:latin typeface="Arial"/>
                </a:rPr>
                <a:t>10 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Прямая соединительная линия 15"/>
          <p:cNvSpPr/>
          <p:nvPr/>
        </p:nvSpPr>
        <p:spPr>
          <a:xfrm>
            <a:off x="4667400" y="3143160"/>
            <a:ext cx="1714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17"/>
          <p:cNvSpPr/>
          <p:nvPr/>
        </p:nvSpPr>
        <p:spPr>
          <a:xfrm flipH="1">
            <a:off x="6381720" y="314316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0"/>
          <p:cNvSpPr/>
          <p:nvPr/>
        </p:nvSpPr>
        <p:spPr>
          <a:xfrm>
            <a:off x="5095800" y="5429160"/>
            <a:ext cx="3970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2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2d2db9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2d2db9"/>
                </a:solidFill>
                <a:latin typeface="Arial"/>
              </a:rPr>
              <a:t>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4520" y="1341360"/>
            <a:ext cx="113061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3352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Игра болельщиков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За каждый правильный ответ болельщиков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оманда получает 1 балл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2d2db9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2d2db9"/>
                </a:solidFill>
                <a:latin typeface="Arial"/>
              </a:rPr>
              <a:t> 1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3880" y="1571760"/>
            <a:ext cx="1130616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Из спичек выложено верное равенство. Надо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ереложить одну спичку так, чтобы получилось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ругое верное равенство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X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­V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8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249" name="TextBox 6"/>
          <p:cNvSpPr/>
          <p:nvPr/>
        </p:nvSpPr>
        <p:spPr>
          <a:xfrm>
            <a:off x="5097600" y="5446800"/>
            <a:ext cx="48862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1" lang="ru-RU" sz="4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1" lang="ru-RU" sz="4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VI</a:t>
            </a:r>
            <a:r>
              <a:rPr b="1" lang="ru-RU" sz="4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4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1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79520" y="1642680"/>
            <a:ext cx="1130616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 автомобиле « Жигули» на крепление фар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ребуется 14 винтов. Завод ежедневно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ыпускает 288 автомобилей. На складе имеется 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20 500 винтов. Хватит ли их на месяц работы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3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254" name="TextBox 6"/>
          <p:cNvSpPr/>
          <p:nvPr/>
        </p:nvSpPr>
        <p:spPr>
          <a:xfrm>
            <a:off x="5095800" y="5429160"/>
            <a:ext cx="43848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не хват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4520" y="274320"/>
            <a:ext cx="11306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Правила игр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3880" y="1773000"/>
            <a:ext cx="11306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правильно решенное задание – 1балл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ния выбираете по очеред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игрывает тот, кто набрал больше всего баллов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9" name="Рисунок 4" descr=""/>
          <p:cNvPicPr/>
          <p:nvPr/>
        </p:nvPicPr>
        <p:blipFill>
          <a:blip r:embed="rId1"/>
          <a:stretch/>
        </p:blipFill>
        <p:spPr>
          <a:xfrm>
            <a:off x="623880" y="189000"/>
            <a:ext cx="2735280" cy="200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233864_935x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294920" y="4724280"/>
            <a:ext cx="1709640" cy="194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1525136"/>
          <p:cNvPicPr/>
          <p:nvPr/>
        </p:nvPicPr>
        <p:blipFill>
          <a:blip r:embed="rId4"/>
          <a:stretch/>
        </p:blipFill>
        <p:spPr>
          <a:xfrm>
            <a:off x="766800" y="4724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b080cb361412837d318d0e004365aa92"/>
          <p:cNvPicPr/>
          <p:nvPr/>
        </p:nvPicPr>
        <p:blipFill>
          <a:blip r:embed="rId5"/>
          <a:stretch/>
        </p:blipFill>
        <p:spPr>
          <a:xfrm>
            <a:off x="3071880" y="4797360"/>
            <a:ext cx="2016000" cy="1873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20954638"/>
          <p:cNvPicPr/>
          <p:nvPr/>
        </p:nvPicPr>
        <p:blipFill>
          <a:blip r:embed="rId6"/>
          <a:stretch/>
        </p:blipFill>
        <p:spPr>
          <a:xfrm>
            <a:off x="5591160" y="4869000"/>
            <a:ext cx="1944720" cy="1617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norm"/>
          <p:cNvPicPr/>
          <p:nvPr/>
        </p:nvPicPr>
        <p:blipFill>
          <a:blip r:embed="rId7"/>
          <a:stretch/>
        </p:blipFill>
        <p:spPr>
          <a:xfrm>
            <a:off x="8112240" y="4797360"/>
            <a:ext cx="2160360" cy="1800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0"/>
          <p:cNvSpPr/>
          <p:nvPr/>
        </p:nvSpPr>
        <p:spPr>
          <a:xfrm>
            <a:off x="911160" y="620640"/>
            <a:ext cx="1843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1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79520" y="1341000"/>
            <a:ext cx="1130616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колько четырехугольников вы видите?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8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5"/>
          <p:cNvSpPr/>
          <p:nvPr/>
        </p:nvSpPr>
        <p:spPr>
          <a:xfrm>
            <a:off x="3071880" y="2205000"/>
            <a:ext cx="5643360" cy="278604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7"/>
          <p:cNvSpPr/>
          <p:nvPr/>
        </p:nvSpPr>
        <p:spPr>
          <a:xfrm>
            <a:off x="3071880" y="2205000"/>
            <a:ext cx="1714320" cy="278604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7"/>
          <p:cNvSpPr/>
          <p:nvPr/>
        </p:nvSpPr>
        <p:spPr>
          <a:xfrm>
            <a:off x="6958800" y="2205000"/>
            <a:ext cx="1714680" cy="278604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7"/>
          <p:cNvSpPr/>
          <p:nvPr/>
        </p:nvSpPr>
        <p:spPr>
          <a:xfrm>
            <a:off x="5016600" y="2205000"/>
            <a:ext cx="1714320" cy="278604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5095800" y="5429160"/>
            <a:ext cx="2786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1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50800" y="1214280"/>
            <a:ext cx="1130616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 классе 28 учеников. Они решили поехать в  Выборг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сем классом вместе с классным руководителем и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ителем физкультуры. На автовокзале выяснилось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то на ближайший автобус продано уже 23 билета, а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 следующий за ним продано 18 билетов. В каждом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втобусе 36 мест.  Может ли весь класс уехать этими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вумя автобусами?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7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268" name="TextBox 6"/>
          <p:cNvSpPr/>
          <p:nvPr/>
        </p:nvSpPr>
        <p:spPr>
          <a:xfrm>
            <a:off x="3143160" y="5581800"/>
            <a:ext cx="892980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Ответ: смогут, так как остался 31би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600" spc="-1" strike="noStrike">
                <a:solidFill>
                  <a:srgbClr val="ff3399"/>
                </a:solidFill>
                <a:latin typeface="Arial"/>
              </a:rPr>
              <a:t>Сюрприз!!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4" descr="20954638"/>
          <p:cNvPicPr/>
          <p:nvPr/>
        </p:nvPicPr>
        <p:blipFill>
          <a:blip r:embed="rId1"/>
          <a:stretch/>
        </p:blipFill>
        <p:spPr>
          <a:xfrm>
            <a:off x="6576840" y="1052640"/>
            <a:ext cx="5615280" cy="54734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5"/>
          <p:cNvSpPr/>
          <p:nvPr/>
        </p:nvSpPr>
        <p:spPr>
          <a:xfrm>
            <a:off x="766800" y="2060640"/>
            <a:ext cx="54007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ОТ, кто выбрал этот ном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лучает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7120440" y="4581360"/>
            <a:ext cx="34009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+ 3 бал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2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66720" y="1928880"/>
            <a:ext cx="11190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колько различных двузначных чисел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уществует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8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279" name="TextBox 6"/>
          <p:cNvSpPr/>
          <p:nvPr/>
        </p:nvSpPr>
        <p:spPr>
          <a:xfrm>
            <a:off x="5095800" y="5429160"/>
            <a:ext cx="2786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2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94800" y="1557000"/>
            <a:ext cx="113065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Конкурс капитанов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аждому капитану вручается стакан с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фасолью. Надо попытаться угадать сколько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фасолин в стакане. Побеждает та команда,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оторая даст ответ, наиболее близкий к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ому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3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2d2db9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2d2db9"/>
                </a:solidFill>
                <a:latin typeface="Arial"/>
              </a:rPr>
              <a:t> 2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50800" y="1628280"/>
            <a:ext cx="113061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Исключить лишнее слово:                   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ТРЕУГОЛЬНИК, ПРЯМОУГОЛЬНИК, КВАДРАТ,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ПАРАЛЛЕЛЕПИПЕД             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TextBox 6"/>
          <p:cNvSpPr/>
          <p:nvPr/>
        </p:nvSpPr>
        <p:spPr>
          <a:xfrm>
            <a:off x="3503520" y="5429160"/>
            <a:ext cx="72723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</a:t>
            </a: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параллелепипе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(это объёмная фигур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2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23800" y="1142640"/>
            <a:ext cx="11306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3358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 летний  лагерь на сборы приехали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20 спортсменов. Утром на завтрак каждый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портсмен выпивает 1 стакан молока. Одного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итрового пакета хватает ровно на 5 стаканов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колько ящиков с молочными пакетами надо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иметь к завтраку, если в каждом ящике 12           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акетов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2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23880" y="4941720"/>
            <a:ext cx="2376360" cy="1744920"/>
          </a:xfrm>
          <a:prstGeom prst="rect">
            <a:avLst/>
          </a:prstGeom>
          <a:ln w="0">
            <a:noFill/>
          </a:ln>
        </p:spPr>
      </p:pic>
      <p:sp>
        <p:nvSpPr>
          <p:cNvPr id="293" name="TextBox 6"/>
          <p:cNvSpPr/>
          <p:nvPr/>
        </p:nvSpPr>
        <p:spPr>
          <a:xfrm>
            <a:off x="5095800" y="5761080"/>
            <a:ext cx="6256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2 ящ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2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4520" y="1628280"/>
            <a:ext cx="1130616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Есть 2 сковородки на каждой помещается 1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блин. Надо пожарить 3 блина с двух сторон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аждая сторона блина жариться 1 минуту за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акое наименьшее время можно это сделать?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7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6"/>
          <p:cNvSpPr/>
          <p:nvPr/>
        </p:nvSpPr>
        <p:spPr>
          <a:xfrm>
            <a:off x="3575160" y="5715000"/>
            <a:ext cx="68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878de"/>
                </a:solidFill>
                <a:latin typeface="Arial"/>
              </a:rPr>
              <a:t>Ответ: 3 мину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2d2db9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2d2db9"/>
                </a:solidFill>
                <a:latin typeface="Arial"/>
              </a:rPr>
              <a:t> 2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28480" y="1773360"/>
            <a:ext cx="1130616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асставьте скобки в записи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7 · 9 + 12 : 3 – 2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ак, чтобы значения равнялось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2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2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303" name="TextBox 6"/>
          <p:cNvSpPr/>
          <p:nvPr/>
        </p:nvSpPr>
        <p:spPr>
          <a:xfrm>
            <a:off x="4021200" y="5429160"/>
            <a:ext cx="74898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</a:t>
            </a:r>
            <a:r>
              <a:rPr b="1" lang="ru-RU" sz="4000" spc="-1" strike="noStrike">
                <a:solidFill>
                  <a:srgbClr val="262699"/>
                </a:solidFill>
                <a:latin typeface="Arial"/>
              </a:rPr>
              <a:t>: (7 · 9 + 12) : 3 – 2 = 2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8800" spc="-1" strike="noStrike">
                <a:solidFill>
                  <a:srgbClr val="ff3399"/>
                </a:solidFill>
                <a:latin typeface="Arial"/>
              </a:rPr>
              <a:t>Молодцы!!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5160" y="1517760"/>
            <a:ext cx="864108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Игра «КОТ В МЕШК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5160" y="189000"/>
            <a:ext cx="2592720" cy="19033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6"/>
          <p:cNvSpPr/>
          <p:nvPr/>
        </p:nvSpPr>
        <p:spPr>
          <a:xfrm>
            <a:off x="594828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8"/>
          <p:cNvSpPr/>
          <p:nvPr/>
        </p:nvSpPr>
        <p:spPr>
          <a:xfrm>
            <a:off x="594828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0"/>
          <p:cNvSpPr/>
          <p:nvPr/>
        </p:nvSpPr>
        <p:spPr>
          <a:xfrm>
            <a:off x="594828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2"/>
          <p:cNvSpPr/>
          <p:nvPr/>
        </p:nvSpPr>
        <p:spPr>
          <a:xfrm>
            <a:off x="594828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4" descr="norm"/>
          <p:cNvPicPr/>
          <p:nvPr/>
        </p:nvPicPr>
        <p:blipFill>
          <a:blip r:embed="rId3"/>
          <a:stretch/>
        </p:blipFill>
        <p:spPr>
          <a:xfrm>
            <a:off x="911160" y="1844640"/>
            <a:ext cx="1241640" cy="124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8" descr="1525136"/>
          <p:cNvPicPr/>
          <p:nvPr/>
        </p:nvPicPr>
        <p:blipFill>
          <a:blip r:embed="rId4"/>
          <a:stretch/>
        </p:blipFill>
        <p:spPr>
          <a:xfrm>
            <a:off x="3359160" y="90792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9" descr="1525136"/>
          <p:cNvPicPr/>
          <p:nvPr/>
        </p:nvPicPr>
        <p:blipFill>
          <a:blip r:embed="rId5"/>
          <a:stretch/>
        </p:blipFill>
        <p:spPr>
          <a:xfrm>
            <a:off x="3359160" y="90792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1" descr="b080cb361412837d318d0e004365aa92"/>
          <p:cNvPicPr/>
          <p:nvPr/>
        </p:nvPicPr>
        <p:blipFill>
          <a:blip r:embed="rId6"/>
          <a:stretch/>
        </p:blipFill>
        <p:spPr>
          <a:xfrm>
            <a:off x="5016600" y="907920"/>
            <a:ext cx="1158840" cy="1440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2" descr="b080cb361412837d318d0e004365aa92"/>
          <p:cNvPicPr/>
          <p:nvPr/>
        </p:nvPicPr>
        <p:blipFill>
          <a:blip r:embed="rId7"/>
          <a:stretch/>
        </p:blipFill>
        <p:spPr>
          <a:xfrm>
            <a:off x="8832960" y="5157720"/>
            <a:ext cx="1158840" cy="1440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3" descr="norm"/>
          <p:cNvPicPr/>
          <p:nvPr/>
        </p:nvPicPr>
        <p:blipFill>
          <a:blip r:embed="rId8"/>
          <a:stretch/>
        </p:blipFill>
        <p:spPr>
          <a:xfrm>
            <a:off x="766800" y="4221000"/>
            <a:ext cx="1241280" cy="1241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4" descr="norm"/>
          <p:cNvPicPr/>
          <p:nvPr/>
        </p:nvPicPr>
        <p:blipFill>
          <a:blip r:embed="rId9"/>
          <a:stretch/>
        </p:blipFill>
        <p:spPr>
          <a:xfrm>
            <a:off x="2567160" y="3500280"/>
            <a:ext cx="1241280" cy="1241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5" descr="norm"/>
          <p:cNvPicPr/>
          <p:nvPr/>
        </p:nvPicPr>
        <p:blipFill>
          <a:blip r:embed="rId10"/>
          <a:stretch/>
        </p:blipFill>
        <p:spPr>
          <a:xfrm>
            <a:off x="7751880" y="2492280"/>
            <a:ext cx="1241280" cy="1241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6" descr="norm"/>
          <p:cNvPicPr/>
          <p:nvPr/>
        </p:nvPicPr>
        <p:blipFill>
          <a:blip r:embed="rId11"/>
          <a:stretch/>
        </p:blipFill>
        <p:spPr>
          <a:xfrm>
            <a:off x="9408960" y="3933720"/>
            <a:ext cx="1241640" cy="1241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7" descr="1525136"/>
          <p:cNvPicPr/>
          <p:nvPr/>
        </p:nvPicPr>
        <p:blipFill>
          <a:blip r:embed="rId12"/>
          <a:stretch/>
        </p:blipFill>
        <p:spPr>
          <a:xfrm>
            <a:off x="6527880" y="105264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8" descr="1525136"/>
          <p:cNvPicPr/>
          <p:nvPr/>
        </p:nvPicPr>
        <p:blipFill>
          <a:blip r:embed="rId13"/>
          <a:stretch/>
        </p:blipFill>
        <p:spPr>
          <a:xfrm>
            <a:off x="7680240" y="400536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9" descr="1525136"/>
          <p:cNvPicPr/>
          <p:nvPr/>
        </p:nvPicPr>
        <p:blipFill>
          <a:blip r:embed="rId14"/>
          <a:stretch/>
        </p:blipFill>
        <p:spPr>
          <a:xfrm>
            <a:off x="9624960" y="62064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0" descr="1525136"/>
          <p:cNvPicPr/>
          <p:nvPr/>
        </p:nvPicPr>
        <p:blipFill>
          <a:blip r:embed="rId15"/>
          <a:stretch/>
        </p:blipFill>
        <p:spPr>
          <a:xfrm>
            <a:off x="4224240" y="364500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1" descr="1525136"/>
          <p:cNvPicPr/>
          <p:nvPr/>
        </p:nvPicPr>
        <p:blipFill>
          <a:blip r:embed="rId16"/>
          <a:stretch/>
        </p:blipFill>
        <p:spPr>
          <a:xfrm>
            <a:off x="911160" y="299736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2" descr="b080cb361412837d318d0e004365aa92"/>
          <p:cNvPicPr/>
          <p:nvPr/>
        </p:nvPicPr>
        <p:blipFill>
          <a:blip r:embed="rId17"/>
          <a:stretch/>
        </p:blipFill>
        <p:spPr>
          <a:xfrm>
            <a:off x="5951520" y="2421000"/>
            <a:ext cx="1158840" cy="1439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3" descr="b080cb361412837d318d0e004365aa92"/>
          <p:cNvPicPr/>
          <p:nvPr/>
        </p:nvPicPr>
        <p:blipFill>
          <a:blip r:embed="rId18"/>
          <a:stretch/>
        </p:blipFill>
        <p:spPr>
          <a:xfrm>
            <a:off x="9408960" y="2349360"/>
            <a:ext cx="1159200" cy="1440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4" descr="b080cb361412837d318d0e004365aa92"/>
          <p:cNvPicPr/>
          <p:nvPr/>
        </p:nvPicPr>
        <p:blipFill>
          <a:blip r:embed="rId19"/>
          <a:stretch/>
        </p:blipFill>
        <p:spPr>
          <a:xfrm>
            <a:off x="2495520" y="2060640"/>
            <a:ext cx="1158840" cy="1439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5" descr="b080cb361412837d318d0e004365aa92"/>
          <p:cNvPicPr/>
          <p:nvPr/>
        </p:nvPicPr>
        <p:blipFill>
          <a:blip r:embed="rId20"/>
          <a:stretch/>
        </p:blipFill>
        <p:spPr>
          <a:xfrm>
            <a:off x="3575160" y="4869000"/>
            <a:ext cx="1158840" cy="1439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7" descr="20954638"/>
          <p:cNvPicPr/>
          <p:nvPr/>
        </p:nvPicPr>
        <p:blipFill>
          <a:blip r:embed="rId21"/>
          <a:stretch/>
        </p:blipFill>
        <p:spPr>
          <a:xfrm>
            <a:off x="8256600" y="1052640"/>
            <a:ext cx="1008000" cy="984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8" descr="20954638"/>
          <p:cNvPicPr/>
          <p:nvPr/>
        </p:nvPicPr>
        <p:blipFill>
          <a:blip r:embed="rId22"/>
          <a:stretch/>
        </p:blipFill>
        <p:spPr>
          <a:xfrm>
            <a:off x="6240600" y="4005360"/>
            <a:ext cx="1008000" cy="984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9" descr="20954638"/>
          <p:cNvPicPr/>
          <p:nvPr/>
        </p:nvPicPr>
        <p:blipFill>
          <a:blip r:embed="rId23"/>
          <a:stretch/>
        </p:blipFill>
        <p:spPr>
          <a:xfrm>
            <a:off x="4079880" y="2421000"/>
            <a:ext cx="1008000" cy="984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0" descr="20954638"/>
          <p:cNvPicPr/>
          <p:nvPr/>
        </p:nvPicPr>
        <p:blipFill>
          <a:blip r:embed="rId24"/>
          <a:stretch/>
        </p:blipFill>
        <p:spPr>
          <a:xfrm>
            <a:off x="10848960" y="3500280"/>
            <a:ext cx="1008000" cy="984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1" descr="20954638"/>
          <p:cNvPicPr/>
          <p:nvPr/>
        </p:nvPicPr>
        <p:blipFill>
          <a:blip r:embed="rId25"/>
          <a:stretch/>
        </p:blipFill>
        <p:spPr>
          <a:xfrm>
            <a:off x="2135160" y="5013360"/>
            <a:ext cx="1008000" cy="984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3" descr="233864_935xp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10704600" y="4869000"/>
            <a:ext cx="1328760" cy="1800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4" descr="norm"/>
          <p:cNvPicPr/>
          <p:nvPr/>
        </p:nvPicPr>
        <p:blipFill>
          <a:blip r:embed="rId28"/>
          <a:stretch/>
        </p:blipFill>
        <p:spPr>
          <a:xfrm>
            <a:off x="10632960" y="1700280"/>
            <a:ext cx="1241640" cy="1241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5" descr="norm"/>
          <p:cNvPicPr/>
          <p:nvPr/>
        </p:nvPicPr>
        <p:blipFill>
          <a:blip r:embed="rId29"/>
          <a:stretch/>
        </p:blipFill>
        <p:spPr>
          <a:xfrm>
            <a:off x="5303880" y="5084640"/>
            <a:ext cx="1241280" cy="1241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6" descr="20954638"/>
          <p:cNvPicPr/>
          <p:nvPr/>
        </p:nvPicPr>
        <p:blipFill>
          <a:blip r:embed="rId30"/>
          <a:stretch/>
        </p:blipFill>
        <p:spPr>
          <a:xfrm>
            <a:off x="7104240" y="5300640"/>
            <a:ext cx="1008000" cy="9842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7"/>
          <p:cNvSpPr/>
          <p:nvPr/>
        </p:nvSpPr>
        <p:spPr>
          <a:xfrm>
            <a:off x="3865320" y="1413000"/>
            <a:ext cx="406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1" action="ppaction://hlinksldjump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8"/>
          <p:cNvSpPr/>
          <p:nvPr/>
        </p:nvSpPr>
        <p:spPr>
          <a:xfrm>
            <a:off x="5449680" y="1700280"/>
            <a:ext cx="406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2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9"/>
          <p:cNvSpPr/>
          <p:nvPr/>
        </p:nvSpPr>
        <p:spPr>
          <a:xfrm>
            <a:off x="6960960" y="1557360"/>
            <a:ext cx="406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3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0"/>
          <p:cNvSpPr/>
          <p:nvPr/>
        </p:nvSpPr>
        <p:spPr>
          <a:xfrm>
            <a:off x="8545320" y="1413000"/>
            <a:ext cx="406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4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1"/>
          <p:cNvSpPr/>
          <p:nvPr/>
        </p:nvSpPr>
        <p:spPr>
          <a:xfrm>
            <a:off x="1344600" y="2349360"/>
            <a:ext cx="406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5" action="ppaction://hlinksldjump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2"/>
          <p:cNvSpPr/>
          <p:nvPr/>
        </p:nvSpPr>
        <p:spPr>
          <a:xfrm>
            <a:off x="10058400" y="1125360"/>
            <a:ext cx="406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6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3"/>
          <p:cNvSpPr/>
          <p:nvPr/>
        </p:nvSpPr>
        <p:spPr>
          <a:xfrm>
            <a:off x="2928960" y="2708280"/>
            <a:ext cx="406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7" action="ppaction://hlinksldjump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4"/>
          <p:cNvSpPr/>
          <p:nvPr/>
        </p:nvSpPr>
        <p:spPr>
          <a:xfrm>
            <a:off x="4368600" y="2781360"/>
            <a:ext cx="406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8" action="ppaction://hlinksldjump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5"/>
          <p:cNvSpPr/>
          <p:nvPr/>
        </p:nvSpPr>
        <p:spPr>
          <a:xfrm>
            <a:off x="6384600" y="3068640"/>
            <a:ext cx="406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9" action="ppaction://hlinksldjump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6"/>
          <p:cNvSpPr/>
          <p:nvPr/>
        </p:nvSpPr>
        <p:spPr>
          <a:xfrm>
            <a:off x="8042040" y="306864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40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7"/>
          <p:cNvSpPr/>
          <p:nvPr/>
        </p:nvSpPr>
        <p:spPr>
          <a:xfrm>
            <a:off x="9698040" y="306864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41" action="ppaction://hlinksldjump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8"/>
          <p:cNvSpPr/>
          <p:nvPr/>
        </p:nvSpPr>
        <p:spPr>
          <a:xfrm>
            <a:off x="10993320" y="227664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42" action="ppaction://hlinksldjump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9"/>
          <p:cNvSpPr/>
          <p:nvPr/>
        </p:nvSpPr>
        <p:spPr>
          <a:xfrm>
            <a:off x="1272960" y="350028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43" action="ppaction://hlinksldjump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0"/>
          <p:cNvSpPr/>
          <p:nvPr/>
        </p:nvSpPr>
        <p:spPr>
          <a:xfrm>
            <a:off x="2857320" y="400536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44" action="ppaction://hlinksldjump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1"/>
          <p:cNvSpPr/>
          <p:nvPr/>
        </p:nvSpPr>
        <p:spPr>
          <a:xfrm>
            <a:off x="4584600" y="414972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45" action="ppaction://hlinksldjump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2"/>
          <p:cNvSpPr/>
          <p:nvPr/>
        </p:nvSpPr>
        <p:spPr>
          <a:xfrm>
            <a:off x="6457680" y="436572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46" action="ppaction://hlinksldjump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3"/>
          <p:cNvSpPr/>
          <p:nvPr/>
        </p:nvSpPr>
        <p:spPr>
          <a:xfrm>
            <a:off x="8042040" y="450864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47" action="ppaction://hlinksldjump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4"/>
          <p:cNvSpPr/>
          <p:nvPr/>
        </p:nvSpPr>
        <p:spPr>
          <a:xfrm>
            <a:off x="9769320" y="450864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48" action="ppaction://hlinksldjump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5"/>
          <p:cNvSpPr/>
          <p:nvPr/>
        </p:nvSpPr>
        <p:spPr>
          <a:xfrm>
            <a:off x="11066400" y="386064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49" action="ppaction://hlinksldjump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6"/>
          <p:cNvSpPr/>
          <p:nvPr/>
        </p:nvSpPr>
        <p:spPr>
          <a:xfrm>
            <a:off x="1056960" y="472428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50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7"/>
          <p:cNvSpPr/>
          <p:nvPr/>
        </p:nvSpPr>
        <p:spPr>
          <a:xfrm>
            <a:off x="2280960" y="537372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51" action="ppaction://hlinksldjump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8"/>
          <p:cNvSpPr/>
          <p:nvPr/>
        </p:nvSpPr>
        <p:spPr>
          <a:xfrm>
            <a:off x="3865320" y="551664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52" action="ppaction://hlinksldjump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9"/>
          <p:cNvSpPr/>
          <p:nvPr/>
        </p:nvSpPr>
        <p:spPr>
          <a:xfrm>
            <a:off x="5592600" y="558972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53" action="ppaction://hlinksldjump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0"/>
          <p:cNvSpPr/>
          <p:nvPr/>
        </p:nvSpPr>
        <p:spPr>
          <a:xfrm>
            <a:off x="7250040" y="558972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54" action="ppaction://hlinksldjump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1"/>
          <p:cNvSpPr/>
          <p:nvPr/>
        </p:nvSpPr>
        <p:spPr>
          <a:xfrm>
            <a:off x="9121680" y="580536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55" action="ppaction://hlinksldjump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2"/>
          <p:cNvSpPr/>
          <p:nvPr/>
        </p:nvSpPr>
        <p:spPr>
          <a:xfrm>
            <a:off x="941040" y="549360"/>
            <a:ext cx="10324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56" action="ppaction://hlinksldjump"/>
              </a:rPr>
              <a:t>Ит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90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Источники ресурс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623880" y="1268280"/>
            <a:ext cx="1130940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Шаблон создан с помощью возможностей программы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блон презентации п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дготовила учитель русского языка и литературы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Тихонова Надежда Андреевн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стан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блон игры подготовила учитель математик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шарина Альбина Геннадье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233864_935xp"/>
          <p:cNvPicPr/>
          <p:nvPr/>
        </p:nvPicPr>
        <p:blipFill>
          <a:blip r:embed="rId1"/>
          <a:stretch/>
        </p:blipFill>
        <p:spPr>
          <a:xfrm>
            <a:off x="911160" y="2492280"/>
            <a:ext cx="444600" cy="50508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"/>
          <p:cNvSpPr/>
          <p:nvPr/>
        </p:nvSpPr>
        <p:spPr>
          <a:xfrm>
            <a:off x="1672200" y="2565360"/>
            <a:ext cx="558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s://st.weblancer.net/download/233864_935xp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6" descr="kot-bumaga-otverstie-fon"/>
          <p:cNvPicPr/>
          <p:nvPr/>
        </p:nvPicPr>
        <p:blipFill>
          <a:blip r:embed="rId3"/>
          <a:stretch/>
        </p:blipFill>
        <p:spPr>
          <a:xfrm>
            <a:off x="695160" y="3068640"/>
            <a:ext cx="648000" cy="37944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7"/>
          <p:cNvSpPr/>
          <p:nvPr/>
        </p:nvSpPr>
        <p:spPr>
          <a:xfrm>
            <a:off x="1271160" y="3068640"/>
            <a:ext cx="8300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s://img2.badfon.ru/original/1024x600/5/c0/kot-bumaga-otverstie-fo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Рисунок 4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66800" y="3573360"/>
            <a:ext cx="503280" cy="3700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9"/>
          <p:cNvSpPr/>
          <p:nvPr/>
        </p:nvSpPr>
        <p:spPr>
          <a:xfrm>
            <a:off x="1343880" y="3500280"/>
            <a:ext cx="7497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ic.pics.livejournal.com/vasiko/1751036/6309/6309_origina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0" descr="1525136"/>
          <p:cNvPicPr/>
          <p:nvPr/>
        </p:nvPicPr>
        <p:blipFill>
          <a:blip r:embed="rId5"/>
          <a:stretch/>
        </p:blipFill>
        <p:spPr>
          <a:xfrm>
            <a:off x="695160" y="3933720"/>
            <a:ext cx="540000" cy="5400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11"/>
          <p:cNvSpPr/>
          <p:nvPr/>
        </p:nvSpPr>
        <p:spPr>
          <a:xfrm>
            <a:off x="1344600" y="4005360"/>
            <a:ext cx="4867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4put.ru/pictures/max/496/152513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2" descr="norm"/>
          <p:cNvPicPr/>
          <p:nvPr/>
        </p:nvPicPr>
        <p:blipFill>
          <a:blip r:embed="rId6"/>
          <a:stretch/>
        </p:blipFill>
        <p:spPr>
          <a:xfrm>
            <a:off x="766800" y="443700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13"/>
          <p:cNvSpPr/>
          <p:nvPr/>
        </p:nvSpPr>
        <p:spPr>
          <a:xfrm>
            <a:off x="1342440" y="4508640"/>
            <a:ext cx="4719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static.pleer.ru/i/gp/141/902/norm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4" descr="b080cb361412837d318d0e004365aa92"/>
          <p:cNvPicPr/>
          <p:nvPr/>
        </p:nvPicPr>
        <p:blipFill>
          <a:blip r:embed="rId7"/>
          <a:stretch/>
        </p:blipFill>
        <p:spPr>
          <a:xfrm>
            <a:off x="766800" y="4869000"/>
            <a:ext cx="485640" cy="6030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5"/>
          <p:cNvSpPr/>
          <p:nvPr/>
        </p:nvSpPr>
        <p:spPr>
          <a:xfrm>
            <a:off x="1348560" y="5084640"/>
            <a:ext cx="7755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cdn4.slus.name/b0/80/b080cb361412837d318d0e004365aa9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6" descr="20954638"/>
          <p:cNvPicPr/>
          <p:nvPr/>
        </p:nvPicPr>
        <p:blipFill>
          <a:blip r:embed="rId8"/>
          <a:stretch/>
        </p:blipFill>
        <p:spPr>
          <a:xfrm>
            <a:off x="766800" y="5516640"/>
            <a:ext cx="504720" cy="4921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7"/>
          <p:cNvSpPr/>
          <p:nvPr/>
        </p:nvSpPr>
        <p:spPr>
          <a:xfrm>
            <a:off x="1416960" y="5589720"/>
            <a:ext cx="6328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www.playcast.ru/uploads/2016/12/19/20954638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Источники ресурс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11306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33520" indent="-53352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.Г. Мерзляк, В.Б. Полонский, М.С. Якир. Математика: 6 класс: учебник для учащихся общеобразовательных организаций, – М.: Вентана-Граф, 2016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.Я. Виленкин, В.И. Жохов, А.С. Чесноков, С.И. Шварцбурд. Математика. 6 класс: учебник для учащихся общеобразовательных организаций, - 31-е изд., стер. – М.: Мнемозина, 201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 2" charset="2"/>
              <a:buChar char="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Мерзляк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Б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олонски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Рабинович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Якир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Математи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: 6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класс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дидактические материал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особие для учащихся общеобразовательных учреждени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 –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: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ентан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Граф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2017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Calibri"/>
              </a:rPr>
              <a:t>Задание 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79520" y="1642680"/>
            <a:ext cx="1130616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3352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рышка стола имеет 4 угла. Если один из них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тпилить,  сколько останется углов?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9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9520" y="5113440"/>
            <a:ext cx="2376360" cy="17445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6"/>
          <p:cNvSpPr/>
          <p:nvPr/>
        </p:nvSpPr>
        <p:spPr>
          <a:xfrm>
            <a:off x="5095800" y="5429160"/>
            <a:ext cx="2786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3880" y="1341000"/>
            <a:ext cx="11306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числить объём  геометрического тел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4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i?id=ba449c2429e9ae01f7a6c466d0649a6d-sr&amp;n=33&amp;h=200&amp;w=230"/>
          <p:cNvPicPr/>
          <p:nvPr/>
        </p:nvPicPr>
        <p:blipFill>
          <a:blip r:embed="rId3"/>
          <a:stretch/>
        </p:blipFill>
        <p:spPr>
          <a:xfrm>
            <a:off x="5810400" y="2000160"/>
            <a:ext cx="4003560" cy="34815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6"/>
          <p:cNvSpPr/>
          <p:nvPr/>
        </p:nvSpPr>
        <p:spPr>
          <a:xfrm>
            <a:off x="5095800" y="5429160"/>
            <a:ext cx="2786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2d2db9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2d2db9"/>
                </a:solidFill>
                <a:latin typeface="Arial"/>
              </a:rPr>
              <a:t> 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4520" y="1754280"/>
            <a:ext cx="1130616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 борту самолёта 48 мест для пассажиров. Три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четвертых от этих мест уже заняты. Сколько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еще пассажиров может сесть в самолет на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ставшиеся места?     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0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6"/>
          <p:cNvSpPr/>
          <p:nvPr/>
        </p:nvSpPr>
        <p:spPr>
          <a:xfrm>
            <a:off x="5095800" y="5429160"/>
            <a:ext cx="2786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2d2db9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2d2db9"/>
                </a:solidFill>
                <a:latin typeface="Arial"/>
              </a:rPr>
              <a:t> 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11306160" cy="28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Чему равно произведение всех цифр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5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6"/>
          <p:cNvSpPr/>
          <p:nvPr/>
        </p:nvSpPr>
        <p:spPr>
          <a:xfrm>
            <a:off x="5095800" y="5429160"/>
            <a:ext cx="2786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2d2db9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2d2db9"/>
                </a:solidFill>
                <a:latin typeface="Arial"/>
              </a:rPr>
              <a:t> 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4520" y="1413000"/>
            <a:ext cx="11306160" cy="27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акая геометрическая фигура нужна для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казания детей?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0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191" name="TextBox 6"/>
          <p:cNvSpPr/>
          <p:nvPr/>
        </p:nvSpPr>
        <p:spPr>
          <a:xfrm>
            <a:off x="3863880" y="5653080"/>
            <a:ext cx="31608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уг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9" descr="14307_94b33220e54bf3d6e7e6db9e6298e67c"/>
          <p:cNvPicPr/>
          <p:nvPr/>
        </p:nvPicPr>
        <p:blipFill>
          <a:blip r:embed="rId3"/>
          <a:stretch/>
        </p:blipFill>
        <p:spPr>
          <a:xfrm>
            <a:off x="7319880" y="2390760"/>
            <a:ext cx="446580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2d2db9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2d2db9"/>
                </a:solidFill>
                <a:latin typeface="Arial"/>
              </a:rPr>
              <a:t> 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11306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иведите пример натурального числа,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большего 15, которое делится на 15, но не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елится на 6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6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6"/>
          <p:cNvSpPr/>
          <p:nvPr/>
        </p:nvSpPr>
        <p:spPr>
          <a:xfrm>
            <a:off x="5095800" y="5429160"/>
            <a:ext cx="2786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2-02T11:25:58Z</dcterms:modified>
  <cp:revision>41</cp:revision>
  <dc:subject/>
  <dc:title>Деловой </dc:title>
</cp:coreProperties>
</file>