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71E-4044-46AB-9629-42634039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F76-2E73-4787-B3AF-63B1ECEA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6E1-8C03-4386-8739-5AE15596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279-B227-4CAB-BD64-2FF1ED10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F1C-D5EE-4027-AD7C-6266A3D3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512-5E88-4735-90DA-E3929C8F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C27-AF2C-4001-BAA3-3E6E0ED6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608-DBD4-4A95-981B-17A10A0E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C82-4C70-4B3C-9CC5-8C2CD17C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408-38DF-44F5-B131-91542B5E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9093-C03E-4B4A-BD1C-9FB9297B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76D-10B0-4408-BC02-7C481CCE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077F-0A8B-445F-9DCD-FD726397E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449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«ЗЕЛЕНЫЕ КАР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914400"/>
            <a:ext cx="60962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упражнять детей в составлении простейших цепей питания животных в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атериал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набор игральных карточек из 36 штук, каждая окрашена с обратной стороны зеленым цветом, а на лицевой  - иллюстрации различных животных и растений, которые составляются таким образом, чтобы в итоге сложилось 18 пар       (животное – корм для не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276720"/>
            <a:ext cx="6172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етодика про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 игре принимают участие от двух до шести детей. Каждому ребенку раздается по 6 карточек. Заранее проверяется, ест ли среди них такие , из которых можно составить пары. При правильном ходе ребенка карточки откладываются. Количество карт постоянно пополняется до шести, пока они не закончатся. Выигрывает тот, кто первым выйдет из игры или у кого останется меньше количество карт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754380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965920"/>
            <a:ext cx="586728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1363680"/>
            <a:ext cx="5486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втор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оспитатель ДО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корина Наталья Юрьев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6858000" cy="44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Экологическая культура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– одна из острейших проблем современности. Сегодня экология – не только наука о взаимоотношениях живых организмов друг с другом и с окружающей средой, это – мировоззрение. Знание о природных объектах, явлениях и причинно-следственных зависимостях между ними постепенно формирующиеся у детей дошкольного возраста служит базой для развития их представления о мире в целом и отношения к нему. На целенаправленном расширении и углублении этих знаний, развитии умений и навыков практического взаимодействия с природой и строится экологическое просвещение и воспитание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Цель экологического образования: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формирование экологической культуры, экологических чувств и экологической деятельности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Задачи экологического образ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Воспитание любви к природе через прямое общение с ней, восприятие её красоты и многообраз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Формирование знаний о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Развитие сопереживания к бедам природы, желания бороться за её сохран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7086600"/>
            <a:ext cx="685800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40654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61722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«Игра в экологическом воспитании детей»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ажна по целому ряду прич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гра – это ведущая деятельность детей в период дошкольного детства, она обогащает и развивает личность, поэтому она должна, так же широко использована в экологическом воспитании, как и в других сферах 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гра доставляет радость ребенку, поэтому познание природы, общение с ней, проходящие на фоне, будут особенно эффективны: игра создает оптимальные условия для воспитания и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гра – это способ осмысления окружающего мира и своего места в нём, освоения соответствующих различным ситуациям моделей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7128000"/>
            <a:ext cx="419112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352680" y="5105520"/>
            <a:ext cx="327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76520" y="304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«ЛЕС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крепить знания детей о правилах поведения человека в лесу, упражнять в распознавании предупреждающих экологических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8288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атериал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бор предупреждающих экологических знаков треугольной формы с изображением лесных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43200"/>
            <a:ext cx="6629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етодика про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ти поочередн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ыполняют роль лесника, который выбирает один из экологических знаков, лежащих в перевернутом состоянии на столе, и знакомят участников игры с лесными объектами, которые этот знак представляют; рассказывает, как следует вести себя в лесу, находясь рядом с данным объектом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8001000"/>
            <a:ext cx="6858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724280" y="73152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28600" y="4648320"/>
            <a:ext cx="3164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372960"/>
            <a:ext cx="5334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ЭКОЛОГИЧЕСКОЕ ЛУКОШ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«АПТЕКА АЙБОЛИ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219320"/>
            <a:ext cx="655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формировать представление детей о лекарственных растениях и их использовании человеком, упражнять в их распознавании на иллюст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атериал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плоскостное лукошко с красным и зеленым крестиком по одной из сторон, набор иллюстраций лекарственных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6858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етодика пр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оспитатель загадывает загадки о лекарственных растениях. Ребенок находит в лукошке иллюстрацию, показывает и объясняет, почему его называют «зеленым доктором». Аналогично можно проводить игры на темы «Цветы луговые», «Первоцветы», «Ягоды», «Птиц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7391520"/>
            <a:ext cx="685800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6324480"/>
            <a:ext cx="2282760" cy="252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rot="14403600">
            <a:off x="1693440" y="7362000"/>
            <a:ext cx="1839960" cy="1722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544920" y="5257800"/>
            <a:ext cx="33130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45720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5335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«ПРОГУЛКА В ЛЕ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990720"/>
            <a:ext cx="6400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сформировать правильное отношение к лесным обитателям, расширять знания детей о правилах поведения в лесу, упражнять в распознании предупреждающих и запрещающих з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атериал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ланшет с изображением лесной поляны с несколькими тропинками, на которых размещены предупреждающие знаки, силуэты детей, которых можно перемещать по тропинкам; набор запрещающих экологических знаков в конвер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267080"/>
            <a:ext cx="62481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етодика пр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 игре может участвовать группа детей, которые отправляются в лес на прогулку. Детям следует рассказать что находится на тропинке  и выставить соответствующие экологические знаки, помогающие соблюдать правила поведения в лесу. За правильный ответ-фишка. Побеждает тот, кто наберет максимальное количество фиш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6858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4572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«ЗООЛОГИЧЕСКИЙ СТАДИ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990720"/>
            <a:ext cx="63244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крепить знания детей о различных видах животных, их питании и месте обитания в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атериал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планшет, на котором по кругу изображены две беговые дорожки, старт, финиш и десять ходов в центре стадиона шесть секторов с иллюстрациями животных. На отдельных карточках- иллюстрации корма для данных животных и их убежище. В наборе имеется кубик для определения количество 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505320"/>
            <a:ext cx="6172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етодика пр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 игре участвуют два ребенка. С помощью кубика они поочередно определяют сектор с заданием и делают по три хода: первый - назвать животное, второй- определить корм для данного животного, третий – назвать его убежище в природе. Выигрывает тот, кто первым придет к фини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731520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00400" y="5715000"/>
            <a:ext cx="3657600" cy="3135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31748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45720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49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ЭКОЛОГИЧЕСКАЯ БАШНЯ «ЛЕ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6019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знакомить детей с понятием «пищевая цепочка» и дать представление о целях питания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атериал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четыре объемных разных по величине кубика, на каждой грани которых изображены иллюстрации леса (лес – гриб – белка; лес – ягоды –еж – лис; лес – цветок – пчела – медведь;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200400"/>
            <a:ext cx="60199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етодика пр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ти играют совместно с воспитателем, начинают игру с любого куб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оспитатель: «Это гриб, где он растет? /В лесу/7  «Кто из зверей в лесу питается грибами?» /Белка/ Ест ли враги у белки? /Куница/. Далее ребенок выполняет самостоятельно, объясняя свой выбор. Показать, что если убрать один из компонентов, то вся пищевая цепочка распад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731520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3352680" cy="2922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191120" y="680256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44928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ИРАМИДА «ПТИЦ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906480"/>
            <a:ext cx="59436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формировать знания о простейших цепях питания птиц в природе, закрепить знания об условиях необходимых для роста растений и жизн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атериал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лоскостной: набор карточек разного цвета, моделирующих условий, необходимые ля роста растений и жизни животных; наборы из трех карточек с различными иллюстрациями растений и птиц (сосна - сосновая шишка - дяте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809880"/>
            <a:ext cx="59436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етодика пр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 аналогии с Экологической башней «Лес». Однако при составлении цепочки необходимо обратить внимание на следующие правила. Карточки выставляем одну за одной, с целью показа пищевых цепей в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5715000"/>
            <a:ext cx="5639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11:57:40Z</dcterms:created>
  <dc:creator>user</dc:creator>
  <dc:description/>
  <dc:language>en-US</dc:language>
  <cp:lastModifiedBy>user</cp:lastModifiedBy>
  <dcterms:modified xsi:type="dcterms:W3CDTF">2018-02-01T10:13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