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498-6A38-44B4-A627-26546266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6D9-919B-41C9-9E56-2F7D52C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A81-5FE3-4AFA-AC3C-A58C57EC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476-4491-45CB-AD78-5BD5B416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DD5-1543-463E-A8F6-EF7BB81A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21F-1EF1-4AAB-B450-9F75C04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B563-C4C2-4D9A-A151-7C0031C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3C33-53C6-4A91-B5E3-AFF7CD9A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6135-2B5D-43DD-9B35-37CB210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2F6-88CF-4425-9BA3-9D88642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0095-7F3B-4D6E-BF1B-A770082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9CA-8751-49BE-9B1A-7A3952F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EB09-FF9C-48CB-A22A-6133506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0F72-AA3E-43CC-8CD4-E751E4B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489-BE60-433A-9B3C-26DFB37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6F20-7FD6-4092-AA82-685A6B1D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5B1-4397-4E1C-B2BE-31CEE504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976-1870-4D76-90F8-EA72951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A3C-D195-4788-9C66-6BACBDFC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8CD-EE6C-45AB-90D3-B37EA723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B16-9A6D-42AD-AA09-E2F4CC4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E88-5048-44A3-BCDE-07B96E0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3B2-BBAD-45AE-AFB7-DEAED95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845-5FC3-4222-AF11-D4989E4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A8D-57B2-4961-8BD3-1B517E3D6E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761A-B713-4522-A024-948709B256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4025" r="5684" b="5223"/>
          <a:stretch/>
        </p:blipFill>
        <p:spPr>
          <a:xfrm>
            <a:off x="611280" y="404640"/>
            <a:ext cx="7993080" cy="51850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Краски музык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30560" y="6237360"/>
            <a:ext cx="69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Презентация музыкального руководителя МБДОУ детского сада № 20 г. Павлово Егоровой Е.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Эдвард Григ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240000" cy="338436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2232000" cy="23050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588000" y="1844640"/>
            <a:ext cx="2087640" cy="244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Динамика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>
            <a:lum bright="6000"/>
          </a:blip>
          <a:srcRect l="6578" t="6115" r="13794" b="4090"/>
          <a:stretch/>
        </p:blipFill>
        <p:spPr>
          <a:xfrm>
            <a:off x="611280" y="292428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906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Тембр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125" t="14661" r="6462" b="12324"/>
          <a:stretch/>
        </p:blipFill>
        <p:spPr>
          <a:xfrm>
            <a:off x="1116000" y="393372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8149" t="0" r="10567" b="0"/>
          <a:stretch/>
        </p:blipFill>
        <p:spPr>
          <a:xfrm>
            <a:off x="6588000" y="692280"/>
            <a:ext cx="1944720" cy="2449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519280" cy="280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rcRect l="0" t="0" r="0" b="4620"/>
          <a:stretch/>
        </p:blipFill>
        <p:spPr>
          <a:xfrm>
            <a:off x="4643280" y="4292640"/>
            <a:ext cx="3787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Ритм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11782" t="10615" r="11398" b="12091"/>
          <a:stretch/>
        </p:blipFill>
        <p:spPr>
          <a:xfrm>
            <a:off x="611280" y="400536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17717" t="15395" r="14322" b="13903"/>
          <a:stretch/>
        </p:blipFill>
        <p:spPr>
          <a:xfrm>
            <a:off x="3419640" y="3860640"/>
            <a:ext cx="2520720" cy="2232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5395" t="14726" r="13903" b="15132"/>
          <a:stretch/>
        </p:blipFill>
        <p:spPr>
          <a:xfrm>
            <a:off x="6516720" y="3933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382" t="14587" r="4382" b="26398"/>
          <a:stretch/>
        </p:blipFill>
        <p:spPr>
          <a:xfrm>
            <a:off x="1258920" y="1844640"/>
            <a:ext cx="669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Wooden Ship Decorated"/>
              </a:rPr>
              <a:t>Темп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6971" t="7326" r="8044" b="11478"/>
          <a:stretch/>
        </p:blipFill>
        <p:spPr>
          <a:xfrm>
            <a:off x="3492360" y="4365720"/>
            <a:ext cx="5067360" cy="1871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6311" t="7244" r="10768" b="9528"/>
          <a:stretch/>
        </p:blipFill>
        <p:spPr>
          <a:xfrm>
            <a:off x="468360" y="2133720"/>
            <a:ext cx="4895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1280" y="404640"/>
            <a:ext cx="3384360" cy="28814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инам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3573360"/>
            <a:ext cx="3384720" cy="2808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Рит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3573360"/>
            <a:ext cx="3311640" cy="273528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Тем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476280"/>
            <a:ext cx="3240360" cy="27367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Темб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ff00"/>
                </a:solidFill>
                <a:latin typeface="Wooden Ship Decorated"/>
              </a:rPr>
              <a:t>Есть у радуги семь красок,</a:t>
            </a: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Wooden Ship Decorated"/>
              </a:rPr>
              <a:t>А у музыки семь нот.</a:t>
            </a: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Wooden Ship Decorated"/>
              </a:rPr>
              <a:t>На земле для нашей радости</a:t>
            </a: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Wooden Ship Decorated"/>
              </a:rPr>
              <a:t>Всюду музыка живёт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7129440" cy="4103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8:05:32Z</dcterms:created>
  <dc:creator>Comp</dc:creator>
  <dc:description/>
  <dc:language>en-US</dc:language>
  <cp:lastModifiedBy>Елена</cp:lastModifiedBy>
  <dcterms:modified xsi:type="dcterms:W3CDTF">2018-01-17T14:14:31Z</dcterms:modified>
  <cp:revision>5</cp:revision>
  <dc:subject/>
  <dc:title>Краски музыки</dc:title>
</cp:coreProperties>
</file>