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F2BF-DE54-42E1-9630-D013A80CD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A132-07C6-4F04-AF48-E382D638B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7B0B-C929-4613-B2B8-EB4799B2B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2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680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2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680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5C2D-B519-4143-9D0B-55593348C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66F99-7885-41A8-B439-F37716130D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47D2B-6098-426E-B2BB-2D4F2E9A55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94C31-AD53-4CEB-A2CE-A8BF452D83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0AEA-ECB9-4499-BDBF-91F7F7ABE3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226D-CC5B-46D4-98EC-BC6B65C1F7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767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E3A60-11EC-45FD-BFE7-8156339576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B2203-0BB1-47EF-82D0-AA5252221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C47D-B5D7-4090-BF6E-5C9224C7B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CC8D8-3822-4441-8D0B-B6AF55E8FC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067C3-9770-4D99-97F0-987864FB8D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A2BE8-06E1-4339-A33B-88A73E3EF9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F974B-8093-4536-A546-8ED9CBC811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2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680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2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680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0DFF2-57BB-4FD1-AED1-466E91619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C1A9-0E85-4CAE-A49D-B447F8BCE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A13D-9311-44F9-9118-A6FFC3027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5584-B3DC-4B29-8CC6-696ACA37C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767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95A0-1BC1-4B86-BAF9-3D0E820F0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AB4A-622F-4531-A3DD-F6919738B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29A1-BCDC-4D18-BDE8-E9AA88A52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0A5C-A75D-4B3A-B084-CF4D29FC5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2120" cy="4871880"/>
            <a:chOff x="0" y="0"/>
            <a:chExt cx="8682120" cy="48718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4800" cy="4871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1240" cy="177840"/>
              <a:chOff x="380880" y="1417680"/>
              <a:chExt cx="8301240" cy="17784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4120" cy="177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124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3352680" y="624852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9 января 200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18FDF-F7E8-4348-A1E8-87BB1F68748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58080" cy="5938920"/>
            <a:chOff x="0" y="0"/>
            <a:chExt cx="8758080" cy="59389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47800" cy="4871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58080" cy="2433600"/>
              <a:chOff x="0" y="3505320"/>
              <a:chExt cx="8758080" cy="24336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67360" cy="2433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3880" cy="21333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568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2280" cy="299880"/>
              <a:chOff x="635040" y="533520"/>
              <a:chExt cx="8072280" cy="29988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3600" cy="299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228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3544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 января 2007 го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EB8FAB-33AE-4AFD-99E0-FCE6208B20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11280" y="1101600"/>
            <a:ext cx="7900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Родительско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собрани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3933720"/>
            <a:ext cx="7343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рофилактика насилия в семь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-психологи: Монгуш Л.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ашпай А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65560" y="123840"/>
            <a:ext cx="401184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то обижает детей? 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413000"/>
            <a:ext cx="7772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7% обидчиков - родители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% - родственники жерт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% - люди у которых не наблюдается родственной связи с ребенком (например, няни, неродные роди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% всех обидчиков детей - это те люди, которые не связаны родственными отношениями с ребе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1% обидчиков моложе 40 л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1% составляют женщ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 обидчиков различается в зависимости от вида причиняемого насилия: отсутствие заботы часто приписывается женщинам, а нанесение травм и увечий - мужчинам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Основная причина жестокого обращения с детьми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утренняя агрессивность – эмоциональное состояние, возникающее как реакция на переживание непреодолимости каких-то барьеров или недоступность чего-то желанног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468000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0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Times New Roman"/>
              </a:rPr>
              <a:t>ВИДЫ   НАСИЛИЯ: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ОЕ-1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ИХОЛОГИЧЕСКОЕ (эмоциональное)-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НЕБРЕЖЕНИЕ ОСНОВНЫМИ НУЖДАМИ РЕБЁНКА - 6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КСУАЛЬНОЕ  НАСИЛИЕ -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3000" y="3141720"/>
            <a:ext cx="3051000" cy="37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254952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ексуальное насилие (развращение)-10%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лечение ребенка  с его согласия или без, в сексуальные действия с взрослыми с целью получения последними сексуального удовлетворения или вы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ксуальны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акт, конт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ксуальные касания, ласки эрогенных з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говоры и звонки сексу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гибицион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нстрация эрот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 и видеосъе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нографического 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37440" y="3573360"/>
            <a:ext cx="28065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Сексуальное насилие чаще вс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Georgia"/>
              </a:rPr>
              <a:t>происходит в семьях, где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хие   взаимоотношения   ребенка  с  родителями,  особенно  с матер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фликтные отношения между родител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ребенка чрезмерно занята на рабо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енок долгое время жил без родного от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место родного отца - отчим или сожитель матер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 имеет  хроническое заболевание или инвалидность и подолгу лежит в боль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 (или один из них) являются алкоголиками, наркоманами, токсикоман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тели (или один из них) имеют психические заболе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ь в детстве подвергалась сексуальному насилию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ксуальное насилие позволяет распознать особенности состояния и повреждения ребенк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557360"/>
            <a:ext cx="824400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левания, передающиеся половым пут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ждения частей тела и внутренних органов различной степени тяж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ки, заикание, энур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чные кошмары, страхи, трудности соци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войственные характеру сексуальные игры, несвойственные возрасту знания о сексуальном повед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непристойных слов сексуального характера для оскорбления друг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основения сексуального характера к другим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полностью закрыть свое те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прессия, низкая самооценка, отчужде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итуция, беспорядочные половые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ротизированн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растие к алкоголю и наркоти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ОСЛЕДСТВИЯ  НАСИЛИЯ</a:t>
            </a:r>
            <a:br>
              <a:rPr sz="38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ДЛЯ  ДЕТЕЙ  3-х  ЛЕ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воги, страхи, беспоко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утанность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ройство 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ря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 перед чужими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27640" y="3914640"/>
            <a:ext cx="2916360" cy="29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nodeType="clickEffect" fill="hold">
                      <p:stCondLst>
                        <p:cond delay="0"/>
                      </p:stCondLst>
                      <p:childTnLst>
                        <p:par>
                          <p:cTn id="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ОСЛЕДСТВИЯ НАСИЛИЯ</a:t>
            </a:r>
            <a:br>
              <a:rPr sz="38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ДЛЯ  ДОШКОЛЬНИК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в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яз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вины, стыда, отв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беспомощности, испор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транё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48360" y="3613320"/>
            <a:ext cx="3995640" cy="3244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76892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nodeType="clickEffect" fill="hold">
                      <p:stCondLst>
                        <p:cond delay="0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ОСЛЕДСТВИЯ  НАСИЛИЯ</a:t>
            </a:r>
            <a:br>
              <a:rPr sz="38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ДЛЯ  МЛАДШИХ  ШКОЛЬНИК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557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стыда, отвращения, испорченности, недоверия к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и в определении семейных 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сна,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чаливость либо неожиданная разговор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3546360"/>
            <a:ext cx="2627280" cy="3311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210280"/>
            <a:ext cx="1619280" cy="164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ОСЛЕДСТВИЯ НАСИЛИЯ</a:t>
            </a:r>
            <a:br>
              <a:rPr sz="38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ДЛЯ ДЕТЕЙ 9-13 ЛЕ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вство пот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нип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реч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40240" y="1314360"/>
            <a:ext cx="380376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 родительского собрания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7720" indent="-74628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4772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731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33"/>
                </a:solidFill>
                <a:latin typeface="Arial"/>
              </a:rPr>
              <a:t>1.  </a:t>
            </a: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«Понятие жестокого обращения в семье и его формы, ви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4772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731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2.    Последствия жестокого обращения в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7720" indent="-74628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4772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731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   Жестокое обращение с детьми -порочный круг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7720" indent="-7462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4772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731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4.    Виды ответственности лиц, допускающих жестокое обращение с детьми.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ОСЛЕДСТВИЯ НАСИЛИЯ</a:t>
            </a:r>
            <a:br>
              <a:rPr sz="38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ДЛЯ  ПОДРОСТКОВ (13-18 лет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ращение, стыд, вина, недовер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ксуальные 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формированность социальных ролей и своей роли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собств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н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од из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иц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89560" y="3860640"/>
            <a:ext cx="375444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14400" y="277920"/>
            <a:ext cx="77724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a50021"/>
                </a:solidFill>
                <a:latin typeface="Georgia"/>
              </a:rPr>
              <a:t>Последствия жестокого обращения с детьми в семь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341360"/>
            <a:ext cx="5329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ход в религиозные с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единения в неформальные группы с криминальной и фашисткой направлен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грессивное, преступное поведение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бежавшие из дома дети умирают от голода и холода, становятся жертвами других детей, также сбежавших от домашнего насил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11680" y="1197000"/>
            <a:ext cx="31100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Факторы риска, увеличивающие вероятность насильственного поведени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насилия в дет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личности взрос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отношения к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ровень развития социаль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звитость родительских навыков и чув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онные факторы(стрессы, пережи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когольное, наркотическое опья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43760" y="5184720"/>
            <a:ext cx="283356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 если ребенок сообщает нам о насили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еситесь к ребенку серье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ытайтесь оставаться спокой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отвергайте его, если он, обратившись к вам, встретит осуждение, страх, гнев, то, что может нанести ему более глубокую рану, чем само наси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те, на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ьна угроза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зни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4140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1200" y="-144360"/>
            <a:ext cx="83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Успокойте и поддержите ребенка словами.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Хорошо, что ты мне сказал. Ты правильно сделал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Я тебе верю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Ты в этом не виноват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Ты не один попал в такую ситуацию, это случается и с другими детьм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Мне жаль, что с тобой это случилос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Мне надо поговорить о том, что случилось с ...(юристом, учителем). Они захотят задать тебе несколько вопросов. Они постараются сделать так, чтобы ты чувствовал себя в безопасности. Бывают такие секреты, которые нельзя хранить, если тебе сделали плох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думайте, что ребенок обязательно ненавидит своего обидчика или сердится на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рпеливо отвечайте на вопросы и рассеивайте тревог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ите за тем, чтобы не давать обещаний, которые вы не можете испол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42080" y="4221000"/>
            <a:ext cx="2401920" cy="263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4392720"/>
            <a:ext cx="2556000" cy="24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уйте разговор с ребенком наедине и чем скорее, тем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ивайте нормальный статус ребенка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решайте за ребенка, что он хочет и чего не хочет. Спрашивайте! Это поможет вам проявить теплое отношение на уровне, комфортном дл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уйте нормальное выражение теплого отношения, пусть в вашем голосе звучит теп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филактические мероприят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обходимо научить детей  определять, какое  поведение взрослых (имеются ввиду поведенческие формы насилия) является неподобающим и как реагировать в соответствующи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обходимо убедить ребенка немедленно обращаться за помощью в случае возможного или уже случившегося насилия, несмотря на то, что взрослые-насильники убеждают их все держать в секрете (детям необходимо помочь разобраться, какая информация должна быть конфиденциальной, а что следует сообщить окружающим; с кем им стоит поделиться своими проблемами, и что делать в случае, если взрослый им не повери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 u="sng">
                <a:solidFill>
                  <a:srgbClr val="330033"/>
                </a:solidFill>
                <a:uFillTx/>
                <a:latin typeface="Times New Roman"/>
              </a:rPr>
              <a:t>Для защиты прав детей в Российской Федерации созданы специальные институ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олномоченный при Президенте Российской Федерации по правам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олномоченный по правам ребенка при Главе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ы опеки и попечительства (администрация муниципального района и ГО Саранс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ы проку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иссии по делам несовершеннолетних и защите их прав (Республиканская и муниципальных районов и городского округа Саранс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й инспектор по охране прав детства образователь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ение по делам несовершеннолетних пол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ий телефон Доверия с единым общероссийским номером и другие телефоны доверия, действующие в Республике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е Федеральной службы по контролю за оборотом наркотиков РФ по Республике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ие правозащитные органы и общественные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333360"/>
            <a:ext cx="5832360" cy="1584360"/>
          </a:xfrm>
          <a:prstGeom prst="rect">
            <a:avLst/>
          </a:prstGeom>
          <a:solidFill>
            <a:srgbClr val="ffffe1"/>
          </a:solidFill>
          <a:ln cap="sq"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эффективного функционирования системы профилактики по жестокому обращению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2205000"/>
            <a:ext cx="8075520" cy="4319640"/>
          </a:xfrm>
          <a:prstGeom prst="rect">
            <a:avLst/>
          </a:prstGeom>
          <a:noFill/>
          <a:ln cap="sq"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о формах и видах насилия, причинах  и последствиях жестокого обращения взрослых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знание  последствий жестокого обращения для развития личности ребенка и формирования его жизненного ст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навыков конструктивного общения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адекватным способов  реагирования на проявление жестокости по отношению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профилактической работы с родителями, с целью предотвращения жестокого обращения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56360" y="260280"/>
          <a:ext cx="270036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7003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Мифы и факты в отношении проблемы насилия над детьм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1844640"/>
          <a:ext cx="7776720" cy="6235200"/>
        </p:xfrm>
        <a:graphic>
          <a:graphicData uri="http://schemas.openxmlformats.org/drawingml/2006/table">
            <a:tbl>
              <a:tblPr/>
              <a:tblGrid>
                <a:gridCol w="3746880"/>
                <a:gridCol w="4029840"/>
              </a:tblGrid>
              <a:tr h="1341360">
                <a:tc>
                  <a:txBody>
                    <a:bodyPr lIns="90000" rIns="90000" tIns="163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ф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3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3840">
                <a:tc>
                  <a:txBody>
                    <a:bodyPr lIns="90000" rIns="90000" tIns="13428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ти чаще подвергаются насилию в  социально неблагополучных семь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428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лагополучные семьи более «прозрачны», проблемы детей из таких семей заметны окружающи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ьи с высоким доходом более «закрыты»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е благополучие семьи не является гарантией безопасности реб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4336920"/>
            <a:ext cx="309564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Мифы и факты в отношении проблемы насилия над детьм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3480" cy="4533480"/>
        </p:xfrm>
        <a:graphic>
          <a:graphicData uri="http://schemas.openxmlformats.org/drawingml/2006/table">
            <a:tbl>
              <a:tblPr/>
              <a:tblGrid>
                <a:gridCol w="3886560"/>
                <a:gridCol w="3886920"/>
              </a:tblGrid>
              <a:tr h="2267640">
                <a:tc>
                  <a:txBody>
                    <a:bodyPr lIns="90000" rIns="90000" tIns="1648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Физические наказания могут пойти на пользу ребенк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 наказание рождает в ребенке чувство страха, унижения, усиливает яр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иваемые  таким путем нравственные нормы не усваиваются. Развивается агрессивность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840">
                <a:tc>
                  <a:txBody>
                    <a:bodyPr lIns="90000" rIns="90000" tIns="1648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ети могут провоцировать взрослых на жестокое  обращ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могут вызывать своим поведением гнев, раздражение, но только взрослые в ответе за то, какие способы они выбирают для выраженения своего гне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Мифы и факты в отношении проблемы насилия над детьм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14400" y="1600200"/>
          <a:ext cx="7773480" cy="4533480"/>
        </p:xfrm>
        <a:graphic>
          <a:graphicData uri="http://schemas.openxmlformats.org/drawingml/2006/table">
            <a:tbl>
              <a:tblPr/>
              <a:tblGrid>
                <a:gridCol w="3886560"/>
                <a:gridCol w="3886920"/>
              </a:tblGrid>
              <a:tr h="2267640">
                <a:tc>
                  <a:txBody>
                    <a:bodyPr lIns="90000" rIns="90000" tIns="1648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ексуальное насилие детей - редко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годно в России регистрируют 7-8 тыс.случаев сексуального насилия над детьми, по которым возбуждено уголовное де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в 3 раза больше , чем случаев избиения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женщин России подвергалось сексуальному насилию в детств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840">
                <a:tc>
                  <a:txBody>
                    <a:bodyPr lIns="90000" rIns="90000" tIns="1648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Сексуальное насилие чаще совершается незнакомц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75-80% случаев насильники знакомы детям, из них 45% -это родственники, родители или лица их заменяющ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Мифы и факты в отношении проблемы насилия над детьм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1600200"/>
          <a:ext cx="7773480" cy="4712760"/>
        </p:xfrm>
        <a:graphic>
          <a:graphicData uri="http://schemas.openxmlformats.org/drawingml/2006/table">
            <a:tbl>
              <a:tblPr/>
              <a:tblGrid>
                <a:gridCol w="3886560"/>
                <a:gridCol w="3886920"/>
              </a:tblGrid>
              <a:tr h="1829160">
                <a:tc>
                  <a:txBody>
                    <a:bodyPr lIns="90000" rIns="90000" tIns="1648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ексуальному насилию подвергаются подрос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более часто насилию подвергаются дети от 8 до 11лет, дошкольники тоже считаются повышенной группой рис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0">
                <a:tc>
                  <a:txBody>
                    <a:bodyPr lIns="90000" rIns="90000" tIns="1648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Дети часто сами выступают в роли сексуальных соблазнител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52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могут испытывать сексуальные чувство, однако у них  отсутствуют знания и опыт для того чтобы инициировать сексуальную активность вне группы сверстни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, обладая таким опытом осознают какой  физический и моральный вред могут нанести э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тистик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илие в той или иной форме совершается в каждой четвертой российской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егодно около 2 млн. детей в возрасте до 14 лет избиваются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10% этих детей исходом становится смерть, а для 2 тыс.- самоубий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лее 50 тысяч - убегают из дома, спасаясь от жестокого обращения в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5 тыс. находятся в розыс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90000"/>
              <a:buFont typeface="Wingdings" charset="2"/>
              <a:buChar char="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2008 году от жестокого обращения с детьми погибло 1914 детей, искалечено 2330 детей (по данным из Совета Федерац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90000"/>
              <a:buFont typeface="Wingdings" charset="2"/>
              <a:buChar char="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оло 10 тыс. родителей лишаются су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тельских прав и более 2,5 тыс.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бираются   у родителей без такого лиш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кольку     нахождение      ребенка в сем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ставляет угрозу  его жизни      и здо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4475160"/>
            <a:ext cx="274500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тисти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916280"/>
            <a:ext cx="619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2% жертв - дево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8% – мальч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67% детей младше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% -младше трех лет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50% случаях насил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0% случаях насили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ельные исходы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16720" y="3672000"/>
            <a:ext cx="3095640" cy="280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91280" y="277920"/>
            <a:ext cx="223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 Григорьевна</dc:creator>
  <dc:description/>
  <dc:language>en-US</dc:language>
  <cp:lastModifiedBy>Татьяна Безуглова</cp:lastModifiedBy>
  <dcterms:modified xsi:type="dcterms:W3CDTF">2014-12-20T03:39:00Z</dcterms:modified>
  <cp:revision>116</cp:revision>
  <dc:subject/>
  <dc:title>PowerPoint Presentation</dc:title>
</cp:coreProperties>
</file>