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765-4FEA-41E5-9275-A3D87935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649-D608-4D8B-B2B8-2FDCFFC3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A86-C18E-4D75-896B-0F989C92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F52-F507-481D-A060-381FE7B0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3FBA-7EEE-4614-A3C3-4A7551A8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9015-5807-4B02-976A-EECA3716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CDCA-D9E5-4415-BC8B-27AA3EDF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63F4-BA62-4677-8D26-7F82DEC6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46DC-7761-4A73-B69F-47BDAF6A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1EBD-16E7-4946-B106-88E1E7A3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30CE-1BE4-480A-8E4A-F9831593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052-9AFA-41CD-A6B2-6E64341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9263-1923-4BD8-BEC1-BFEB7D3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63DA-FDC7-4D07-BA14-E9404EE7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E365-7DA7-4D34-B6B8-415EDDC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4380-E288-4923-ACE3-A4E0832A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7C7D-6103-4EDA-A153-3DB40CCF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FC3-C972-461D-92B9-D85219AF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C2F-EA41-477E-937B-255A0361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228-6411-4B39-8D44-0CD4869C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26A-B857-48AF-9AAC-0D71946F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498-6308-4F2A-8BD7-9BF5012E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0C8-82F9-4169-A19F-2036E72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9A2-7D91-48BA-BA99-32BDB470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7F0D-314E-4324-BB18-1758EB900C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0AAE-7C47-4C81-ABEE-421B3C6B08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ДОУ «Детский сад № 104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4952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ема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Развитие интеллектуальных и творческих способностей детей дошкольного возраст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готовила: воспитатель Н.А.Толкуно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C:\Users\User\Desktop\003.JPG"/>
          <p:cNvPicPr/>
          <p:nvPr/>
        </p:nvPicPr>
        <p:blipFill>
          <a:blip r:embed="rId1"/>
          <a:stretch/>
        </p:blipFill>
        <p:spPr>
          <a:xfrm>
            <a:off x="5486400" y="312408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Блоки Дьенеша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особствуют развитию памяти, внимания, воображения, речи. У ребенка появляются умения классифицировать материал, сравнивать, анализировать аналитическую информацию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2" descr="C:\Users\natalia1\Desktop\IMG_2920.JPG"/>
          <p:cNvPicPr/>
          <p:nvPr/>
        </p:nvPicPr>
        <p:blipFill>
          <a:blip r:embed="rId1"/>
          <a:stretch/>
        </p:blipFill>
        <p:spPr>
          <a:xfrm>
            <a:off x="2743200" y="3276720"/>
            <a:ext cx="466416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Геоконт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бёнок осваивает  строение  геометрических  фигур, угл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накомится с понятиями «отрезок», «луч», «прямая» и др.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чится работать на координатной  сетке, шифровать фигуры и строить  их в зеркальном  отражен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Рисунок 4" descr="Персонаж &quot;Малыш Гео&quot; (малый размер)"/>
          <p:cNvPicPr/>
          <p:nvPr/>
        </p:nvPicPr>
        <p:blipFill>
          <a:blip r:embed="rId1"/>
          <a:stretch/>
        </p:blipFill>
        <p:spPr>
          <a:xfrm>
            <a:off x="-228600" y="2514600"/>
            <a:ext cx="204624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Содержимое 6" descr="vos_038[1].jpg"/>
          <p:cNvPicPr/>
          <p:nvPr/>
        </p:nvPicPr>
        <p:blipFill>
          <a:blip r:embed="rId2"/>
          <a:stretch/>
        </p:blipFill>
        <p:spPr>
          <a:xfrm>
            <a:off x="6140520" y="4343400"/>
            <a:ext cx="300348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i (15)"/>
          <p:cNvPicPr/>
          <p:nvPr/>
        </p:nvPicPr>
        <p:blipFill>
          <a:blip r:embed="rId3"/>
          <a:stretch/>
        </p:blipFill>
        <p:spPr>
          <a:xfrm>
            <a:off x="2666880" y="4572000"/>
            <a:ext cx="220032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оисходит развитие ум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98560" y="1828800"/>
            <a:ext cx="464508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блюда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авнива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поставлять и анализировать, делать простейшие обобщен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Тренировка тонких движений пальцев (мелкая моторика) стимулирует развитие речи и интеллект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E:\IMG_2909.JPG"/>
          <p:cNvPicPr/>
          <p:nvPr/>
        </p:nvPicPr>
        <p:blipFill>
          <a:blip r:embed="rId1"/>
          <a:stretch/>
        </p:blipFill>
        <p:spPr>
          <a:xfrm>
            <a:off x="152280" y="1981080"/>
            <a:ext cx="44197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кладыши Никитины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особствуют развитию логического мышления и сообразительн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F:\002.JPG"/>
          <p:cNvPicPr/>
          <p:nvPr/>
        </p:nvPicPr>
        <p:blipFill>
          <a:blip r:embed="rId1"/>
          <a:stretch/>
        </p:blipFill>
        <p:spPr>
          <a:xfrm>
            <a:off x="1346040" y="2819520"/>
            <a:ext cx="4816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150400" cy="3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олшебные превращения  Квадрата Воскобовича  способствуют развитию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6019920" y="4267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5640" y="1523880"/>
            <a:ext cx="4419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ю  логического  мышления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го  и творческого воображени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структивных  умений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ой моторики  ру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ловесные игры дом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«Найди лишнее слово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/Яблоко, слива, 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гурец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груша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«Назови слово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/Назови слова, обозначающие деревья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Как это можно использовать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400" spc="-1" strike="noStrike">
                <a:solidFill>
                  <a:srgbClr val="333333"/>
                </a:solidFill>
                <a:latin typeface="Helvetica Neue"/>
              </a:rPr>
              <a:t>Веселый     –     грустный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Helvetica Neue"/>
              </a:rPr>
              <a:t>«Бывает – не бывает</a:t>
            </a:r>
            <a:r>
              <a:rPr b="1" lang="ru-RU" sz="1800" spc="-1" strike="noStrike">
                <a:solidFill>
                  <a:srgbClr val="333333"/>
                </a:solidFill>
                <a:latin typeface="Helvetica Neue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«Угадай по описанию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/это овощ, он красный, сочный.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Помидор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«Что внутри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/шкаф – свитер; холодильник – кефир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«Отвечай быстро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/Взрослый бросает ребенку мяч, называет цвет. Ребенок, возвращая мяч, должен постараться быстро назвать предмет этого цвета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Шахма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звивают наглядно-образное мышление дошкольников, способствуют зарождению логического мышления, воспитывают усидчивость, внимательность, вдумчивость, целеустремле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C:\Users\User\Desktop\005.JPG"/>
          <p:cNvPicPr/>
          <p:nvPr/>
        </p:nvPicPr>
        <p:blipFill>
          <a:blip r:embed="rId1"/>
          <a:stretch/>
        </p:blipFill>
        <p:spPr>
          <a:xfrm>
            <a:off x="4952880" y="31813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Шаш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орошая возможность для развития в ребенке разнообразных качеств, таких как – логическое мышление и памяти дошкольника, интуиции, целеустремленности, умение быстро принимать верные решения и другие важные качества для жиз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5" descr="C:\Users\User\Desktop\004.JPG"/>
          <p:cNvPicPr/>
          <p:nvPr/>
        </p:nvPicPr>
        <p:blipFill>
          <a:blip r:embed="rId1"/>
          <a:stretch/>
        </p:blipFill>
        <p:spPr>
          <a:xfrm>
            <a:off x="4952880" y="333360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сскажи – и я забуд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Покажи – и я запомн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Дай мне сделать самому  - и я научус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итайская мудро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Рисунок 7" descr="http://www.babyroomblog.ru/wp/wp-content/uploads/2013/08/1448image1.jpg"/>
          <p:cNvPicPr/>
          <p:nvPr/>
        </p:nvPicPr>
        <p:blipFill>
          <a:blip r:embed="rId1"/>
          <a:stretch/>
        </p:blipFill>
        <p:spPr>
          <a:xfrm>
            <a:off x="824040" y="3581280"/>
            <a:ext cx="2711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32000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ПАСИБО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 З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ВНИМАНИЕ!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Рисунок 7" descr="Персонаж &quot;Малыш Гео&quot; (малый размер)"/>
          <p:cNvPicPr/>
          <p:nvPr/>
        </p:nvPicPr>
        <p:blipFill>
          <a:blip r:embed="rId1"/>
          <a:stretch/>
        </p:blipFill>
        <p:spPr>
          <a:xfrm>
            <a:off x="6324480" y="1457280"/>
            <a:ext cx="2419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ктуально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Игровое обеспечение  детских видов  деятельности и их интеграция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Полноценное  развитие  личности ребенка  во всех  образовательных областях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Оборудование, необходимое для выполнения Стандарта (ФГОС ДО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Рисунок 3" descr="Персонаж &quot;Филимон Коттерфильд&quot; (малый размер)"/>
          <p:cNvPicPr/>
          <p:nvPr/>
        </p:nvPicPr>
        <p:blipFill>
          <a:blip r:embed="rId1"/>
          <a:stretch/>
        </p:blipFill>
        <p:spPr>
          <a:xfrm>
            <a:off x="7467480" y="4046400"/>
            <a:ext cx="167652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ть условия для полноценного интеллектуального и творческого развития детей дошкольного возраста посредством применения развивающих игр В. Воскобович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Рисунок 3" descr="Персонаж &quot;Филимон Коттерфильд&quot; (малый размер)"/>
          <p:cNvPicPr/>
          <p:nvPr/>
        </p:nvPicPr>
        <p:blipFill>
          <a:blip r:embed="rId1"/>
          <a:stretch/>
        </p:blipFill>
        <p:spPr>
          <a:xfrm>
            <a:off x="7199280" y="4343400"/>
            <a:ext cx="19447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собенности игровых технологий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07408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огофункционально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ариативность игровых заданий и упражнени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истемно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кий возрастной диапазон участников игр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казочно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ворческий потенциал каждой игр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мфортнос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Рисунок 7" descr="http://www.babyroomblog.ru/wp/wp-content/uploads/2013/08/1448image1.jpg"/>
          <p:cNvPicPr/>
          <p:nvPr/>
        </p:nvPicPr>
        <p:blipFill>
          <a:blip r:embed="rId1"/>
          <a:stretch/>
        </p:blipFill>
        <p:spPr>
          <a:xfrm>
            <a:off x="7381800" y="4876920"/>
            <a:ext cx="1762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гра "Шнур Затейник" развивает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мение ориентироваться на плоскости (верхний, средний, нижний ряд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мение вышивать различные узоры по схеме и графическому диктанту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освоение моторного образа цифры, буквы, составление слов и их написани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внимание, память, мышлени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пространственное воображение, творческие способнос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мелкую моторик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E:\IMG_2903.JPG"/>
          <p:cNvPicPr/>
          <p:nvPr/>
        </p:nvPicPr>
        <p:blipFill>
          <a:blip r:embed="rId1"/>
          <a:stretch/>
        </p:blipFill>
        <p:spPr>
          <a:xfrm>
            <a:off x="4495680" y="4191120"/>
            <a:ext cx="369756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азвивающий планшет «Радужная паутинка» – треугольник, квадрат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Рисунок 4" descr="Персонаж &quot;Малыш Гео&quot; (малый размер)"/>
          <p:cNvPicPr/>
          <p:nvPr/>
        </p:nvPicPr>
        <p:blipFill>
          <a:blip r:embed="rId1"/>
          <a:stretch/>
        </p:blipFill>
        <p:spPr>
          <a:xfrm>
            <a:off x="0" y="3505320"/>
            <a:ext cx="1433520" cy="32004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Персонаж &quot;Малыш Гео&quot; (малый размер)"/>
          <p:cNvPicPr/>
          <p:nvPr/>
        </p:nvPicPr>
        <p:blipFill>
          <a:blip r:embed="rId2"/>
          <a:stretch/>
        </p:blipFill>
        <p:spPr>
          <a:xfrm>
            <a:off x="0" y="3657600"/>
            <a:ext cx="143352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"/>
          <p:cNvSpPr/>
          <p:nvPr/>
        </p:nvSpPr>
        <p:spPr>
          <a:xfrm>
            <a:off x="1295280" y="269064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гра развивает восприятие размеров, форм, цветов, тренирует мелкую моторику, внимание, учит сравнивать предметы по различным признак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6" descr="E:\IMG_2905.JPG"/>
          <p:cNvPicPr/>
          <p:nvPr/>
        </p:nvPicPr>
        <p:blipFill>
          <a:blip r:embed="rId3"/>
          <a:stretch/>
        </p:blipFill>
        <p:spPr>
          <a:xfrm>
            <a:off x="5562720" y="4114800"/>
            <a:ext cx="3454200" cy="242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natalia1\Desktop\IMG_2907.JPG"/>
          <p:cNvPicPr/>
          <p:nvPr/>
        </p:nvPicPr>
        <p:blipFill>
          <a:blip r:embed="rId4"/>
          <a:stretch/>
        </p:blipFill>
        <p:spPr>
          <a:xfrm>
            <a:off x="1600200" y="4114800"/>
            <a:ext cx="3691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«КОЛУМБОВО ЯЙЦО»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82736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вивает пространственное воображение, сообразительность, смекалку, комбинаторные способности, усидчивость и мелкую моторик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:\Users\natalia1\Desktop\IMG_2916.JPG"/>
          <p:cNvPicPr/>
          <p:nvPr/>
        </p:nvPicPr>
        <p:blipFill>
          <a:blip r:embed="rId1"/>
          <a:stretch/>
        </p:blipFill>
        <p:spPr>
          <a:xfrm>
            <a:off x="2362320" y="3502080"/>
            <a:ext cx="4800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алочками Кюизенера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63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Развивают элементарные математические представления – о числе на основе счета и измерени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Помогают освоить ключевые средства познания – сенсорные эталоны (эталоны цвета, размера), таких способов познания, как сравнение, сопоставление предметов (по цвету, длине, ширине, высоте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Помогают освоить пространственно-количественные характеристи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C:\Users\natalia1\Desktop\IMG_2913.JPG"/>
          <p:cNvPicPr/>
          <p:nvPr/>
        </p:nvPicPr>
        <p:blipFill>
          <a:blip r:embed="rId1"/>
          <a:stretch/>
        </p:blipFill>
        <p:spPr>
          <a:xfrm>
            <a:off x="4952880" y="419112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убики Никитиных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вают не только память и внимание, но к тому же воображение и пространственные представления у детей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2" descr="C:\Users\natalia1\Desktop\IMG_2917.JPG"/>
          <p:cNvPicPr/>
          <p:nvPr/>
        </p:nvPicPr>
        <p:blipFill>
          <a:blip r:embed="rId1"/>
          <a:stretch/>
        </p:blipFill>
        <p:spPr>
          <a:xfrm>
            <a:off x="2362320" y="32767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2T12:38:07Z</dcterms:created>
  <dc:creator>а</dc:creator>
  <dc:description/>
  <dc:language>en-US</dc:language>
  <cp:lastModifiedBy>User</cp:lastModifiedBy>
  <dcterms:modified xsi:type="dcterms:W3CDTF">2018-02-02T04:01:42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