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219-9BE7-40CA-B9EC-73457143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823-21CF-4A16-A20B-AB597CE7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61E-8B7B-4164-8876-AB130943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B89-30DB-4157-A685-221207B6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BF5-AA3B-46F0-B2F5-889D516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F18-6D68-49C6-8358-0636CCE8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F03-4853-4550-9A73-188F731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B9A-BA4E-46BD-80FD-5F09DB0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599-D334-404C-A5DB-6CD7EC13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C2E-2F2E-4C69-94A6-D25C7387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0A7-4B96-4D2F-B394-C1B7436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2D2-BDD4-4B4F-9928-19E70F5B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E452-C6AC-446D-94F9-175CC64E0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i.ytimg.com/vi/9PYYz_3g5WM/hqdefault.jpg"/>
          <p:cNvPicPr/>
          <p:nvPr/>
        </p:nvPicPr>
        <p:blipFill>
          <a:blip r:embed="rId1"/>
          <a:stretch/>
        </p:blipFill>
        <p:spPr>
          <a:xfrm>
            <a:off x="155520" y="214200"/>
            <a:ext cx="88632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-fotki.yandex.ru/get/4/106260146.41/0_89b47_3fe2e1c7_XL.jpg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xn--2-8sbxpv.xn--p1ai/images/stories/kolybbig.png"/>
          <p:cNvPicPr/>
          <p:nvPr/>
        </p:nvPicPr>
        <p:blipFill>
          <a:blip r:embed="rId1"/>
          <a:stretch/>
        </p:blipFill>
        <p:spPr>
          <a:xfrm>
            <a:off x="428760" y="357120"/>
            <a:ext cx="8345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v2.lori-images.net/mama-s-dvumya-detmi-idet-po-osennemu-parku-0000465962-preview.jpg"/>
          <p:cNvPicPr/>
          <p:nvPr/>
        </p:nvPicPr>
        <p:blipFill>
          <a:blip r:embed="rId1"/>
          <a:stretch/>
        </p:blipFill>
        <p:spPr>
          <a:xfrm>
            <a:off x="428760" y="0"/>
            <a:ext cx="83930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green-cross.ru/upload/medialibrary/9b8/picturecompetition8.jpg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news2world.net/upload/38-677728931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i.ytimg.com/vi/D3_DykOjWRs/hqdefault.jpg"/>
          <p:cNvPicPr/>
          <p:nvPr/>
        </p:nvPicPr>
        <p:blipFill>
          <a:blip r:embed="rId1"/>
          <a:stretch/>
        </p:blipFill>
        <p:spPr>
          <a:xfrm>
            <a:off x="285840" y="357120"/>
            <a:ext cx="86724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2.wp.com/www.imenno.ru/wp-content/uploads/2014/11/DM9.gif?resize=640%2C427"/>
          <p:cNvPicPr/>
          <p:nvPr/>
        </p:nvPicPr>
        <p:blipFill>
          <a:blip r:embed="rId1"/>
          <a:stretch/>
        </p:blipFill>
        <p:spPr>
          <a:xfrm>
            <a:off x="155520" y="285840"/>
            <a:ext cx="8705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07:09:07Z</dcterms:created>
  <dc:creator>User</dc:creator>
  <dc:description/>
  <dc:language>en-US</dc:language>
  <cp:lastModifiedBy>User</cp:lastModifiedBy>
  <dcterms:modified xsi:type="dcterms:W3CDTF">2016-11-25T05:40:47Z</dcterms:modified>
  <cp:revision>7</cp:revision>
  <dc:subject/>
  <dc:title>Слайд 1</dc:title>
</cp:coreProperties>
</file>