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659-74B6-4721-858B-88FC16BB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44F-A946-4FF3-9625-CD97420E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67EA6-173F-445F-930B-3AF55686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22C38-CD77-41FF-975C-1C6EF7BB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34F1F-73C8-49CA-A21A-A6BB3EEE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FD7AB-4D18-4A8B-B968-9A9BFF20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E6028-D490-4653-808A-14544601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5C2C5-1066-43D6-8344-B339A62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493E4-449F-4188-BBA9-46184387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1624A-5BFC-4735-AD5F-1496538F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FC996-A858-4675-99C3-4A748475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D38FC-73BC-4581-83D5-268DABD4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424-6D7C-4999-877A-A555DDDD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7585E-1334-45BE-A4F9-03E899FD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A8D2B-1EFC-42F1-9B5E-3428D11B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3D228-7739-44B1-B979-1B1BAF8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E43B6-9C25-406D-9A30-4A743A2F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403D3-D147-47CA-A2C1-5CE4AED3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5A4FF-4B17-4E4B-A253-A41FC9CE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7D642-65C3-4210-8BFA-AAD35032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61517-1C66-462C-B7E8-4B730FB0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6445F-5829-4950-B471-FF921E27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33208-5379-4C16-9D39-0592D1FE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11E-82AA-4DBE-835D-B988EA46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DADDE-79D1-42F0-A867-E3006B2F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B61B6-E71F-4DBF-AD32-B0C38E1E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02BA3-54B3-45FF-BF22-7F942FE4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BEA23-7380-49DC-A4E9-9DB1F94C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65069-3F05-461C-B6D4-411E0EB0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F2E44-74C1-456B-88DB-9D4CD404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BC556-D5C1-4862-8ABA-A44FEA2F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1277C-F463-4136-BF5A-8B293432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CECC8-ABA1-493E-9C86-637A06ED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ECC71-69E0-4F92-84C2-49993B05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2921-4230-4C45-8663-5DD24A35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A9B0A-FAD7-48B3-8D6B-D669D1D2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23322-7DB4-413F-89CE-008942C2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C18D4-606D-43A5-A641-E0A3EEC5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74953-A1E4-490D-9CF6-94D0D10A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785C7-B9CF-4391-AE7B-25C6F267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89338-657C-4E7F-B68E-AD8101F3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E99C7-741C-45D6-B18E-CE8A59E6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DF7D7-1EA5-4A62-8472-00172A31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9AC54-B9E3-4242-9B03-C4560289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E2000-1E6D-4C90-BB9C-66C76361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FA31-9A07-4BD7-A042-6B6BEA10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B922D-57C4-4361-93A5-418A0AE2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11C8C-5C87-4921-A921-C79ECD8B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99316-50F1-4F4D-A9F7-E372A1D9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8DB19-72D0-45FC-97C0-27D0A1A3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EEC6C-229D-47B0-9112-A785620E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E2BA7-F927-4EEF-8789-A7B11FDF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DC21D-6B21-4709-9B3E-A60B9C52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3A919-770D-423E-9EB1-B82BC672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CF35C-4F08-42C8-B68E-8C4382BF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8DE9C-FDAE-4FA6-BF24-F24E9611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307D-3A0E-461F-B7FD-A9951EE4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9AED0-AD47-4369-8D83-5EBE2E0B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BEE0D-C33C-4FAA-94DB-7E359E55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B92AD-132A-4CAB-8472-E843FD15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01D14-FD1B-4308-8D17-1346705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634BA-8BF7-4B4C-8C7F-A29DAEA2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6BDEF-7F7E-44C2-A772-9EEFC180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09157-C763-4916-B564-B38DB4C8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86586-8887-4D87-AF1F-3C647887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DA612-F671-43BA-9D63-851B6FD6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B0D16-75AC-4BFE-9ABB-91B28C17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C88D-8355-4D2D-A0A0-0C8CB6F3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1EE04-B389-4489-AF07-AF370FCD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BDF28-F9E7-4236-98E1-199E2E26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8E0A5-A6FC-49D7-ADC8-77EAC8CF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F4D64-DF69-4E46-8D61-E84F9CF1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47EC0-500E-48D0-A60E-96A826DC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154E7-FA52-4008-AD6A-59EEC0B5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B1BD9-63A8-453D-8F54-36475ECF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51F3C-C21F-43D6-A180-0D4A9797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B0C1C-C292-4C84-8FBF-C53F6E90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5EC65-27BE-4A4B-81B0-42111E49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9986-7D32-45CE-AC2A-4F96B427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7FC7DD-5441-4050-BCA9-34EDB607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5AE92-4D07-4926-A7E5-0DA10A8B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13B32-B9A7-4575-B861-0950FFBF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47598-8B27-412C-B5F7-315442B6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DDE09-3409-4A72-AA40-6352856E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B0BE4-F1B1-4122-8DFA-D7364E4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39D1A-669E-4FAD-8490-0099009A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D9FE3-A6C5-4ECC-A6FF-D7FAC865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90E12-29BA-42DF-8029-B332C9A8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F7B67-2294-40B4-BC6A-9D26110D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1F87-76BB-4D9F-96B0-CE8934E7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09FCD-004C-44A9-A968-CE2F030A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E385-5A2F-4280-A4FA-10A2CF30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027-4AE1-4B4A-BE71-44A8D479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751E-9F97-4CBA-91F7-471F9595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FB27-44A7-4594-B1B1-06282BA8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1F3A-FF1C-4C46-84CD-81D0128B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8AFE-EF7A-49DC-8E76-AB72147D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F26D-D670-47F6-AAA6-9088DE04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68C2-8EBC-48B6-95EE-E13651F9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CA5A-845F-4964-AB97-5FB7B5BD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7E46-EB03-4263-BB6A-AD3602D1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2B807-D43A-4B01-9D54-57F42061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1185-E108-4FA2-B392-C66B1E90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FB9-136F-487E-AB93-E894ADB8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0F30-F2FF-4D78-964E-960F6619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3373-9FFE-4CBF-9F2D-369569FF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00F5-7AFD-4F9F-A36A-FC2BE2B7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83B6-99C2-4D21-B52D-6559288E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3B0DB-2ED2-4821-B5AD-5494C2EB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40622-4C3B-47E8-A351-A4A47809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F8FA-5111-4AF8-86FE-7AEE502A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7951-8183-4FE1-9BAA-8D279DA5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321C-C21F-4810-B6C3-5C7F8AA0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A8765-9CF2-4447-BD1F-85BC3A1A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D86-B581-4CDA-8C42-8BF21356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C88B-BCE3-4F28-BE28-BA9290A0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5FD00-CB8E-4362-B941-89F445AC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A6FE8-4617-420B-8B08-0215277D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09ACF-C7E8-40E2-9EE5-E8E57A24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357C6-E534-4FC8-9761-35961AD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815E8-8319-4997-8EFC-46237AE4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7E90E-B4EF-4DE5-8824-F588EC31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35D37-EBC8-410D-BC87-C691F694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AC49-99E2-469C-9D7B-19E70379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A5F0C-A931-46A1-90AB-3D5535FB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9C2-AC14-4B1B-B1F4-9340A7E6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B06ED-3597-407B-B9EC-A56A0BBF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3B9D-FB1C-4DD3-98ED-6E9B7B49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69297-E1AF-4E42-BA45-0306CC79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D8C0-9EE6-4361-9A66-FC5549D9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B517C-C0FF-4986-812E-D7617307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ABC65-CD3A-47A0-A2DA-F33482DF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4DF97-8666-4086-8B17-DB831451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261A1-83D1-49C1-B0AA-6EC58975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EB816-8227-4520-874F-C61A882B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D02EA-89E2-4DAC-970D-3A5DC076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CC0-F044-4B72-8E72-8636A27B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96198-8BF9-4851-86AF-71A6DE64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41222-9655-4AD8-BD01-2FC5CD41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C3977-1F31-435D-AB01-EBD8E834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E2892-5404-4F41-9EC1-405BC3F6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1072D-6D17-44E8-B76A-AE53D955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BB16E-28BE-40A3-AC6A-4BC0E646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223B3-118C-497E-983E-A7A75767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9B3C2-AB01-4306-866E-BA70AD63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8EBF9-845C-4849-B0C2-1E5482E5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2F3F1-9784-42DF-A16D-2719845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F59-907F-4871-B071-244EAFB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749C-611A-4C73-8B3A-80B0CE15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C0FEA-AE44-4507-B872-37702AE1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E6077-C7DB-4CEC-94A6-9937B167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DE072-23D1-4C4A-8375-A14C7B9A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A5C61-1B34-4FA6-89B6-95B7AA48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18402-1B3B-4F40-A9F5-6D8584C9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B814B-FADD-4D13-9D7A-0122618F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9F0BE-652B-4460-BDA0-9AD1EB7C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76E68-AE0A-4692-8A2F-2CDFF3DD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9AC9F-FC4C-4834-B440-EA2E1790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600-E62E-46EE-8BE8-687AE0F5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6D630-5E3D-4201-B44D-4817B198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7CD70-F802-47D2-85A9-5FDD2CB0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36C83-03CC-4788-9EA4-96CD87CC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589AE-F05A-43CF-AF0F-9F596078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7F85-E4F1-41AE-87EB-45254901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FDE9F-95EB-4A43-9237-B0A226AD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60F95-719E-48D2-8BAF-17350CF8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94A1C-1C66-441D-8C82-B9F9DF01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F7945-AA77-4664-8626-A4048E46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95B0F-28A3-4E78-82FB-06246A0B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E13-B6B6-4B81-9736-2CA3F50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9741D-257E-41FA-BD62-FB6F7BDB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C13AB-F58C-4426-86B0-B70B5F03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E4240-B446-407E-B09F-A57088E0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6C2E2-CC3C-4510-A24B-6B1BEDD9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ED467-88E1-430D-A0DC-A2B5FC7E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0017A-518A-4C48-8369-47D5CF83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0ACC7-E940-432E-8A68-11EC82D7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A24AC-22BD-4971-8D2C-05BD7259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B30D2-1A0E-4176-A00B-5226FCAF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1F3AC-78D0-4E7F-BBC6-EB4020E5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B935-B2FB-45A5-8E78-4AC98F7855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2D45-B0BE-465B-9A7A-79A499F865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C851-7120-4822-8797-906A66888C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56EC-0B9C-43F7-B727-3C50ADEB43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2CD9-8630-4E9A-B94C-CB53F77389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7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8A0C-23CB-4018-B111-30359630D8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61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EFB8-D1A9-4771-A646-39F312055B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C4B4-7AEC-426E-A5B2-3467B3DBB2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E521-C329-4A72-807C-7FCF346392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D25F-DCFA-49F0-833B-6615097BAB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41DE-7A6C-48D2-81DD-94FB62D3DE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61AA-A146-473A-8B46-B5F6C8843D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7CFC-CE5A-4C90-A048-1EF8FA3151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9724-7451-4F30-B25B-EABED917FF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F86D-8E49-4C09-A040-F726BF72A2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3"/>
          <p:cNvSpPr txBox="1"/>
          <p:nvPr/>
        </p:nvSpPr>
        <p:spPr>
          <a:xfrm>
            <a:off x="395280" y="981000"/>
            <a:ext cx="8280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port in our modern lif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61" name="TextBox 6"/>
          <p:cNvSpPr/>
          <p:nvPr/>
        </p:nvSpPr>
        <p:spPr>
          <a:xfrm>
            <a:off x="4174200" y="521496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ad00"/>
                </a:solidFill>
                <a:latin typeface="Times New Roman"/>
              </a:rPr>
              <a:t>YUMINOVA ELIZAVE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9" name="WordArt 4"/>
          <p:cNvSpPr txBox="1"/>
          <p:nvPr/>
        </p:nvSpPr>
        <p:spPr>
          <a:xfrm>
            <a:off x="826920" y="981000"/>
            <a:ext cx="770580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115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ynchronized swimming</a:t>
            </a:r>
            <a:endParaRPr b="0" i="1" lang="en-US" sz="3200" spc="1" strike="noStrike">
              <a:ln w="936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90" name="Picture 7" descr="imagрекes"/>
          <p:cNvPicPr/>
          <p:nvPr/>
        </p:nvPicPr>
        <p:blipFill>
          <a:blip r:embed="rId1"/>
          <a:stretch/>
        </p:blipFill>
        <p:spPr>
          <a:xfrm>
            <a:off x="900000" y="1989000"/>
            <a:ext cx="7488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ter Ballet in 19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2" name="Picture 7" descr="imaдщ0ges"/>
          <p:cNvPicPr/>
          <p:nvPr/>
        </p:nvPicPr>
        <p:blipFill>
          <a:blip r:embed="rId1"/>
          <a:stretch/>
        </p:blipFill>
        <p:spPr>
          <a:xfrm>
            <a:off x="0" y="2421000"/>
            <a:ext cx="4356000" cy="41767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8" descr="imпадлэages"/>
          <p:cNvPicPr/>
          <p:nvPr/>
        </p:nvPicPr>
        <p:blipFill>
          <a:blip r:embed="rId2"/>
          <a:stretch/>
        </p:blipFill>
        <p:spPr>
          <a:xfrm>
            <a:off x="4572000" y="2349360"/>
            <a:ext cx="432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5" name="Picture 8" descr="победа"/>
          <p:cNvPicPr/>
          <p:nvPr/>
        </p:nvPicPr>
        <p:blipFill>
          <a:blip r:embed="rId1"/>
          <a:stretch/>
        </p:blipFill>
        <p:spPr>
          <a:xfrm>
            <a:off x="0" y="1989000"/>
            <a:ext cx="4500720" cy="4869000"/>
          </a:xfrm>
          <a:prstGeom prst="rect">
            <a:avLst/>
          </a:prstGeom>
          <a:ln w="0">
            <a:noFill/>
          </a:ln>
        </p:spPr>
      </p:pic>
      <p:sp>
        <p:nvSpPr>
          <p:cNvPr id="696" name="WordArt 7"/>
          <p:cNvSpPr txBox="1"/>
          <p:nvPr/>
        </p:nvSpPr>
        <p:spPr>
          <a:xfrm>
            <a:off x="900000" y="549360"/>
            <a:ext cx="763272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ussian National Team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7" name="Picture 12" descr="imрррages"/>
          <p:cNvPicPr/>
          <p:nvPr/>
        </p:nvPicPr>
        <p:blipFill>
          <a:blip r:embed="rId2"/>
          <a:stretch/>
        </p:blipFill>
        <p:spPr>
          <a:xfrm>
            <a:off x="5148360" y="191628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3" descr="победаs"/>
          <p:cNvPicPr/>
          <p:nvPr/>
        </p:nvPicPr>
        <p:blipFill>
          <a:blip r:embed="rId3"/>
          <a:stretch/>
        </p:blipFill>
        <p:spPr>
          <a:xfrm>
            <a:off x="4500720" y="4076640"/>
            <a:ext cx="4643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33"/>
                </a:solidFill>
                <a:latin typeface="Arial"/>
              </a:rPr>
              <a:t>Head Coach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00" name="Picture 7" descr="20101208203001_1b"/>
          <p:cNvPicPr/>
          <p:nvPr/>
        </p:nvPicPr>
        <p:blipFill>
          <a:blip r:embed="rId1"/>
          <a:stretch/>
        </p:blipFill>
        <p:spPr>
          <a:xfrm>
            <a:off x="0" y="2060640"/>
            <a:ext cx="4500720" cy="45370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8" descr="imag"/>
          <p:cNvPicPr/>
          <p:nvPr/>
        </p:nvPicPr>
        <p:blipFill>
          <a:blip r:embed="rId2"/>
          <a:stretch/>
        </p:blipFill>
        <p:spPr>
          <a:xfrm>
            <a:off x="4643280" y="2060640"/>
            <a:ext cx="450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"/>
              </a:rPr>
              <a:t>That’s so beautiful!!!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03" name="Picture 8" descr="imиииages"/>
          <p:cNvPicPr/>
          <p:nvPr/>
        </p:nvPicPr>
        <p:blipFill>
          <a:blip r:embed="rId1"/>
          <a:stretch/>
        </p:blipFill>
        <p:spPr>
          <a:xfrm rot="2697600">
            <a:off x="1596960" y="2177640"/>
            <a:ext cx="1981440" cy="15858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0" descr="inдшшгdex"/>
          <p:cNvPicPr/>
          <p:nvPr/>
        </p:nvPicPr>
        <p:blipFill>
          <a:blip r:embed="rId2"/>
          <a:stretch/>
        </p:blipFill>
        <p:spPr>
          <a:xfrm>
            <a:off x="5168880" y="1844640"/>
            <a:ext cx="2762280" cy="23050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9" descr="imпрррages"/>
          <p:cNvPicPr/>
          <p:nvPr/>
        </p:nvPicPr>
        <p:blipFill>
          <a:blip r:embed="rId3"/>
          <a:stretch/>
        </p:blipFill>
        <p:spPr>
          <a:xfrm>
            <a:off x="684360" y="4005360"/>
            <a:ext cx="3341520" cy="28526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3" descr="iппяmages"/>
          <p:cNvPicPr/>
          <p:nvPr/>
        </p:nvPicPr>
        <p:blipFill>
          <a:blip r:embed="rId4"/>
          <a:stretch/>
        </p:blipFill>
        <p:spPr>
          <a:xfrm rot="20071800">
            <a:off x="5579640" y="4437000"/>
            <a:ext cx="27050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Russian FANS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08" name="Picture 7" descr="imaнж98нges"/>
          <p:cNvPicPr/>
          <p:nvPr/>
        </p:nvPicPr>
        <p:blipFill>
          <a:blip r:embed="rId1"/>
          <a:stretch/>
        </p:blipFill>
        <p:spPr>
          <a:xfrm>
            <a:off x="3348000" y="2276640"/>
            <a:ext cx="2857680" cy="20160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imaмпотяges"/>
          <p:cNvPicPr/>
          <p:nvPr/>
        </p:nvPicPr>
        <p:blipFill>
          <a:blip r:embed="rId2"/>
          <a:stretch/>
        </p:blipFill>
        <p:spPr>
          <a:xfrm>
            <a:off x="611280" y="4292640"/>
            <a:ext cx="3646440" cy="25653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1" descr="imввввтages"/>
          <p:cNvPicPr/>
          <p:nvPr/>
        </p:nvPicPr>
        <p:blipFill>
          <a:blip r:embed="rId3"/>
          <a:stretch/>
        </p:blipFill>
        <p:spPr>
          <a:xfrm>
            <a:off x="5435640" y="4292640"/>
            <a:ext cx="3492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"/>
              </a:rPr>
              <a:t>SOCHI 2014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2" name="Picture 11" descr="imппages"/>
          <p:cNvPicPr/>
          <p:nvPr/>
        </p:nvPicPr>
        <p:blipFill>
          <a:blip r:embed="rId1"/>
          <a:stretch/>
        </p:blipFill>
        <p:spPr>
          <a:xfrm>
            <a:off x="395280" y="1916280"/>
            <a:ext cx="2975040" cy="20332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2" descr="i9mages"/>
          <p:cNvPicPr/>
          <p:nvPr/>
        </p:nvPicPr>
        <p:blipFill>
          <a:blip r:embed="rId2"/>
          <a:stretch/>
        </p:blipFill>
        <p:spPr>
          <a:xfrm>
            <a:off x="3851280" y="1700280"/>
            <a:ext cx="3897360" cy="2448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3" descr="imag0099es"/>
          <p:cNvPicPr/>
          <p:nvPr/>
        </p:nvPicPr>
        <p:blipFill>
          <a:blip r:embed="rId3"/>
          <a:stretch/>
        </p:blipFill>
        <p:spPr>
          <a:xfrm>
            <a:off x="971640" y="4224240"/>
            <a:ext cx="3456000" cy="26337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4" descr="iджndex"/>
          <p:cNvPicPr/>
          <p:nvPr/>
        </p:nvPicPr>
        <p:blipFill>
          <a:blip r:embed="rId4"/>
          <a:stretch/>
        </p:blipFill>
        <p:spPr>
          <a:xfrm>
            <a:off x="5316480" y="4181400"/>
            <a:ext cx="35035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3" name="Picture 7" descr="спор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opular sports in Russia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Volley-ba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5" name="Picture 5" descr="271910"/>
          <p:cNvPicPr/>
          <p:nvPr/>
        </p:nvPicPr>
        <p:blipFill>
          <a:blip r:embed="rId1"/>
          <a:stretch/>
        </p:blipFill>
        <p:spPr>
          <a:xfrm>
            <a:off x="0" y="2133720"/>
            <a:ext cx="4572000" cy="4724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7" descr="1010917_0917_201"/>
          <p:cNvPicPr/>
          <p:nvPr/>
        </p:nvPicPr>
        <p:blipFill>
          <a:blip r:embed="rId2"/>
          <a:stretch/>
        </p:blipFill>
        <p:spPr>
          <a:xfrm>
            <a:off x="4716360" y="2133720"/>
            <a:ext cx="4427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otba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8" name="Picture 7" descr="images"/>
          <p:cNvPicPr/>
          <p:nvPr/>
        </p:nvPicPr>
        <p:blipFill>
          <a:blip r:embed="rId1"/>
          <a:stretch/>
        </p:blipFill>
        <p:spPr>
          <a:xfrm>
            <a:off x="0" y="2205000"/>
            <a:ext cx="4427640" cy="41767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8" descr="imagesарокепь"/>
          <p:cNvPicPr/>
          <p:nvPr/>
        </p:nvPicPr>
        <p:blipFill>
          <a:blip r:embed="rId2"/>
          <a:stretch/>
        </p:blipFill>
        <p:spPr>
          <a:xfrm>
            <a:off x="4788000" y="2205000"/>
            <a:ext cx="43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ox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6" descr="imaвавges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ki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4" name="Picture 6" descr="imagesакк"/>
          <p:cNvPicPr/>
          <p:nvPr/>
        </p:nvPicPr>
        <p:blipFill>
          <a:blip r:embed="rId1"/>
          <a:stretch/>
        </p:blipFill>
        <p:spPr>
          <a:xfrm>
            <a:off x="0" y="1916280"/>
            <a:ext cx="4356000" cy="4941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7" descr="indeнкx"/>
          <p:cNvPicPr/>
          <p:nvPr/>
        </p:nvPicPr>
        <p:blipFill>
          <a:blip r:embed="rId2"/>
          <a:stretch/>
        </p:blipFill>
        <p:spPr>
          <a:xfrm>
            <a:off x="4716360" y="1989000"/>
            <a:ext cx="4427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ymnastics          Callisthen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7" name="Picture 11" descr="imagesыц"/>
          <p:cNvPicPr/>
          <p:nvPr/>
        </p:nvPicPr>
        <p:blipFill>
          <a:blip r:embed="rId1"/>
          <a:stretch/>
        </p:blipFill>
        <p:spPr>
          <a:xfrm>
            <a:off x="684360" y="1989000"/>
            <a:ext cx="3456000" cy="21607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2" descr="imageаоаs"/>
          <p:cNvPicPr/>
          <p:nvPr/>
        </p:nvPicPr>
        <p:blipFill>
          <a:blip r:embed="rId2"/>
          <a:stretch/>
        </p:blipFill>
        <p:spPr>
          <a:xfrm>
            <a:off x="684360" y="4292640"/>
            <a:ext cx="3493800" cy="23050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3" descr="index"/>
          <p:cNvPicPr/>
          <p:nvPr/>
        </p:nvPicPr>
        <p:blipFill>
          <a:blip r:embed="rId3"/>
          <a:stretch/>
        </p:blipFill>
        <p:spPr>
          <a:xfrm>
            <a:off x="5240160" y="1916280"/>
            <a:ext cx="3219480" cy="2233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4" descr="imagesатв"/>
          <p:cNvPicPr/>
          <p:nvPr/>
        </p:nvPicPr>
        <p:blipFill>
          <a:blip r:embed="rId4"/>
          <a:stretch/>
        </p:blipFill>
        <p:spPr>
          <a:xfrm>
            <a:off x="5197320" y="4257720"/>
            <a:ext cx="32623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most popular sport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In The UK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Golf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12" descr="imaукges"/>
          <p:cNvPicPr/>
          <p:nvPr/>
        </p:nvPicPr>
        <p:blipFill>
          <a:blip r:embed="rId1"/>
          <a:stretch/>
        </p:blipFill>
        <p:spPr>
          <a:xfrm rot="1300200">
            <a:off x="468360" y="2491920"/>
            <a:ext cx="3352680" cy="374508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3" descr="indвввex"/>
          <p:cNvPicPr/>
          <p:nvPr/>
        </p:nvPicPr>
        <p:blipFill>
          <a:blip r:embed="rId2"/>
          <a:stretch/>
        </p:blipFill>
        <p:spPr>
          <a:xfrm rot="20088600">
            <a:off x="5307120" y="2349000"/>
            <a:ext cx="33685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gby and Cricke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10" descr="imaвувыges"/>
          <p:cNvPicPr/>
          <p:nvPr/>
        </p:nvPicPr>
        <p:blipFill>
          <a:blip r:embed="rId1"/>
          <a:stretch/>
        </p:blipFill>
        <p:spPr>
          <a:xfrm>
            <a:off x="0" y="1557360"/>
            <a:ext cx="4211640" cy="2448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1" descr="аааimages"/>
          <p:cNvPicPr/>
          <p:nvPr/>
        </p:nvPicPr>
        <p:blipFill>
          <a:blip r:embed="rId2"/>
          <a:stretch/>
        </p:blipFill>
        <p:spPr>
          <a:xfrm>
            <a:off x="0" y="4076640"/>
            <a:ext cx="4211640" cy="27813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iкукdex"/>
          <p:cNvPicPr/>
          <p:nvPr/>
        </p:nvPicPr>
        <p:blipFill>
          <a:blip r:embed="rId3"/>
          <a:stretch/>
        </p:blipFill>
        <p:spPr>
          <a:xfrm>
            <a:off x="5148360" y="1628640"/>
            <a:ext cx="374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3:59:13Z</dcterms:created>
  <dc:creator>admin</dc:creator>
  <dc:description/>
  <dc:language>en-US</dc:language>
  <cp:lastModifiedBy>User</cp:lastModifiedBy>
  <dcterms:modified xsi:type="dcterms:W3CDTF">2018-02-02T15:22:51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