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DD8-D0F4-4975-9652-7A612E3C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886-C8A3-4994-B266-EFF1F15B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2D9-07F4-4545-9119-8C337BB3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7C2-59B5-43C3-8C60-13270F6F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8FE6-CDF7-4229-98EB-BFAD4AA0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332A-87D8-452C-AD86-FED4CDD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0663-6BA3-404F-B9D5-85A68E62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46D1-8596-4045-9F16-330BDE38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3360-262E-4859-934D-2ACAA180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CA34-8D05-4A79-BEDA-D071C995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09DB-4985-46C9-B236-CFFCBCEC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D24-E16D-4B69-B46E-5BB27FC2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BF55-35C3-4CD8-8D8E-8136EF1A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4500-F895-45B0-BC7A-F0724AD7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04EC-E01F-466E-A67A-291A8736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CCB5-12E3-41ED-9A44-0EE4CDC1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0B55-03A3-48BC-BBE5-95B41772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962-6935-4D4E-B10D-7FED1BA3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813-DCC3-4674-8CB0-7CA56321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19D-8CA2-412A-BECB-BB009B7B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4F6-71E0-4BCA-AA75-466E7313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7B9-8A0F-4C25-A986-5CBF337C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27B-93AD-453A-ABFE-7428CD86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627-165C-402D-8BA5-BCFDBC5C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F27C-98A0-4925-BE94-02903A21D8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7848-4316-4F72-AA81-F53F82AC0CA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sa.gov/images/content/52001main_ozone_hir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dnews.org.ru/_nw/70/88791608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5" descr="Картинка 8 из 29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907920"/>
            <a:ext cx="8353440" cy="56167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6"/>
          <p:cNvSpPr/>
          <p:nvPr/>
        </p:nvSpPr>
        <p:spPr>
          <a:xfrm>
            <a:off x="2268360" y="26028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ОНОВЫЕ ДЫР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780000" y="260280"/>
            <a:ext cx="536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4c3aa"/>
                </a:solidFill>
                <a:latin typeface="Arial"/>
              </a:rPr>
              <a:t>Под воздействием радиации яблоки выросли невероятных размеров</a:t>
            </a:r>
            <a:endParaRPr b="0" lang="en-US" sz="26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7" name="Picture 3" descr="apple"/>
          <p:cNvPicPr/>
          <p:nvPr/>
        </p:nvPicPr>
        <p:blipFill>
          <a:blip r:embed="rId1"/>
          <a:stretch/>
        </p:blipFill>
        <p:spPr>
          <a:xfrm>
            <a:off x="0" y="0"/>
            <a:ext cx="3816360" cy="2462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jereben"/>
          <p:cNvPicPr/>
          <p:nvPr/>
        </p:nvPicPr>
        <p:blipFill>
          <a:blip r:embed="rId2"/>
          <a:stretch/>
        </p:blipFill>
        <p:spPr>
          <a:xfrm>
            <a:off x="179280" y="4005360"/>
            <a:ext cx="4033800" cy="2693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sosna"/>
          <p:cNvPicPr/>
          <p:nvPr/>
        </p:nvPicPr>
        <p:blipFill>
          <a:blip r:embed="rId3"/>
          <a:stretch/>
        </p:blipFill>
        <p:spPr>
          <a:xfrm>
            <a:off x="6554880" y="3068640"/>
            <a:ext cx="2589120" cy="37893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6"/>
          <p:cNvSpPr/>
          <p:nvPr/>
        </p:nvSpPr>
        <p:spPr>
          <a:xfrm>
            <a:off x="0" y="2948040"/>
            <a:ext cx="41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c3aa"/>
                </a:solidFill>
                <a:latin typeface="Arial"/>
              </a:rPr>
              <a:t>Жеребёнок с пятью конечностя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206880" y="-8555040"/>
          <a:ext cx="415800" cy="239569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39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на от облучения радиацией стала гигантской (слева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 </a:t>
                      </a:r>
                      <a:r>
                        <a:rPr b="0" lang="ru-RU" sz="1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т мальчик, из прилегающей к Чернобылю деревни, сам излучает радиаци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206880" y="-8555040"/>
          <a:ext cx="415800" cy="239569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39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на от облучения радиацией стала гигантской (слева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  </a:t>
                      </a:r>
                      <a:r>
                        <a:rPr b="0" lang="ru-RU" sz="1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т мальчик, из прилегающей к Чернобылю деревни, сам излучает радиаци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Rectangle 23"/>
          <p:cNvSpPr/>
          <p:nvPr/>
        </p:nvSpPr>
        <p:spPr>
          <a:xfrm>
            <a:off x="4284720" y="2346840"/>
            <a:ext cx="215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c3aa"/>
                </a:solidFill>
                <a:latin typeface="Arial"/>
              </a:rPr>
              <a:t>Сосна от облучения радиацией стала гигантской (слева)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24" descr=""/>
          <p:cNvPicPr/>
          <p:nvPr/>
        </p:nvPicPr>
        <p:blipFill>
          <a:blip r:embed="rId4"/>
          <a:stretch/>
        </p:blipFill>
        <p:spPr>
          <a:xfrm>
            <a:off x="4427640" y="5959440"/>
            <a:ext cx="1917720" cy="72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i?id=562891481-13-72"/>
          <p:cNvPicPr/>
          <p:nvPr/>
        </p:nvPicPr>
        <p:blipFill>
          <a:blip r:embed="rId1"/>
          <a:stretch/>
        </p:blipFill>
        <p:spPr>
          <a:xfrm>
            <a:off x="539640" y="476280"/>
            <a:ext cx="4103640" cy="3672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i?id=391858550-47-72"/>
          <p:cNvPicPr/>
          <p:nvPr/>
        </p:nvPicPr>
        <p:blipFill>
          <a:blip r:embed="rId2"/>
          <a:stretch/>
        </p:blipFill>
        <p:spPr>
          <a:xfrm>
            <a:off x="4427640" y="2276640"/>
            <a:ext cx="446544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i?id=431795429-49-72"/>
          <p:cNvPicPr/>
          <p:nvPr/>
        </p:nvPicPr>
        <p:blipFill>
          <a:blip r:embed="rId1"/>
          <a:stretch/>
        </p:blipFill>
        <p:spPr>
          <a:xfrm>
            <a:off x="250920" y="476280"/>
            <a:ext cx="2879640" cy="2448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?id=290887546-52-72"/>
          <p:cNvPicPr/>
          <p:nvPr/>
        </p:nvPicPr>
        <p:blipFill>
          <a:blip r:embed="rId2"/>
          <a:stretch/>
        </p:blipFill>
        <p:spPr>
          <a:xfrm>
            <a:off x="2771640" y="1484280"/>
            <a:ext cx="3241800" cy="3384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i?id=10657336-32-72"/>
          <p:cNvPicPr/>
          <p:nvPr/>
        </p:nvPicPr>
        <p:blipFill>
          <a:blip r:embed="rId3"/>
          <a:stretch/>
        </p:blipFill>
        <p:spPr>
          <a:xfrm>
            <a:off x="5435640" y="2781360"/>
            <a:ext cx="3240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Картинка 10 из 27800"/>
          <p:cNvPicPr/>
          <p:nvPr/>
        </p:nvPicPr>
        <p:blipFill>
          <a:blip r:embed="rId1"/>
          <a:stretch/>
        </p:blipFill>
        <p:spPr>
          <a:xfrm>
            <a:off x="0" y="0"/>
            <a:ext cx="4859280" cy="3429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Изображение"/>
          <p:cNvPicPr/>
          <p:nvPr/>
        </p:nvPicPr>
        <p:blipFill>
          <a:blip r:embed="rId2"/>
          <a:stretch/>
        </p:blipFill>
        <p:spPr>
          <a:xfrm>
            <a:off x="4067280" y="2421000"/>
            <a:ext cx="493236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Картинка 9 из 93991"/>
          <p:cNvPicPr/>
          <p:nvPr/>
        </p:nvPicPr>
        <p:blipFill>
          <a:blip r:embed="rId1"/>
          <a:stretch/>
        </p:blipFill>
        <p:spPr>
          <a:xfrm>
            <a:off x="755640" y="333360"/>
            <a:ext cx="4029120" cy="3809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Картинка 3 из 96736"/>
          <p:cNvPicPr/>
          <p:nvPr/>
        </p:nvPicPr>
        <p:blipFill>
          <a:blip r:embed="rId2"/>
          <a:stretch/>
        </p:blipFill>
        <p:spPr>
          <a:xfrm>
            <a:off x="4500720" y="2276640"/>
            <a:ext cx="4101840" cy="4025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Картинка 14 из 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38574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Картинка 12 из 37"/>
          <p:cNvPicPr/>
          <p:nvPr/>
        </p:nvPicPr>
        <p:blipFill>
          <a:blip r:embed="rId3"/>
          <a:stretch/>
        </p:blipFill>
        <p:spPr>
          <a:xfrm>
            <a:off x="3564000" y="2708280"/>
            <a:ext cx="507672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i-main-pic" descr="Картинка 14 из 365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5" descr="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329080" cy="640872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5940360" y="620640"/>
            <a:ext cx="302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6 апреля 1986 года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 час 24 минуты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4-ом энергоблоке Чернобыльской АЭС раздались последовательно два взрыва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зошла мощная техногенная катастрофа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атомном объекте</a:t>
            </a:r>
            <a:r>
              <a:rPr b="0" lang="ru-RU" sz="2000" spc="-1" strike="noStrike">
                <a:solidFill>
                  <a:srgbClr val="c4c3a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75640" cy="57708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2411280" y="26028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РТВЫЙ ГОРО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51656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5"/>
          <p:cNvSpPr/>
          <p:nvPr/>
        </p:nvSpPr>
        <p:spPr>
          <a:xfrm>
            <a:off x="826920" y="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оха" - огромное поле, заполненное рядами изъеденных коррозией грузовиков, пожарных машин, бульдозеров, бронетранспортеров и прочей радиоактив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ик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99120" cy="6048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4792680" y="2349360"/>
            <a:ext cx="4183200" cy="42926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"/>
          <p:cNvSpPr/>
          <p:nvPr/>
        </p:nvSpPr>
        <p:spPr>
          <a:xfrm>
            <a:off x="4859280" y="476280"/>
            <a:ext cx="3741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da2a00"/>
                </a:solidFill>
                <a:latin typeface="Arial"/>
              </a:rPr>
              <a:t>Здесь жить нельзя.</a:t>
            </a: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3:58:16Z</dcterms:created>
  <dc:creator>777</dc:creator>
  <dc:description/>
  <dc:language>en-US</dc:language>
  <cp:lastModifiedBy>132</cp:lastModifiedBy>
  <dcterms:modified xsi:type="dcterms:W3CDTF">2015-02-04T12:01:25Z</dcterms:modified>
  <cp:revision>3</cp:revision>
  <dc:subject/>
  <dc:title>Природа под охраной закона</dc:title>
</cp:coreProperties>
</file>