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5.jpeg" ContentType="image/jpeg"/>
  <Override PartName="/ppt/media/image17.gif" ContentType="image/gif"/>
  <Override PartName="/ppt/media/image16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60FD2-EBD7-4E86-8563-E748B5D10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BC60-2A1E-4EF9-95E1-ED138560C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E5E-77DB-4764-A4ED-4063D26B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261-D100-46C4-8601-2800EA9E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530-6E6A-4DD8-9E57-FAAB2DC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88C-BCA9-4707-B5D0-9A462D63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A8D7F-E686-4F00-AE2D-E50861F3A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C2C4-FF98-4C68-94B6-2B35100F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41BD5-35AF-4877-8F98-82266C61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6EFF1-21C3-4D73-BAA6-440089AB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89A54-3BB6-4387-8396-0B66B811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D65C-8388-4457-B529-D32C3279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7075C-2F25-4E2C-8607-81A31B91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A03-4EC9-40E6-BC3A-08DF01EE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85BC2-59A8-4F86-B787-33E39C1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70BC-12EA-4AAE-938B-6979DFCC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E760-3E1C-414D-ACD6-64406DFD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72E90-F7CB-4E6D-8BE5-664F58B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B765D-CB6A-4B62-98D0-113A6EC26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6AE77-0CBD-47A3-97EA-235295A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F91DF-9C6F-41FA-9FD0-E429A65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93595-3F05-42A2-9F5B-F3BFA15B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D0885-54EB-4279-B620-DDD1F07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6E5A-46D2-48D6-8128-B59D95B9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DAB-4DE6-4D23-AE76-4CAF5CD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67CCF-A45C-4E6F-95AE-8E1AA40A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D748E-1C61-42B4-AC8E-AD8D9EDA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46272-77D7-4B04-B0F8-EC2AADD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95827-8579-42A3-9A3B-1E15CB0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76099-AC23-4B53-A2F4-B945182C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6B731-C699-473E-ACDC-6579CAC0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013A5-06EE-412D-BA36-EA23BECF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10F80-16F9-4C23-8FA2-DED74F679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A1D81-02BF-47FE-952D-5DC95D8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232C4-E613-4DF4-B2EE-58008D1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DD3-3780-4949-8F3E-2588F29E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CDDA3-E38C-4381-BBE3-9F548415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E876C-1668-487A-8A34-0984C9BE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B298E-07F0-4FD8-952A-F23D8BDD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FB67E-E2EB-47DD-9857-EF536B0E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EB15E-8AC7-4936-B114-48C0213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884CD-96DA-410C-AEE6-D2AFF86B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6B85A-2A23-4114-ADD7-A171F87F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682449-35A1-487A-BB45-A51FB68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E9581-F4A1-4AEE-A1E0-F3EDAD846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726-449A-47FF-A376-F8B10866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B8C-88E6-4A3A-B25B-EED4B779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686-911E-4EA7-94EC-81CF36F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7B7-C134-4438-B296-08BD863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825-35AA-4406-9321-8C99115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FE25-7F6C-43E0-9836-46D65AF97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00000" y="-900000"/>
            <a:ext cx="1806480" cy="180648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760" y="22320"/>
            <a:ext cx="1878120" cy="187776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2520" y="1143000"/>
            <a:ext cx="1289160" cy="1289160"/>
            <a:chOff x="182520" y="1143000"/>
            <a:chExt cx="1289160" cy="12891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520" y="1143000"/>
              <a:ext cx="12891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40000">
              <a:off x="384120" y="1339920"/>
              <a:ext cx="874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16000" y="0"/>
            <a:ext cx="89629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1120" y="301320"/>
            <a:ext cx="82663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5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55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81120" y="1595160"/>
            <a:ext cx="826632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47760" y="694980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99280" y="6950160"/>
            <a:ext cx="3192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9494640" y="6949800"/>
            <a:ext cx="5014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CBA4D2-84D5-4239-8B15-646B59CFA2E3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7440" y="0"/>
            <a:ext cx="810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6465960" cy="7558200"/>
            <a:chOff x="0" y="0"/>
            <a:chExt cx="6465960" cy="75582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5038560" cy="75582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5640" y="1092240"/>
              <a:ext cx="5710320" cy="209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003560" y="5389560"/>
            <a:ext cx="5375520" cy="351000"/>
            <a:chOff x="4003560" y="5389560"/>
            <a:chExt cx="5375520" cy="351000"/>
          </a:xfrm>
        </p:grpSpPr>
        <p:sp>
          <p:nvSpPr>
            <p:cNvPr id="93" name=""/>
            <p:cNvSpPr/>
            <p:nvPr/>
          </p:nvSpPr>
          <p:spPr>
            <a:xfrm flipH="1">
              <a:off x="4003560" y="5389560"/>
              <a:ext cx="5097600" cy="3477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93240" y="5389560"/>
              <a:ext cx="285840" cy="3510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6"/>
          </p:nvPr>
        </p:nvSpPr>
        <p:spPr>
          <a:xfrm>
            <a:off x="2687400" y="6888240"/>
            <a:ext cx="2346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7"/>
          </p:nvPr>
        </p:nvSpPr>
        <p:spPr>
          <a:xfrm>
            <a:off x="6383160" y="6888240"/>
            <a:ext cx="3192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8"/>
          </p:nvPr>
        </p:nvSpPr>
        <p:spPr>
          <a:xfrm>
            <a:off x="84240" y="6888240"/>
            <a:ext cx="6458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43705-0CA8-4260-A067-54995E7B9D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1063800" y="1398240"/>
            <a:ext cx="845496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0800" y="6553080"/>
            <a:ext cx="5446800" cy="1014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960" y="6546960"/>
            <a:ext cx="4067280" cy="10285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6480" y="6383160"/>
            <a:ext cx="3749760" cy="11908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9360" y="6380280"/>
            <a:ext cx="3754440" cy="119520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502920" y="16333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1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9"/>
          </p:nvPr>
        </p:nvSpPr>
        <p:spPr>
          <a:xfrm>
            <a:off x="7415280" y="7064280"/>
            <a:ext cx="21146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2.1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27600" y="7064280"/>
            <a:ext cx="2590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0"/>
          </p:nvPr>
        </p:nvSpPr>
        <p:spPr>
          <a:xfrm>
            <a:off x="9531360" y="7064280"/>
            <a:ext cx="4017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464CF-7A25-4938-9E86-0C9A931E7C35}" type="slidenum"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festival.1september.ru/articles/580294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festival.1september.ru/articles/580294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festival.1september.ru/articles/580294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festival.1september.ru/articles/580294/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1292040"/>
            <a:ext cx="907092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бращаться с агрессивными, гиперактивными и тревожными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2920" y="2016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гуш Л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73040" y="55080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Как вести себя </a:t>
            </a:r>
            <a:br>
              <a:rPr sz="3900"/>
            </a:b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с агрессивным подростком?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811160"/>
            <a:ext cx="874080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 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Ни в коем случае не позволять себе разговаривать с подростком на повышенных т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Если вы видите, что ребенку трудно себя сдерживать, то дайте ему возможность выплеснуть свою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агрессию без причинения вреда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оказывайте ребенку пример эффективного поведения, старайтесь не допускать при нём вспышек гнева и не стройте планы м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Сделайте всё, чтобы ваш ребенок в каждый момент времени чувствовал, что вы его любите, цените и принимаете, не стесняйтесь лишний раз его приласкать и пожал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7265880"/>
            <a:ext cx="992160" cy="2872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4160" y="115920"/>
            <a:ext cx="96282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7840" y="82440"/>
            <a:ext cx="9037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родителей и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д  собственными негативными  эмоциональными состояниями, так как умение взрослого владеть собой является лучшим гарантом адекватного поведе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с ребенком о своих чувствах и переживаниях, язык  «Я-со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но слушать»  внутренний мир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ценивать личность ребенка, а говорить о нежелательных действиях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словах и действиях детей позитивный настрой и благие на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навыками саморег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6240" y="6764400"/>
            <a:ext cx="437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9080" y="919080"/>
            <a:ext cx="857592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ипера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437080" y="2746440"/>
            <a:ext cx="396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ефицита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 и сосредоточенность психической деятельности на чем-либо определ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230480" y="3224160"/>
            <a:ext cx="349236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31640" y="576000"/>
            <a:ext cx="90712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нешние проявления гипер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внима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мпульсив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вышенная двигательную актив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9080" y="919080"/>
            <a:ext cx="857592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чины гипео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23400" y="2603160"/>
            <a:ext cx="8480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ледственная предрасполож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к правило, у гиперактивных детей кто-то из родителей был гиперактивн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627200" y="2111400"/>
            <a:ext cx="127152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94920" y="2016000"/>
            <a:ext cx="8496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ческие повреждения головного мозга во время беременности, родовые травмы, заболевания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иперактивные дети часто рождаются у матерей, страдающих аллергическими заболеваниями, например, астмой, экземой или мигренью, дефицит жирных кислот в организме (симптомы этого дефицита является постоянное чувство жажды, сухость кожи), дефицит питательных элементов (в организме не хватает цинка, магния, витамина В1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1680" y="431640"/>
            <a:ext cx="17143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23400" y="2603160"/>
            <a:ext cx="8480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оциально – психолог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кроклимат в семье, алкоголизм родителей, условия проживания, неправильная линия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30480" y="1000080"/>
            <a:ext cx="186516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55720" y="195120"/>
            <a:ext cx="85755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79120" y="1295280"/>
            <a:ext cx="84805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2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их отношениях с ребёнком придерживайтесь "позитивной модели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ёркивайте его успехи и поощряйте его усилия, особенно во всех видах деятельности, требующих концентрации внимания, даже если результаты далеки от совершен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айтесь реже говорить "нет" и "нельзя" – лучше попробуйте переключить его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224000" y="195120"/>
            <a:ext cx="1349280" cy="1192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704000" y="104760"/>
            <a:ext cx="1349640" cy="11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50400" y="576360"/>
            <a:ext cx="8480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оваривайте с ребёнком всегда сдержанно, спокойно, мягк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авайте ребёнку длинных указаний и не читайте долгих нотаций – он Вас просто не выслушает до конц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одкрепления устных инструкций используйте зрительную стимуля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20360" y="442800"/>
            <a:ext cx="84805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регайте ребёнка от утомления, поскольку оно приводит к снижению самоконтроля и нарастанию гиперактив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возможно и не следует подавлять повышенную двигательную активность – направьте её в нужное ру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ощряйте сильные стороны ребенка. Помогите ребенку стать знатоком и виртуозом в каком-либо деле, которое ему интересно и лучше даётся. Любые знания, умения и увлечения поднимут его самооценку и рейтинг в глазах друг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76000" y="1871640"/>
            <a:ext cx="93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Ц ел 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информирование родителей о причинах и последствиях агрессивного и гиперактивного поведения подростков,  о приемах помощи таким детям и самопомощи (о способах выражения гнева),  а также о понятии «тревожность» и практических рекомендациях по отношению к тревожным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23400" y="863640"/>
            <a:ext cx="8480520" cy="58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озможности игнорировать вызывающие поступки ребенка с синдромом дефицита внимания и поощрять его хорошее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урока ограничить до минимума отвлекающие факторы. Этому может способствовать, в частности, оптимальный выбор места за партой  в центре класса напротив дос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оставлять ребенку возможность быстро обращаться за помощью к учителю в случаях затрудн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7680" y="2477880"/>
            <a:ext cx="9418320" cy="19126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93300"/>
                </a:solidFill>
                <a:latin typeface="Arial"/>
                <a:ea typeface="Arial Unicode MS"/>
              </a:rPr>
              <a:t>Тревож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20360" y="1017720"/>
            <a:ext cx="9070920" cy="62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ревож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— это индивидуальная психическая особенность, которая заключается в повышенной склонности испытывать беспокойство в самых различных жизненных ситуациях, в том числе и в таких, которые к этому не располагают. Тревожность бывает ситуативной и об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03280" y="163368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блемы семейны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заимоотношений                          Неблагополучный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циальный стату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изкая                                  Неуспешность  в обуче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23880" indent="-51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тивация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09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464646"/>
                </a:solidFill>
                <a:latin typeface="Times New Roman"/>
              </a:rPr>
              <a:t>      </a:t>
            </a:r>
            <a:r>
              <a:rPr b="1" lang="ru-RU" sz="4100" spc="-1" strike="noStrike">
                <a:solidFill>
                  <a:srgbClr val="464646"/>
                </a:solidFill>
                <a:latin typeface="Times New Roman"/>
              </a:rPr>
              <a:t>Причины тревожности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"/>
          <p:cNvSpPr/>
          <p:nvPr/>
        </p:nvSpPr>
        <p:spPr>
          <a:xfrm>
            <a:off x="2598840" y="5118120"/>
            <a:ext cx="2127240" cy="806400"/>
          </a:xfrm>
          <a:custGeom>
            <a:avLst/>
            <a:gdLst>
              <a:gd name="textAreaLeft" fmla="*/ 372240 w 2127240"/>
              <a:gd name="textAreaRight" fmla="*/ 1542240 w 2127240"/>
              <a:gd name="textAreaTop" fmla="*/ 108000 h 806400"/>
              <a:gd name="textAreaBottom" fmla="*/ 69840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da2bf"/>
          </a:solidFill>
          <a:ln w="55080">
            <a:solidFill>
              <a:srgbClr val="2177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67400" y="3673080"/>
            <a:ext cx="1552680" cy="806400"/>
          </a:xfrm>
          <a:custGeom>
            <a:avLst/>
            <a:gdLst>
              <a:gd name="textAreaLeft" fmla="*/ 271440 w 1552680"/>
              <a:gd name="textAreaRight" fmla="*/ 1125720 w 1552680"/>
              <a:gd name="textAreaTop" fmla="*/ 108000 h 806400"/>
              <a:gd name="textAreaBottom" fmla="*/ 69840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da2bf"/>
          </a:solidFill>
          <a:ln w="55080">
            <a:solidFill>
              <a:srgbClr val="2177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4149000" y="2131200"/>
            <a:ext cx="806400" cy="1703520"/>
          </a:xfrm>
          <a:custGeom>
            <a:avLst/>
            <a:gdLst>
              <a:gd name="textAreaLeft" fmla="*/ 108000 w 806400"/>
              <a:gd name="textAreaRight" fmla="*/ 698400 w 806400"/>
              <a:gd name="textAreaTop" fmla="*/ 298080 h 1703520"/>
              <a:gd name="textAreaBottom" fmla="*/ 123516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da2bf"/>
          </a:solidFill>
          <a:ln w="55080">
            <a:solidFill>
              <a:srgbClr val="2177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360" y="2913120"/>
            <a:ext cx="865440" cy="1731960"/>
          </a:xfrm>
          <a:custGeom>
            <a:avLst/>
            <a:gdLst>
              <a:gd name="textAreaLeft" fmla="*/ 115920 w 865440"/>
              <a:gd name="textAreaRight" fmla="*/ 749520 w 865440"/>
              <a:gd name="textAreaTop" fmla="*/ 303120 h 1731960"/>
              <a:gd name="textAreaBottom" fmla="*/ 1255680 h 17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da2bf"/>
          </a:solidFill>
          <a:ln w="55080">
            <a:solidFill>
              <a:srgbClr val="2177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141960" y="5670720"/>
            <a:ext cx="2125800" cy="16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03280" y="1143000"/>
            <a:ext cx="90709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обходимо понять и принять тревогу ребенка - он имеет на нее полное прав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нтересуйтесь его жизнью, мыслями, чувствами, страха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учите его говорить об этом, вместе обсуждайте ситуации из школьной жизни, вместе ищите выход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чите делать полезный вывод из пережитых неприятных ситуаций - приобретается опыт, есть возможность избежать еще больших неприятностей и т.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280" y="96840"/>
            <a:ext cx="9070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464646"/>
                </a:solidFill>
                <a:latin typeface="Times New Roman"/>
              </a:rPr>
              <a:t>Как помочь ребенку преодолеть тревожность</a:t>
            </a:r>
            <a:br>
              <a:rPr sz="4100"/>
            </a:b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03280" y="708120"/>
            <a:ext cx="90709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бенок должен быть уверен, что всегда может обратиться к Вам за помощью и совето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аже если детские проблемы не кажутся Вам серьезными, признавайте его право на переживания, обязательно посочувствуйте ("Да, это неприятно, обидно…"). И только после выражения понимания и сочувствия помогите найти решение выход, увидеть положительные сторон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670720" y="5748480"/>
            <a:ext cx="27558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03280" y="550800"/>
            <a:ext cx="9070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 пытайтесь повысить работоспособность такого ребенка, описывая предстоящие трудности в черных красках. Например, подчеркивая, какая серьезная контрольная его жд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елиться своей тревогой с ребенком лучше в прошедшем времени: "Сначала я боялась того-то ..., но потом произошло то-то и мне удалось ..."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тарайтесь в любой ситуации искать плюсы ("нет худа без добра"): ошибки в контрольной - это важный опыт, ты понял, что нужно повторить, на что обратить внимание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11960" y="5354640"/>
            <a:ext cx="299232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03280" y="550800"/>
            <a:ext cx="9070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ажно научить ребенка ставить перед собой небольшие конкретные цели и достигать и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равнивайте результаты ребенка только с его же предыдущими достижениями/неудач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чите ребенка (и учитесь сами) расслабляться (дыхательные упражнения, мысли о хорошем, счет и т.д.) и адекватно выражать негативные эмоци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мочь ребенку преодолеть чувство тревоги можно с помощью объятий, поцелуев, поглаживания по голове, т.е. телесного контакта. Это важно не только для малыша, но и для школьни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оптимистичных родителей - оптимистичные дети, а оптимизм - защита от трев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24000" y="2066760"/>
            <a:ext cx="792000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noAutofit/>
          </a:bodyPr>
          <a:p>
            <a:pPr algn="just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10007640" cy="7445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7265880"/>
            <a:ext cx="992160" cy="2872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76720" y="2814480"/>
            <a:ext cx="343044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агрессивного поведения дете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рожают другим детям, взрослым (вербально, жестом, взгляд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ициируют физические дра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т в драке предметы, которые могут ра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и жестоки по отношению к людям и животным (намеренно делают боль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еренная порча 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нтаж, вымог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4160" y="115920"/>
            <a:ext cx="96282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6120" y="684360"/>
            <a:ext cx="952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инского «нападение», «приступ») — это разрушительное поведение, противоречащее нормам и правилам сосуществования людей в обществе, наносящее вред объектам нападения (одушевленным и неодушевленным), приносящее физический ущерб людям (отрицательные переживания, состояния напряженности, страха, подавленности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сихологический слов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62840" y="1270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агресс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7720" y="3400560"/>
            <a:ext cx="3668760" cy="6565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73200" y="704844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http://www.google.ru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92480" y="685152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Times New Roman"/>
                <a:ea typeface="Calibri"/>
                <a:hlinkClick r:id="rId5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Ученые А. Басс и А. Дарки выделяют 5 видов а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20720" y="1979640"/>
            <a:ext cx="878364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763040" y="688176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DA8AF8-C6DC-4D15-BF3A-B1962D74C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8280" y="236520"/>
            <a:ext cx="8589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03200" y="2224080"/>
            <a:ext cx="42008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остижения определенной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2160720"/>
            <a:ext cx="37796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ждеб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ить человеку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44720" y="2827440"/>
            <a:ext cx="534960" cy="1076400"/>
          </a:xfrm>
          <a:prstGeom prst="downArrow">
            <a:avLst>
              <a:gd name="adj1" fmla="val 50000"/>
              <a:gd name="adj2" fmla="val 50303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7160" y="2668680"/>
            <a:ext cx="534960" cy="1076400"/>
          </a:xfrm>
          <a:prstGeom prst="downArrow">
            <a:avLst>
              <a:gd name="adj1" fmla="val 50000"/>
              <a:gd name="adj2" fmla="val 50303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8120" y="2033640"/>
            <a:ext cx="42004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-61920" y="6192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7265880"/>
            <a:ext cx="992160" cy="2872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0280" y="763560"/>
            <a:ext cx="93027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Семь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охие отношения с одним или двумя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щущение безразличия к своим чув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еобходимой поддержки  со стороны родителей и заинтересованности их жизн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тиворечивость требований к ребенку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0280" y="115920"/>
            <a:ext cx="96282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2300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способствующие становлению детской агресси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47640" y="3743280"/>
            <a:ext cx="4859280" cy="3944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090880" y="6983280"/>
            <a:ext cx="3809880" cy="584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46720" y="3817800"/>
            <a:ext cx="43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61920" y="6192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7265880"/>
            <a:ext cx="992160" cy="2872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949400" y="3294000"/>
            <a:ext cx="5508720" cy="3756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4200" y="208080"/>
            <a:ext cx="9507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Calibri"/>
              </a:rPr>
              <a:t>Негативный стиль общения с ребе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бальное оскорблени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норирование чувств,  желаний ребенка. Данный стиль общения нацеливает ребенка на борьбу и мстите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720" y="3098880"/>
            <a:ext cx="43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http://festival.1september.ru/articles/5802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162160" y="7091280"/>
            <a:ext cx="3809880" cy="584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24960" y="2768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763040" y="688176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08CCCF-73F6-4F9F-9857-89047330A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8280" y="236520"/>
            <a:ext cx="8589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ромное значение имеет поощ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03200" y="2224080"/>
            <a:ext cx="8568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гл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763040" y="6881760"/>
            <a:ext cx="210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387559-CA0C-42B4-B62C-9F284F9B1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8280" y="236520"/>
            <a:ext cx="858996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03200" y="2224080"/>
            <a:ext cx="8568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следует немедленно за проступ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ено реб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суровое, но не жесток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оценивает действия ребенка, а не его человеческие ка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аказании нужно проявлять терпение, спокойствие и выдерж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2T05:16:00Z</dcterms:created>
  <dc:creator/>
  <dc:description/>
  <dc:language>en-US</dc:language>
  <cp:lastModifiedBy/>
  <cp:revision>0</cp:revision>
  <dc:subject/>
  <dc:title/>
</cp:coreProperties>
</file>