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0A9-4CB3-47CA-ABCC-32ED5DBB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1C7-5BB3-4FD8-9C0D-A637969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16F-D6FB-4CE4-9CE5-8CDD5A6D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00A-D83F-43AD-8C05-CD3D07C2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840-A4D3-4CC7-A09C-35AEF393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9A6-EC50-4B9C-8BC5-064357C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E83-8D8F-44DF-921E-D3B8FB97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235-01EB-4FB1-B727-41FC440E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5C3-92B2-4F1C-80D4-868B7084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4C2-AE80-4CF1-8D3B-6DB9F5D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C90-5BEE-4022-888C-2B3FD39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3C1-87A0-44B0-B4CC-0038A4A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7C4-0737-4D90-9157-7EDAA9908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Анимационные картинки с Днем рождения - с Днем Рождения, gif, открытки"/>
          <p:cNvPicPr/>
          <p:nvPr/>
        </p:nvPicPr>
        <p:blipFill>
          <a:blip r:embed="rId1"/>
          <a:stretch/>
        </p:blipFill>
        <p:spPr>
          <a:xfrm>
            <a:off x="393840" y="214200"/>
            <a:ext cx="8393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Картинка анимации с Днем рождения - с Днем Рождения, gif, открытки"/>
          <p:cNvPicPr/>
          <p:nvPr/>
        </p:nvPicPr>
        <p:blipFill>
          <a:blip r:embed="rId1"/>
          <a:stretch/>
        </p:blipFill>
        <p:spPr>
          <a:xfrm>
            <a:off x="155520" y="214200"/>
            <a:ext cx="8882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Милая картинка с днём рождения! - с Днем Рождения, gif, открытки"/>
          <p:cNvPicPr/>
          <p:nvPr/>
        </p:nvPicPr>
        <p:blipFill>
          <a:blip r:embed="rId1"/>
          <a:stretch/>
        </p:blipFill>
        <p:spPr>
          <a:xfrm>
            <a:off x="357120" y="214200"/>
            <a:ext cx="85726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1:52:58Z</dcterms:created>
  <dc:creator>User</dc:creator>
  <dc:description/>
  <dc:language>en-US</dc:language>
  <cp:lastModifiedBy>пользователь</cp:lastModifiedBy>
  <dcterms:modified xsi:type="dcterms:W3CDTF">2018-02-02T06:00:24Z</dcterms:modified>
  <cp:revision>2</cp:revision>
  <dc:subject/>
  <dc:title>Слайд 1</dc:title>
</cp:coreProperties>
</file>