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872-CF43-4D93-B84F-89D4AE51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1F9-2A5A-470C-951B-505F65DC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64F6-905E-40CB-83C9-F486CA4E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086-78FA-4CCE-BBE9-901A8B2F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86D39-960F-4C3F-A5B1-BFB53716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C89C3-D4DC-43C1-BDBE-D1C953C3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E36AD-121C-457C-B91C-E8A2D96C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247AD-B73E-46D7-8B27-62D498AF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4CF1B-D633-4863-91A5-AC31AB49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07075-A8A5-490F-932F-73506498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DDE5A-A393-494D-9A6F-3AF97746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7C3-CFB7-458E-AEB5-2F0DEE1D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87E19-F608-4F6D-A175-6F63C2A0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C815C-24A8-4DC6-80FD-01F4C677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C6479-4B2C-4680-B4D0-3E929873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01208-4BAF-4CE2-A50A-2B94AE58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807B5-966D-42C5-AF2C-CD173CA5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F50-1621-4023-AC7D-81850203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E7E-A2C5-49AB-9E29-B0A06EBC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EA6D-9FFC-470D-BF9B-172AB56F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5F7-73C1-4B72-854D-146C39EB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6FA-725E-4E5D-9F97-BEFAFA50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83A-E069-418A-A18D-0A2B95B2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D4B-DF71-40D4-834B-B8DC3BC4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415D-520C-48AB-9803-DB1192761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C71B-6EEF-46BD-B8CA-16FE8BEBF7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lr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916360" y="5105520"/>
            <a:ext cx="5541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Составила: музыкальный руководитель МБДОУ детского сада №20 г. Павло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Егорова Е.Б.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1 квалификационная катего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380880" y="304920"/>
            <a:ext cx="8229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80">
                    <a:alpha val="80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ирель поет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80">
                  <a:alpha val="80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lr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Flutes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lr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Recr000a"/>
          <p:cNvPicPr/>
          <p:nvPr/>
        </p:nvPicPr>
        <p:blipFill>
          <a:blip r:embed="rId2"/>
          <a:srcRect l="0" t="14106" r="0" b="14300"/>
          <a:stretch/>
        </p:blipFill>
        <p:spPr>
          <a:xfrm>
            <a:off x="0" y="914400"/>
            <a:ext cx="9144000" cy="473076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118" name="RECRWORD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2415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flr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Recr000v"/>
          <p:cNvPicPr/>
          <p:nvPr/>
        </p:nvPicPr>
        <p:blipFill>
          <a:blip r:embed="rId2"/>
          <a:srcRect l="0" t="11706" r="0" b="0"/>
          <a:stretch/>
        </p:blipFill>
        <p:spPr>
          <a:xfrm>
            <a:off x="0" y="763560"/>
            <a:ext cx="9144000" cy="518004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122" name="RECRSOLO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9373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flr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2046012_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127" name="BerezDm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flr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manifest_16_big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62863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flr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001000" cy="588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Свирель поет печально, стройно,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И птица напрягает мускулы,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О, как задумчиво и строго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Акация внимает музыке,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Взлетает птица выше, выше,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Туда, где солнце и цветенье,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А маленькая ветка вишни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Хранит ее прикосновень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lr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9372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Русские народные духовые музыкальные инструмен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Рож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rozok_1"/>
          <p:cNvPicPr/>
          <p:nvPr/>
        </p:nvPicPr>
        <p:blipFill>
          <a:blip r:embed="rId2"/>
          <a:stretch/>
        </p:blipFill>
        <p:spPr>
          <a:xfrm>
            <a:off x="2286000" y="2163600"/>
            <a:ext cx="64771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lr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ур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surna"/>
          <p:cNvPicPr/>
          <p:nvPr/>
        </p:nvPicPr>
        <p:blipFill>
          <a:blip r:embed="rId2"/>
          <a:stretch/>
        </p:blipFill>
        <p:spPr>
          <a:xfrm>
            <a:off x="762120" y="1317600"/>
            <a:ext cx="7543800" cy="465300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lr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арг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vargan_2"/>
          <p:cNvPicPr/>
          <p:nvPr/>
        </p:nvPicPr>
        <p:blipFill>
          <a:blip r:embed="rId2"/>
          <a:stretch/>
        </p:blipFill>
        <p:spPr>
          <a:xfrm>
            <a:off x="2492280" y="762120"/>
            <a:ext cx="5205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lr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увик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kuvikli_1"/>
          <p:cNvPicPr/>
          <p:nvPr/>
        </p:nvPicPr>
        <p:blipFill>
          <a:blip r:embed="rId2"/>
          <a:stretch/>
        </p:blipFill>
        <p:spPr>
          <a:xfrm>
            <a:off x="2590920" y="534960"/>
            <a:ext cx="655308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flr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Жалей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zal_2"/>
          <p:cNvPicPr/>
          <p:nvPr/>
        </p:nvPicPr>
        <p:blipFill>
          <a:blip r:embed="rId2"/>
          <a:stretch/>
        </p:blipFill>
        <p:spPr>
          <a:xfrm>
            <a:off x="990720" y="1447920"/>
            <a:ext cx="7543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lr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олы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volynka"/>
          <p:cNvPicPr/>
          <p:nvPr/>
        </p:nvPicPr>
        <p:blipFill>
          <a:blip r:embed="rId2"/>
          <a:stretch/>
        </p:blipFill>
        <p:spPr>
          <a:xfrm>
            <a:off x="3262320" y="609480"/>
            <a:ext cx="4219560" cy="60199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lr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вир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svirel_2"/>
          <p:cNvPicPr/>
          <p:nvPr/>
        </p:nvPicPr>
        <p:blipFill>
          <a:blip r:embed="rId2"/>
          <a:stretch/>
        </p:blipFill>
        <p:spPr>
          <a:xfrm>
            <a:off x="533520" y="992160"/>
            <a:ext cx="83818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1:49:01Z</dcterms:created>
  <dc:creator/>
  <dc:description/>
  <dc:language>en-US</dc:language>
  <cp:lastModifiedBy>пользователь</cp:lastModifiedBy>
  <dcterms:modified xsi:type="dcterms:W3CDTF">2018-02-02T05:59:3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