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5F1-BF4A-423A-9AFF-BBDE105C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4FD-46DD-4D70-B37B-55444668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8F2-880E-45A7-A568-3F11A07A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77C-358E-4690-8AC5-6E0A1C39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B183-7805-43A9-842B-EA81090A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931E-BEFA-481E-A36B-3C56E373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DD85-BA2C-475B-8394-F36F2031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48DA-1B17-4011-B742-5CF2A34F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0446-3277-40CA-B55E-8DCDBBC9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3F86-14AF-4083-B3DF-D621AC41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6AFE-7E8E-4E87-B574-AFF65F3E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75A-FD86-4640-AD33-8EB68571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2868-6276-4458-86AA-37D213A1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2CFA-00FD-4052-9801-3FABE1E7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C3FE-9E93-4478-9351-967DD1DD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EF68-1CED-4627-B17D-D53899C1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3E77-9CF2-4748-96C1-B3553C3D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CD188-99FE-4971-8237-7C05F565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6BC0E-D0AE-4160-B4A9-F75010DB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FC353-9FB9-4C26-BAB1-9162A247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FC5A4-F9EE-43D3-8205-37E484E2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F7253-9EC7-467A-9AB3-7687AAF7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826-1E18-42AB-942E-69321271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CCB10-A7E4-45C3-8AF1-2E16B3EA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B0276-4BCA-4940-B768-98D24704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9EE19-8210-4B31-8D76-06AC6EFC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1FEBB-0FF6-465A-88EE-CB828015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D487D-1652-4C90-A3CB-F1F836B0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85F71-3103-46AE-B39E-006B26E2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1C9E3-0235-4E16-AEBF-F6BC064F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DD956-4E6E-4831-9F78-F94F1AF9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7B973-FFD8-4355-8755-3EE4B718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C389B-FF3A-4EC3-8A84-A4B2BB51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36B-D562-4CB2-A791-766B54D2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6A570-BC17-4F0B-9111-14B2D42C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33638-8D44-41C5-9EC8-CCB890D5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219D0-E06A-4C3F-842E-259D01BD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4BF7F-CAB9-4402-BFEE-6C7D7801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F0F1D-5616-478D-BD4B-B9C390D8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1EFAA-43E9-4B4B-A177-7930AC5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549E-6D17-48D1-9513-CE0A7AD7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182A7-BF8B-4D15-8DEE-E2849982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C9ACC-055E-4F2D-B2B5-D8AF5B5B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AC59E1-D77A-4B22-9F8D-ACD6C9A2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0EE-EB77-4635-A044-B321DDEF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88211-06D3-443B-B278-15B2D821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6824E-9729-4B1D-ACC7-1732F50B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EF726-D2D2-4D08-968C-716EE1C7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99325-E9E8-40FF-9BD9-54B585CD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36F49-F2BC-498E-B001-14EC93CF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BDA02-6BBC-4CD0-AE33-D949018A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51730-3F55-48DF-8BF5-3B5C8611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079F7-9EB0-4D36-83DE-6D29FECE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98022-85B7-44A5-8D69-855AB1BC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8A688-98D2-41F7-97CF-D6B0B1FE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90B-D43C-4FD8-AA91-0D2212D6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81696-1321-4F95-8887-93A7C224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F849F-9745-4E43-9E51-EFB0C5A9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ABCE3-0903-46BD-A430-B354442E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DDE126-106F-492D-BAD6-C7A31D81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7FE0B-4453-45F4-B103-C2DB29C2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37CFE-7109-4DCB-BF0C-319F45B4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92DE0-91C2-443F-81BC-CE0ED38D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5F250-98C5-46CB-B514-991C2AC4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C11385-D3D0-4B14-940B-F4AC4EDE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58812-155D-44FD-B8EB-444E8A9A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BF6-3324-4F52-B40F-DF02B2DD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835F2-F71C-4B42-9E70-77149D45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3E72A-8657-4E50-BB0B-FD82C4FE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8C044-06D7-4385-A9A7-EC7E2E22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F576A5-0EB8-476C-8FEC-6EA82E17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3965A-0887-43C8-8A15-B8AE6106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D57293-0936-4233-970C-83D350C3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ED071-996C-4AA9-BC19-90FF8F38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8C66CF-4DD9-4D26-B6D4-5689E78E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C448C-AA32-40DE-A6D1-8D0C216C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1EA94-BFA7-40CA-A4A0-01C1983E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010-4660-4CFD-9700-C0C1F2E6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26C8E-D35A-4F18-9146-78273AAF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3A97F-C4E3-4417-9B3B-EA7F5B95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8F4E4-34DB-4793-A292-F33C7895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D91590-7118-4803-A6B7-7BC7969A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0332E-8A3C-4607-98C9-BD7296C1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C36-2019-492D-8757-A43FCAF4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10454400" y="1017720"/>
            <a:ext cx="2011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9853560" y="3675240"/>
            <a:ext cx="3200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1015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10875960" y="5715000"/>
            <a:ext cx="73008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3033-2D18-4E55-B617-7088AD43BC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507960" y="0"/>
            <a:ext cx="81288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368280" y="0"/>
            <a:ext cx="13968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1320840" y="0"/>
            <a:ext cx="24300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522440" y="0"/>
            <a:ext cx="30636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4112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121932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1138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230184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42236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1215216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625760" y="0"/>
            <a:ext cx="10152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812880" y="3429000"/>
            <a:ext cx="172728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746360" y="4867200"/>
            <a:ext cx="8557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454040" y="5500800"/>
            <a:ext cx="18432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2219400" y="5788080"/>
            <a:ext cx="36504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2540160" y="4495680"/>
            <a:ext cx="487080" cy="36540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10733040" y="1110960"/>
            <a:ext cx="2286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10045800" y="4118040"/>
            <a:ext cx="3657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766880" y="4929120"/>
            <a:ext cx="812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CBA3-B280-441C-A351-331702002C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1015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10875960" y="5715000"/>
            <a:ext cx="73008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454400" y="1017720"/>
            <a:ext cx="2011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B818-452C-438A-B21E-F56ED21126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9853560" y="3675240"/>
            <a:ext cx="3200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507960" y="0"/>
            <a:ext cx="81288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368280" y="0"/>
            <a:ext cx="13968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1320840" y="0"/>
            <a:ext cx="24300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522440" y="0"/>
            <a:ext cx="30636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4112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121932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1138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230184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42236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625760" y="0"/>
            <a:ext cx="10152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812880" y="3429000"/>
            <a:ext cx="172728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766880" y="4867200"/>
            <a:ext cx="8539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454040" y="5500800"/>
            <a:ext cx="18432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2219400" y="5791320"/>
            <a:ext cx="36504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2505240" y="4479840"/>
            <a:ext cx="487080" cy="3650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1213020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5f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f5f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10731240" y="1106280"/>
            <a:ext cx="2286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10046520" y="4114080"/>
            <a:ext cx="3657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787400" y="4929120"/>
            <a:ext cx="812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5692-BE24-4782-A0A1-4E9DCCA46B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1015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10875960" y="5715000"/>
            <a:ext cx="73008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10454400" y="1017720"/>
            <a:ext cx="2011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78AB-BBC6-4751-9F35-462B5FEF15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9853560" y="3675240"/>
            <a:ext cx="3200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8331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825660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10875960" y="5715000"/>
            <a:ext cx="73008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10454400" y="1017720"/>
            <a:ext cx="2011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74FE-EC93-4417-8E8D-DC94CB48C58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9853560" y="3675240"/>
            <a:ext cx="3200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10875960" y="5715000"/>
            <a:ext cx="73008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8331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825660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10454400" y="1017720"/>
            <a:ext cx="2011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F13D-CB2F-4603-B700-E2EC488D3E6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9853560" y="3675240"/>
            <a:ext cx="3200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20720" y="614520"/>
            <a:ext cx="949644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64646"/>
                </a:solidFill>
                <a:latin typeface="Century Schoolbook"/>
              </a:rPr>
              <a:t>ТРЕНИНГ </a:t>
            </a:r>
            <a:br>
              <a:rPr sz="6000"/>
            </a:br>
            <a:r>
              <a:rPr b="1" lang="ru-RU" sz="6000" spc="-1" strike="noStrike">
                <a:solidFill>
                  <a:srgbClr val="464646"/>
                </a:solidFill>
                <a:latin typeface="Century Schoolbook"/>
              </a:rPr>
              <a:t> </a:t>
            </a:r>
            <a:br>
              <a:rPr sz="6000"/>
            </a:br>
            <a:r>
              <a:rPr b="1" lang="ru-RU" sz="6000" spc="-1" strike="noStrike" u="sng">
                <a:solidFill>
                  <a:srgbClr val="464646"/>
                </a:solidFill>
                <a:uFillTx/>
                <a:latin typeface="Century Schoolbook"/>
              </a:rPr>
              <a:t>«ПРИЗВАНИЕ  - УЧИТЕЛЬ»</a:t>
            </a:r>
            <a:br>
              <a:rPr sz="6000"/>
            </a:br>
            <a:endParaRPr b="0" lang="en-US" sz="6000" spc="-1" strike="noStrike">
              <a:solidFill>
                <a:srgbClr val="46464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9080" y="209520"/>
            <a:ext cx="9956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Century Schoolbook"/>
              </a:rPr>
              <a:t>КОЛЕСО ЖИЗНИ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69" name="Содержимое 3" descr="C:\Users\Айсуу\Desktop\Айс\раб стол компа\диагностические методики\колесо.jpg"/>
          <p:cNvPicPr/>
          <p:nvPr/>
        </p:nvPicPr>
        <p:blipFill>
          <a:blip r:embed="rId1"/>
          <a:stretch/>
        </p:blipFill>
        <p:spPr>
          <a:xfrm>
            <a:off x="1397160" y="1346040"/>
            <a:ext cx="91310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406520" y="78696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Цитата из книги Ю.Л. Львовой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“Творческая лаборатория учителя”: “Учитель — маг, виртуоз, фокусник, умеющий сделать урок безразмерным, вмещающим крупные исторические периоды, сложные литературные и научные судьбы, эпохальные открытия; он властелин дум, врачеватель, духовник, и он же тягач и трудяга”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128160"/>
            <a:ext cx="10110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464646"/>
                </a:solidFill>
                <a:latin typeface="Century Schoolbook"/>
              </a:rPr>
              <a:t> </a:t>
            </a:r>
            <a:r>
              <a:rPr b="0" lang="ru-RU" sz="2700" spc="-1" strike="noStrike">
                <a:solidFill>
                  <a:srgbClr val="464646"/>
                </a:solidFill>
                <a:latin typeface="Century Schoolbook"/>
              </a:rPr>
              <a:t>УПРАЖНЕНИЕ «РЕЦЕПТ ПРИГОТОВЛЕНИЯ ХОРОШЕГО УРОКА».</a:t>
            </a:r>
            <a:endParaRPr b="0" lang="en-US" sz="27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92040" y="1213920"/>
            <a:ext cx="11025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Предлагаю рецепт приготовления хорошего урока. Возьмите дюжину самых лучших эмоций. Тщательно отберите только те, что лишены разочарования, злопамятности и злости. После того как вы отобрали 12 эмоций, разделите их на 5 или 6 уроков, которые вам приходится проводить каждый ваш рабочий день. Добавьте в каждый свой урок по одной порции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• 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мудрости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терпения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храбрости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работоспособности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птимизма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преданности своему делу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вольнодумия и свободомыслия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доброты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тдыха и заботы о здоровье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доброго юмора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такта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веры в каждого студента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Количество ингредиентов — на усмотрение готовящего. Для того чтобы придать остроты уроку, добавьте в него щепотку безрассудства. А теперь долейте любви к детям и взбейте все энергичными движениями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Поставьте ваше блюдо на огонь детских сердец. Украсьте изюминками улыбок и веточками радости. Перед подачей сервируйте урок профессионализмом преподавателя. Следуйте четко этому рецепту, и все у вас получится!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Приятного аппетита, уважаемые коллеги! Аппетита к учительскому труду и творчеству!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8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4646"/>
                </a:solidFill>
                <a:latin typeface="Century Schoolbook"/>
              </a:rPr>
              <a:t>ЖЕЛАЕМ ВАМ БОЛЬШЕ МЕТОДИЧЕСКИХ НАХОДОК!</a:t>
            </a:r>
            <a:endParaRPr b="0" lang="en-US" sz="48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120" y="2835000"/>
            <a:ext cx="1049364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Уважаемые коллеги! Будьте здоровы и успешны!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4240" y="90144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64646"/>
                </a:solidFill>
                <a:latin typeface="Century Schoolbook"/>
              </a:rPr>
              <a:t>ЦЕЛЬ: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- поиск резервов для более эффективной работы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464646"/>
                </a:solidFill>
                <a:latin typeface="Century Schoolbook"/>
              </a:rPr>
              <a:t>ЗАДАЧИ:</a:t>
            </a:r>
            <a:br>
              <a:rPr sz="2700"/>
            </a:br>
            <a:endParaRPr b="0" lang="en-US" sz="6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ст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организационно-деятельностную игр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«мозговой штурм»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азличные упражн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низить негативные переживания и трансформировать их в положительные эмоциональные состоя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5040" y="11887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Century Schoolbook"/>
              </a:rPr>
              <a:t>ПРИВЕТСТВИЕ: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09480" y="3017880"/>
            <a:ext cx="995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«Поздороваться локтями»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Century Schoolbook"/>
              </a:rPr>
              <a:t>ПРАВИЛА РАБОТЫ.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отвергая, предлага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авило поднятой ру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цени время, будь точен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говорить по существу, «не выпадать из шкафа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уваже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не переходить на личности, обсуждать идею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лушать и слыша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быть веселым, активным, шути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шуточные «штрафные санкции» и другие прави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23924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464646"/>
                </a:solidFill>
                <a:latin typeface="Century Schoolbook"/>
              </a:rPr>
              <a:t>УПРАЖНЕНИЕ </a:t>
            </a:r>
            <a:r>
              <a:rPr b="1" lang="ru-RU" sz="2700" spc="-1" strike="noStrike" u="sng">
                <a:solidFill>
                  <a:srgbClr val="464646"/>
                </a:solidFill>
                <a:uFillTx/>
                <a:latin typeface="Century Schoolbook"/>
              </a:rPr>
              <a:t>«Я МОГУ НАУЧИТЬСЯ  У ТЕБЯ»</a:t>
            </a:r>
            <a:br>
              <a:rPr sz="2700"/>
            </a:br>
            <a:endParaRPr b="0" lang="en-US" sz="27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астники бросают друг другу в произвольном порядке мячик или игрушку  со словами: «Я могу научиться  у тебя…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а принявшего мяч,  прежде всего,  подтвердить высказанную мысль: «Да, у меня можно научиться…» или «Да, я могу научить…». Затем он бросает мячик другому участни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88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Century Schoolbook"/>
              </a:rPr>
              <a:t>ПЕРЕД ВАМИ КУСОЧЕК ЛЕСНОГО ПЕЙЗАЖА И МАЛЕНЬКИЙ ЭЛЬФ, КОТОРОМУ НУЖЕН ДОМИК. ВАША ЗАДАЧА ПРОСТА — НАРИСУЙТЕ ЕМУ ДОМ! </a:t>
            </a:r>
            <a:endParaRPr b="0" lang="en-US" sz="27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59280" y="1698480"/>
            <a:ext cx="34099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«МОЗГОВАЯ» АТАКА «КАРУСЕЛЬ»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члены малой группы в течение 3-х минут называют любые идеи, все идеи записываются, хотя бы посредством фиксации ключевого слова или фраз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истечении 3-х минут группы переходят к другому столу, читают то, что записала  предыдущая группа и записывают на их листочке свои идеи по названной проблеме и т.д. Из всех записанных идей группы выбирают по 4 лучших и затем их презентуют, обосновывая свой выбо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«ВОПРОСЫ «МОЗГОВОЙ»  АТАКИ «КАРУСЕЛЬ»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1. Для чего я работаю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2. Что мешает вам получать удовлетворение от профессиональной деятельности?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3. Что способствует получению вами удовлетворения от профессиональной деятельности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8T16:51:49Z</dcterms:created>
  <dc:creator>Пользователь Windows</dc:creator>
  <dc:description/>
  <dc:language>en-US</dc:language>
  <cp:lastModifiedBy>Айсуу</cp:lastModifiedBy>
  <dcterms:modified xsi:type="dcterms:W3CDTF">2018-01-09T03:58:12Z</dcterms:modified>
  <cp:revision>6</cp:revision>
  <dc:subject/>
  <dc:title>Тренинг   «Призвание – учитель»</dc:title>
</cp:coreProperties>
</file>