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F7164-2A79-495E-8E87-1876CECEFE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нализ условия задачи и составление плана реш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амостоятельная работа с последующей провер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стоятельная работа с последующей провер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емонстрация моделей различных пирам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хождение учащимися элементов пирамиды на рисунке и на модел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80BC9-341F-4E12-B5E6-7FC1A0BBA5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B8F6-A35C-4938-BC11-249F6F6B2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2153-9539-4512-80B9-5808A2346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0246-6E8B-4642-BAFD-CDE11B20F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F07D-0214-421D-9871-D1D511A16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31A2-D5EE-4772-A0ED-25AA68CE5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FBC5-1C77-4D18-81E2-597ACCB41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93EF-B059-4719-8C7D-C2F136321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8FC4-2F3A-4FA6-996D-599FA36FD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D5A4-1C87-4584-BE75-8BEB9F1DC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F5D7-EB1B-4D5F-9683-67DBDCA9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779A-BB1D-4F5C-8970-BAFBC936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E41D-1CC3-476A-A1E8-95EBAD78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F16D1-C24A-4A62-85BD-3BAD21B9B9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ambov.fio.ru/vjpusk/vjp059/rabot/19/index.htm" TargetMode="External"/><Relationship Id="rId3" Type="http://schemas.openxmlformats.org/officeDocument/2006/relationships/hyperlink" Target="http://school-collection.edu.ru/dlrstore/867EA11E-0927-11DC-A9BD-DDC28AA48D0A/word.html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12.xml"/><Relationship Id="rId8" Type="http://schemas.openxmlformats.org/officeDocument/2006/relationships/slide" Target="slide14.xml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65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c000"/>
                </a:solidFill>
                <a:latin typeface="Arial"/>
              </a:rPr>
              <a:t>Пирамид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28760" y="2000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971640" y="2602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Решение зада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5640" y="907920"/>
            <a:ext cx="80643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Задача 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Основанием пирамиды является параллелограмм со сторонами 5м и 4м и меньшей диагональю 3м. Высота пирамиды проходит через точку пересечения диагоналей основания и равна2м. Найдите площадь поверхности пирамиды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57240" y="629280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700280" y="4863960"/>
            <a:ext cx="28191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"/>
          <p:cNvCxnSpPr/>
          <p:nvPr/>
        </p:nvCxnSpPr>
        <p:spPr>
          <a:xfrm flipV="1">
            <a:off x="946080" y="4874400"/>
            <a:ext cx="743760" cy="1429560"/>
          </a:xfrm>
          <a:prstGeom prst="straightConnector1">
            <a:avLst/>
          </a:prstGeom>
          <a:ln w="38160">
            <a:solidFill>
              <a:srgbClr val="000000"/>
            </a:solidFill>
            <a:prstDash val="dash"/>
            <a:miter/>
          </a:ln>
        </p:spPr>
      </p:cxnSp>
      <p:cxnSp>
        <p:nvCxnSpPr>
          <p:cNvPr id="231" name=""/>
          <p:cNvCxnSpPr>
            <a:stCxn id="228" idx="0"/>
            <a:endCxn id="229" idx="0"/>
          </p:cNvCxnSpPr>
          <p:nvPr/>
        </p:nvCxnSpPr>
        <p:spPr>
          <a:xfrm flipV="1">
            <a:off x="3776400" y="4882320"/>
            <a:ext cx="743400" cy="14295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232" name=""/>
          <p:cNvSpPr/>
          <p:nvPr/>
        </p:nvSpPr>
        <p:spPr>
          <a:xfrm flipH="1">
            <a:off x="1692000" y="2689200"/>
            <a:ext cx="685800" cy="21798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968400" y="2668680"/>
            <a:ext cx="1409760" cy="3592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378160" y="2646360"/>
            <a:ext cx="2122560" cy="222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378160" y="2646360"/>
            <a:ext cx="1401840" cy="366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28" idx="0"/>
            <a:endCxn id="234" idx="0"/>
          </p:cNvCxnSpPr>
          <p:nvPr/>
        </p:nvCxnSpPr>
        <p:spPr>
          <a:xfrm flipV="1">
            <a:off x="956880" y="4887720"/>
            <a:ext cx="3544200" cy="1386000"/>
          </a:xfrm>
          <a:prstGeom prst="straightConnector1">
            <a:avLst/>
          </a:prstGeom>
          <a:ln w="38160">
            <a:solidFill>
              <a:srgbClr val="000000"/>
            </a:solidFill>
            <a:prstDash val="dash"/>
            <a:miter/>
          </a:ln>
        </p:spPr>
      </p:cxnSp>
      <p:sp>
        <p:nvSpPr>
          <p:cNvPr id="237" name=""/>
          <p:cNvSpPr/>
          <p:nvPr/>
        </p:nvSpPr>
        <p:spPr>
          <a:xfrm>
            <a:off x="1689120" y="4873680"/>
            <a:ext cx="2076480" cy="13986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58720" y="6153120"/>
            <a:ext cx="36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979800" y="6357960"/>
            <a:ext cx="4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540320" y="447516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82600" y="4410000"/>
            <a:ext cx="4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355840" y="2301840"/>
            <a:ext cx="50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14280" y="6335640"/>
            <a:ext cx="50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4360" y="633744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668680" y="5173560"/>
            <a:ext cx="3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409840" y="2797200"/>
            <a:ext cx="301680" cy="2774880"/>
          </a:xfrm>
          <a:prstGeom prst="line">
            <a:avLst/>
          </a:prstGeom>
          <a:ln w="1908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244000" y="5732640"/>
            <a:ext cx="566640" cy="595080"/>
          </a:xfrm>
          <a:custGeom>
            <a:avLst/>
            <a:gdLst>
              <a:gd name="textAreaLeft" fmla="*/ 36720 w 566640"/>
              <a:gd name="textAreaRight" fmla="*/ 529920 w 566640"/>
              <a:gd name="textAreaTop" fmla="*/ 36720 h 595080"/>
              <a:gd name="textAreaBottom" fmla="*/ 558360 h 595080"/>
            </a:gdLst>
            <a:ahLst/>
            <a:rect l="textAreaLeft" t="textAreaTop" r="textAreaRight" b="textAreaBottom"/>
            <a:pathLst>
              <a:path w="21600" h="22683">
                <a:moveTo>
                  <a:pt x="0" y="0"/>
                </a:moveTo>
                <a:lnTo>
                  <a:pt x="21600" y="0"/>
                </a:lnTo>
                <a:lnTo>
                  <a:pt x="21600" y="22683"/>
                </a:lnTo>
                <a:lnTo>
                  <a:pt x="0" y="22683"/>
                </a:lnTo>
                <a:close/>
              </a:path>
              <a:path fill="lightenLess" w="21600" h="226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83">
                <a:moveTo>
                  <a:pt x="21600" y="0"/>
                </a:moveTo>
                <a:lnTo>
                  <a:pt x="21600" y="22683"/>
                </a:lnTo>
                <a:lnTo>
                  <a:pt x="20200" y="21283"/>
                </a:lnTo>
                <a:lnTo>
                  <a:pt x="20200" y="1400"/>
                </a:lnTo>
                <a:close/>
              </a:path>
              <a:path fill="darkenLess" w="21600" h="22683">
                <a:moveTo>
                  <a:pt x="21600" y="22683"/>
                </a:moveTo>
                <a:lnTo>
                  <a:pt x="0" y="22683"/>
                </a:lnTo>
                <a:lnTo>
                  <a:pt x="1400" y="21283"/>
                </a:lnTo>
                <a:lnTo>
                  <a:pt x="20200" y="21283"/>
                </a:lnTo>
                <a:close/>
              </a:path>
              <a:path fill="lighten" w="21600" h="22683">
                <a:moveTo>
                  <a:pt x="0" y="226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83"/>
                </a:lnTo>
                <a:close/>
              </a:path>
              <a:path fill="darken" w="21600" h="22683">
                <a:moveTo>
                  <a:pt x="10800" y="4379"/>
                </a:moveTo>
                <a:lnTo>
                  <a:pt x="13376" y="6990"/>
                </a:lnTo>
                <a:lnTo>
                  <a:pt x="13376" y="5249"/>
                </a:lnTo>
                <a:lnTo>
                  <a:pt x="15152" y="5249"/>
                </a:lnTo>
                <a:lnTo>
                  <a:pt x="15152" y="8765"/>
                </a:lnTo>
                <a:lnTo>
                  <a:pt x="17763" y="11342"/>
                </a:lnTo>
                <a:lnTo>
                  <a:pt x="16109" y="11342"/>
                </a:lnTo>
                <a:lnTo>
                  <a:pt x="16109" y="18531"/>
                </a:lnTo>
                <a:lnTo>
                  <a:pt x="5491" y="18531"/>
                </a:lnTo>
                <a:lnTo>
                  <a:pt x="5491" y="11342"/>
                </a:lnTo>
                <a:lnTo>
                  <a:pt x="3837" y="11342"/>
                </a:lnTo>
                <a:close/>
              </a:path>
              <a:path fill="darkenLess" w="21600" h="22683">
                <a:moveTo>
                  <a:pt x="13376" y="6990"/>
                </a:moveTo>
                <a:lnTo>
                  <a:pt x="13376" y="5249"/>
                </a:lnTo>
                <a:lnTo>
                  <a:pt x="15152" y="5249"/>
                </a:lnTo>
                <a:lnTo>
                  <a:pt x="15152" y="8765"/>
                </a:lnTo>
                <a:close/>
              </a:path>
              <a:path fill="darkenLess" w="21600" h="22683">
                <a:moveTo>
                  <a:pt x="9877" y="14841"/>
                </a:moveTo>
                <a:lnTo>
                  <a:pt x="11723" y="14841"/>
                </a:lnTo>
                <a:lnTo>
                  <a:pt x="11723" y="18531"/>
                </a:lnTo>
                <a:lnTo>
                  <a:pt x="16109" y="18531"/>
                </a:lnTo>
                <a:lnTo>
                  <a:pt x="16109" y="11342"/>
                </a:lnTo>
                <a:lnTo>
                  <a:pt x="5491" y="11342"/>
                </a:lnTo>
                <a:lnTo>
                  <a:pt x="5491" y="18531"/>
                </a:lnTo>
                <a:lnTo>
                  <a:pt x="9877" y="1853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 rot="15098400">
            <a:off x="4490640" y="2320200"/>
            <a:ext cx="2698920" cy="676440"/>
          </a:xfrm>
          <a:custGeom>
            <a:avLst/>
            <a:gdLst/>
            <a:ahLst/>
            <a:rect l="l" t="t" r="r" b="b"/>
            <a:pathLst>
              <a:path w="1761" h="928">
                <a:moveTo>
                  <a:pt x="0" y="908"/>
                </a:moveTo>
                <a:lnTo>
                  <a:pt x="447" y="0"/>
                </a:lnTo>
                <a:lnTo>
                  <a:pt x="1761" y="928"/>
                </a:lnTo>
                <a:lnTo>
                  <a:pt x="0" y="908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025960" y="3389400"/>
            <a:ext cx="2795760" cy="1473120"/>
          </a:xfrm>
          <a:custGeom>
            <a:avLst/>
            <a:gdLst/>
            <a:ahLst/>
            <a:rect l="l" t="t" r="r" b="b"/>
            <a:pathLst>
              <a:path w="1761" h="928">
                <a:moveTo>
                  <a:pt x="0" y="908"/>
                </a:moveTo>
                <a:lnTo>
                  <a:pt x="447" y="0"/>
                </a:lnTo>
                <a:lnTo>
                  <a:pt x="1761" y="928"/>
                </a:lnTo>
                <a:lnTo>
                  <a:pt x="0" y="908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991040" y="486108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734080" y="343224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2" name=""/>
          <p:cNvCxnSpPr/>
          <p:nvPr/>
        </p:nvCxnSpPr>
        <p:spPr>
          <a:xfrm flipV="1">
            <a:off x="4979880" y="3443040"/>
            <a:ext cx="743760" cy="1429200"/>
          </a:xfrm>
          <a:prstGeom prst="straightConnector1">
            <a:avLst/>
          </a:prstGeom>
          <a:ln w="38160">
            <a:solidFill>
              <a:srgbClr val="000000"/>
            </a:solidFill>
            <a:prstDash val="dash"/>
            <a:miter/>
          </a:ln>
        </p:spPr>
      </p:cxnSp>
      <p:cxnSp>
        <p:nvCxnSpPr>
          <p:cNvPr id="253" name=""/>
          <p:cNvCxnSpPr>
            <a:stCxn id="250" idx="0"/>
            <a:endCxn id="251" idx="0"/>
          </p:cNvCxnSpPr>
          <p:nvPr/>
        </p:nvCxnSpPr>
        <p:spPr>
          <a:xfrm flipV="1">
            <a:off x="7810560" y="3450960"/>
            <a:ext cx="743760" cy="14292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254" name=""/>
          <p:cNvSpPr/>
          <p:nvPr/>
        </p:nvSpPr>
        <p:spPr>
          <a:xfrm>
            <a:off x="5702400" y="1257480"/>
            <a:ext cx="23760" cy="21794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5001840" y="1268280"/>
            <a:ext cx="700200" cy="3560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713560" y="1268280"/>
            <a:ext cx="2820960" cy="216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11760" y="1268280"/>
            <a:ext cx="2102040" cy="360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8" name=""/>
          <p:cNvCxnSpPr>
            <a:stCxn id="250" idx="0"/>
            <a:endCxn id="256" idx="0"/>
          </p:cNvCxnSpPr>
          <p:nvPr/>
        </p:nvCxnSpPr>
        <p:spPr>
          <a:xfrm flipV="1">
            <a:off x="4990680" y="3455640"/>
            <a:ext cx="3544200" cy="1386720"/>
          </a:xfrm>
          <a:prstGeom prst="straightConnector1">
            <a:avLst/>
          </a:prstGeom>
          <a:ln w="38160">
            <a:solidFill>
              <a:srgbClr val="000000"/>
            </a:solidFill>
            <a:prstDash val="dash"/>
            <a:miter/>
          </a:ln>
        </p:spPr>
      </p:cxnSp>
      <p:sp>
        <p:nvSpPr>
          <p:cNvPr id="259" name=""/>
          <p:cNvSpPr/>
          <p:nvPr/>
        </p:nvSpPr>
        <p:spPr>
          <a:xfrm>
            <a:off x="5722920" y="3441600"/>
            <a:ext cx="2076480" cy="13986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592520" y="4721400"/>
            <a:ext cx="36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13600" y="4925880"/>
            <a:ext cx="4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574120" y="304308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70400" y="3268800"/>
            <a:ext cx="4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754600" y="870120"/>
            <a:ext cx="50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5389560" y="3441600"/>
            <a:ext cx="333360" cy="143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6636960" y="4151160"/>
            <a:ext cx="96840" cy="72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734080" y="1279440"/>
            <a:ext cx="892080" cy="353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248440" y="4903920"/>
            <a:ext cx="5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518160" y="490536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702480" y="3741840"/>
            <a:ext cx="3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776920" y="1322280"/>
            <a:ext cx="968400" cy="2818080"/>
          </a:xfrm>
          <a:prstGeom prst="line">
            <a:avLst/>
          </a:prstGeom>
          <a:ln w="1908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000080" y="279360"/>
            <a:ext cx="360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Реш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76200" y="741240"/>
            <a:ext cx="534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угольни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D 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ямоугольный (4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3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5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гол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равен 9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73040" y="1528920"/>
            <a:ext cx="46688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A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пендикулярны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екция 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АВС, следователь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пендикуляр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 по теореме о трех перпендикуляра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едовательн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ысо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∆M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538200" y="3421080"/>
            <a:ext cx="3914640" cy="368280"/>
            <a:chOff x="538200" y="3421080"/>
            <a:chExt cx="3914640" cy="368280"/>
          </a:xfrm>
        </p:grpSpPr>
        <p:sp>
          <p:nvSpPr>
            <p:cNvPr id="276" name=""/>
            <p:cNvSpPr/>
            <p:nvPr/>
          </p:nvSpPr>
          <p:spPr>
            <a:xfrm>
              <a:off x="538200" y="3421080"/>
              <a:ext cx="391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)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∆MDO: MD=√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+1,5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ru-RU" sz="18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313000" y="3487680"/>
              <a:ext cx="74124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538200" y="3754440"/>
            <a:ext cx="41860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∆ADB: DK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ерпендикулярны, рассмотри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D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DK=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BD,DK=2,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07880" y="4646520"/>
            <a:ext cx="400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623880" y="5432400"/>
            <a:ext cx="5313240" cy="1315080"/>
            <a:chOff x="623880" y="5432400"/>
            <a:chExt cx="5313240" cy="1315080"/>
          </a:xfrm>
        </p:grpSpPr>
        <p:sp>
          <p:nvSpPr>
            <p:cNvPr id="281" name=""/>
            <p:cNvSpPr/>
            <p:nvPr/>
          </p:nvSpPr>
          <p:spPr>
            <a:xfrm>
              <a:off x="623880" y="5432400"/>
              <a:ext cx="5313240" cy="13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бок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= 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AMD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2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AMB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4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2,5+5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·0,4·√34=10+2 √34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осн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=4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·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3=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пир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=(22+2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√34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)м</a:t>
              </a:r>
              <a:r>
                <a:rPr b="0" lang="ru-RU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41800" y="5486400"/>
              <a:ext cx="22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238720" y="5486400"/>
              <a:ext cx="21600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022480" y="6315120"/>
              <a:ext cx="25884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5722920" y="3441600"/>
            <a:ext cx="2076480" cy="13986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776920" y="1322280"/>
            <a:ext cx="968400" cy="2818080"/>
          </a:xfrm>
          <a:prstGeom prst="line">
            <a:avLst/>
          </a:prstGeom>
          <a:ln w="1908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>
            <a:hlinkClick r:id="" action="ppaction://hlinkshowjump?jump=firstslide"/>
          </p:cNvPr>
          <p:cNvSpPr/>
          <p:nvPr/>
        </p:nvSpPr>
        <p:spPr>
          <a:xfrm>
            <a:off x="8244000" y="5732640"/>
            <a:ext cx="566640" cy="595080"/>
          </a:xfrm>
          <a:custGeom>
            <a:avLst/>
            <a:gdLst>
              <a:gd name="textAreaLeft" fmla="*/ 36720 w 566640"/>
              <a:gd name="textAreaRight" fmla="*/ 529920 w 566640"/>
              <a:gd name="textAreaTop" fmla="*/ 36720 h 595080"/>
              <a:gd name="textAreaBottom" fmla="*/ 558360 h 595080"/>
            </a:gdLst>
            <a:ahLst/>
            <a:rect l="textAreaLeft" t="textAreaTop" r="textAreaRight" b="textAreaBottom"/>
            <a:pathLst>
              <a:path w="21600" h="22683">
                <a:moveTo>
                  <a:pt x="0" y="0"/>
                </a:moveTo>
                <a:lnTo>
                  <a:pt x="21600" y="0"/>
                </a:lnTo>
                <a:lnTo>
                  <a:pt x="21600" y="22683"/>
                </a:lnTo>
                <a:lnTo>
                  <a:pt x="0" y="22683"/>
                </a:lnTo>
                <a:close/>
              </a:path>
              <a:path fill="lightenLess" w="21600" h="226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83">
                <a:moveTo>
                  <a:pt x="21600" y="0"/>
                </a:moveTo>
                <a:lnTo>
                  <a:pt x="21600" y="22683"/>
                </a:lnTo>
                <a:lnTo>
                  <a:pt x="20200" y="21283"/>
                </a:lnTo>
                <a:lnTo>
                  <a:pt x="20200" y="1400"/>
                </a:lnTo>
                <a:close/>
              </a:path>
              <a:path fill="darkenLess" w="21600" h="22683">
                <a:moveTo>
                  <a:pt x="21600" y="22683"/>
                </a:moveTo>
                <a:lnTo>
                  <a:pt x="0" y="22683"/>
                </a:lnTo>
                <a:lnTo>
                  <a:pt x="1400" y="21283"/>
                </a:lnTo>
                <a:lnTo>
                  <a:pt x="20200" y="21283"/>
                </a:lnTo>
                <a:close/>
              </a:path>
              <a:path fill="lighten" w="21600" h="22683">
                <a:moveTo>
                  <a:pt x="0" y="226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83"/>
                </a:lnTo>
                <a:close/>
              </a:path>
              <a:path fill="darken" w="21600" h="22683">
                <a:moveTo>
                  <a:pt x="10800" y="4379"/>
                </a:moveTo>
                <a:lnTo>
                  <a:pt x="13376" y="6990"/>
                </a:lnTo>
                <a:lnTo>
                  <a:pt x="13376" y="5249"/>
                </a:lnTo>
                <a:lnTo>
                  <a:pt x="15152" y="5249"/>
                </a:lnTo>
                <a:lnTo>
                  <a:pt x="15152" y="8765"/>
                </a:lnTo>
                <a:lnTo>
                  <a:pt x="17763" y="11342"/>
                </a:lnTo>
                <a:lnTo>
                  <a:pt x="16109" y="11342"/>
                </a:lnTo>
                <a:lnTo>
                  <a:pt x="16109" y="18531"/>
                </a:lnTo>
                <a:lnTo>
                  <a:pt x="5491" y="18531"/>
                </a:lnTo>
                <a:lnTo>
                  <a:pt x="5491" y="11342"/>
                </a:lnTo>
                <a:lnTo>
                  <a:pt x="3837" y="11342"/>
                </a:lnTo>
                <a:close/>
              </a:path>
              <a:path fill="darkenLess" w="21600" h="22683">
                <a:moveTo>
                  <a:pt x="13376" y="6990"/>
                </a:moveTo>
                <a:lnTo>
                  <a:pt x="13376" y="5249"/>
                </a:lnTo>
                <a:lnTo>
                  <a:pt x="15152" y="5249"/>
                </a:lnTo>
                <a:lnTo>
                  <a:pt x="15152" y="8765"/>
                </a:lnTo>
                <a:close/>
              </a:path>
              <a:path fill="darkenLess" w="21600" h="22683">
                <a:moveTo>
                  <a:pt x="9877" y="14841"/>
                </a:moveTo>
                <a:lnTo>
                  <a:pt x="11723" y="14841"/>
                </a:lnTo>
                <a:lnTo>
                  <a:pt x="11723" y="18531"/>
                </a:lnTo>
                <a:lnTo>
                  <a:pt x="16109" y="18531"/>
                </a:lnTo>
                <a:lnTo>
                  <a:pt x="16109" y="11342"/>
                </a:lnTo>
                <a:lnTo>
                  <a:pt x="5491" y="11342"/>
                </a:lnTo>
                <a:lnTo>
                  <a:pt x="5491" y="18531"/>
                </a:lnTo>
                <a:lnTo>
                  <a:pt x="9877" y="1853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5001840" y="3430440"/>
            <a:ext cx="731880" cy="1376640"/>
          </a:xfrm>
          <a:prstGeom prst="line">
            <a:avLst/>
          </a:prstGeom>
          <a:ln w="38160">
            <a:solidFill>
              <a:srgbClr val="d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745240" y="3409920"/>
            <a:ext cx="1012680" cy="700200"/>
          </a:xfrm>
          <a:prstGeom prst="line">
            <a:avLst/>
          </a:prstGeom>
          <a:ln w="38160">
            <a:solidFill>
              <a:srgbClr val="de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713560" y="1322280"/>
            <a:ext cx="9360" cy="20671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93640" y="4765680"/>
            <a:ext cx="45500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F: OF║DK, OF= ½DK, OF= 1,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F=√MO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OF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0,4√34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257480" y="5046840"/>
            <a:ext cx="101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895480" y="5048280"/>
            <a:ext cx="270000" cy="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 rot="4601400">
            <a:off x="4581360" y="2952000"/>
            <a:ext cx="3525840" cy="326880"/>
          </a:xfrm>
          <a:custGeom>
            <a:avLst/>
            <a:gdLst/>
            <a:ahLst/>
            <a:rect l="l" t="t" r="r" b="b"/>
            <a:pathLst>
              <a:path w="1761" h="928">
                <a:moveTo>
                  <a:pt x="0" y="908"/>
                </a:moveTo>
                <a:lnTo>
                  <a:pt x="447" y="0"/>
                </a:lnTo>
                <a:lnTo>
                  <a:pt x="1761" y="928"/>
                </a:lnTo>
                <a:lnTo>
                  <a:pt x="0" y="908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3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3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3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3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3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3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3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3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3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3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3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3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3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3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3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689040" y="212760"/>
            <a:ext cx="70563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Задача 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снованием пирамид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BC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вляетс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∆АВС, у которого АВ=АС=13см, ВС=10см. Ребр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ерпендикулярно к плоскости основания и равно 9см. Найти площадь боковой поверхности пирами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398680" y="2023920"/>
            <a:ext cx="0" cy="281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408400" y="4849920"/>
            <a:ext cx="3517560" cy="111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387520" y="2000160"/>
            <a:ext cx="3540240" cy="2851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387520" y="4830840"/>
            <a:ext cx="2851200" cy="144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5238360" y="4862520"/>
            <a:ext cx="677880" cy="1409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387520" y="1990800"/>
            <a:ext cx="2840040" cy="4270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990800" y="4734000"/>
            <a:ext cx="3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475240" y="6153120"/>
            <a:ext cx="4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991120" y="466884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463840" y="1709640"/>
            <a:ext cx="5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244000" y="5732640"/>
            <a:ext cx="566640" cy="595080"/>
          </a:xfrm>
          <a:custGeom>
            <a:avLst/>
            <a:gdLst>
              <a:gd name="textAreaLeft" fmla="*/ 36720 w 566640"/>
              <a:gd name="textAreaRight" fmla="*/ 529920 w 566640"/>
              <a:gd name="textAreaTop" fmla="*/ 36720 h 595080"/>
              <a:gd name="textAreaBottom" fmla="*/ 558360 h 595080"/>
            </a:gdLst>
            <a:ahLst/>
            <a:rect l="textAreaLeft" t="textAreaTop" r="textAreaRight" b="textAreaBottom"/>
            <a:pathLst>
              <a:path w="21600" h="22683">
                <a:moveTo>
                  <a:pt x="0" y="0"/>
                </a:moveTo>
                <a:lnTo>
                  <a:pt x="21600" y="0"/>
                </a:lnTo>
                <a:lnTo>
                  <a:pt x="21600" y="22683"/>
                </a:lnTo>
                <a:lnTo>
                  <a:pt x="0" y="22683"/>
                </a:lnTo>
                <a:close/>
              </a:path>
              <a:path fill="lightenLess" w="21600" h="226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83">
                <a:moveTo>
                  <a:pt x="21600" y="0"/>
                </a:moveTo>
                <a:lnTo>
                  <a:pt x="21600" y="22683"/>
                </a:lnTo>
                <a:lnTo>
                  <a:pt x="20200" y="21283"/>
                </a:lnTo>
                <a:lnTo>
                  <a:pt x="20200" y="1400"/>
                </a:lnTo>
                <a:close/>
              </a:path>
              <a:path fill="darkenLess" w="21600" h="22683">
                <a:moveTo>
                  <a:pt x="21600" y="22683"/>
                </a:moveTo>
                <a:lnTo>
                  <a:pt x="0" y="22683"/>
                </a:lnTo>
                <a:lnTo>
                  <a:pt x="1400" y="21283"/>
                </a:lnTo>
                <a:lnTo>
                  <a:pt x="20200" y="21283"/>
                </a:lnTo>
                <a:close/>
              </a:path>
              <a:path fill="lighten" w="21600" h="22683">
                <a:moveTo>
                  <a:pt x="0" y="226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83"/>
                </a:lnTo>
                <a:close/>
              </a:path>
              <a:path fill="darken" w="21600" h="22683">
                <a:moveTo>
                  <a:pt x="10800" y="4379"/>
                </a:moveTo>
                <a:lnTo>
                  <a:pt x="13376" y="6990"/>
                </a:lnTo>
                <a:lnTo>
                  <a:pt x="13376" y="5249"/>
                </a:lnTo>
                <a:lnTo>
                  <a:pt x="15152" y="5249"/>
                </a:lnTo>
                <a:lnTo>
                  <a:pt x="15152" y="8765"/>
                </a:lnTo>
                <a:lnTo>
                  <a:pt x="17763" y="11342"/>
                </a:lnTo>
                <a:lnTo>
                  <a:pt x="16109" y="11342"/>
                </a:lnTo>
                <a:lnTo>
                  <a:pt x="16109" y="18531"/>
                </a:lnTo>
                <a:lnTo>
                  <a:pt x="5491" y="18531"/>
                </a:lnTo>
                <a:lnTo>
                  <a:pt x="5491" y="11342"/>
                </a:lnTo>
                <a:lnTo>
                  <a:pt x="3837" y="11342"/>
                </a:lnTo>
                <a:close/>
              </a:path>
              <a:path fill="darkenLess" w="21600" h="22683">
                <a:moveTo>
                  <a:pt x="13376" y="6990"/>
                </a:moveTo>
                <a:lnTo>
                  <a:pt x="13376" y="5249"/>
                </a:lnTo>
                <a:lnTo>
                  <a:pt x="15152" y="5249"/>
                </a:lnTo>
                <a:lnTo>
                  <a:pt x="15152" y="8765"/>
                </a:lnTo>
                <a:close/>
              </a:path>
              <a:path fill="darkenLess" w="21600" h="22683">
                <a:moveTo>
                  <a:pt x="9877" y="14841"/>
                </a:moveTo>
                <a:lnTo>
                  <a:pt x="11723" y="14841"/>
                </a:lnTo>
                <a:lnTo>
                  <a:pt x="11723" y="18531"/>
                </a:lnTo>
                <a:lnTo>
                  <a:pt x="16109" y="18531"/>
                </a:lnTo>
                <a:lnTo>
                  <a:pt x="16109" y="11342"/>
                </a:lnTo>
                <a:lnTo>
                  <a:pt x="5491" y="11342"/>
                </a:lnTo>
                <a:lnTo>
                  <a:pt x="5491" y="18531"/>
                </a:lnTo>
                <a:lnTo>
                  <a:pt x="9877" y="1853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1322280" y="139680"/>
            <a:ext cx="234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Реш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572000" y="1314360"/>
            <a:ext cx="0" cy="281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581360" y="4140360"/>
            <a:ext cx="3517920" cy="108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60840" y="1290600"/>
            <a:ext cx="3540240" cy="2851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560840" y="4121280"/>
            <a:ext cx="2851200" cy="144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7411680" y="4152960"/>
            <a:ext cx="677880" cy="1409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560840" y="1281240"/>
            <a:ext cx="2840040" cy="4270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164120" y="4024440"/>
            <a:ext cx="3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164440" y="395928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637160" y="1000080"/>
            <a:ext cx="5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454880" y="5592600"/>
            <a:ext cx="4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04840" y="849240"/>
            <a:ext cx="434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Проведем АК перпендикулярно В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603680" y="4130640"/>
            <a:ext cx="3164040" cy="731880"/>
          </a:xfrm>
          <a:prstGeom prst="line">
            <a:avLst/>
          </a:prstGeom>
          <a:ln w="381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7443720" y="4808520"/>
            <a:ext cx="65160" cy="1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427880" y="4954680"/>
            <a:ext cx="25884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896240" y="486252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36520" y="1333440"/>
            <a:ext cx="393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 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K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ерпендикулярны (по теореме о трех перпендикулярах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K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высот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B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626000" y="1324080"/>
            <a:ext cx="3141720" cy="356076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691400" y="4506840"/>
            <a:ext cx="162000" cy="1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7596000" y="4506840"/>
            <a:ext cx="83880" cy="1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68200" y="2452680"/>
            <a:ext cx="3990960" cy="25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∆АВК: АК = √АВ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K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√144=1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) 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K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K=1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4) 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B = ADC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 двум катета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бо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D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бо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=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½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 = 192с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000160" y="2517840"/>
            <a:ext cx="76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087720" y="2527200"/>
            <a:ext cx="36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244000" y="5732640"/>
            <a:ext cx="566640" cy="595080"/>
          </a:xfrm>
          <a:custGeom>
            <a:avLst/>
            <a:gdLst>
              <a:gd name="textAreaLeft" fmla="*/ 36720 w 566640"/>
              <a:gd name="textAreaRight" fmla="*/ 529920 w 566640"/>
              <a:gd name="textAreaTop" fmla="*/ 36720 h 595080"/>
              <a:gd name="textAreaBottom" fmla="*/ 558360 h 595080"/>
            </a:gdLst>
            <a:ahLst/>
            <a:rect l="textAreaLeft" t="textAreaTop" r="textAreaRight" b="textAreaBottom"/>
            <a:pathLst>
              <a:path w="21600" h="22683">
                <a:moveTo>
                  <a:pt x="0" y="0"/>
                </a:moveTo>
                <a:lnTo>
                  <a:pt x="21600" y="0"/>
                </a:lnTo>
                <a:lnTo>
                  <a:pt x="21600" y="22683"/>
                </a:lnTo>
                <a:lnTo>
                  <a:pt x="0" y="22683"/>
                </a:lnTo>
                <a:close/>
              </a:path>
              <a:path fill="lightenLess" w="21600" h="226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83">
                <a:moveTo>
                  <a:pt x="21600" y="0"/>
                </a:moveTo>
                <a:lnTo>
                  <a:pt x="21600" y="22683"/>
                </a:lnTo>
                <a:lnTo>
                  <a:pt x="20200" y="21283"/>
                </a:lnTo>
                <a:lnTo>
                  <a:pt x="20200" y="1400"/>
                </a:lnTo>
                <a:close/>
              </a:path>
              <a:path fill="darkenLess" w="21600" h="22683">
                <a:moveTo>
                  <a:pt x="21600" y="22683"/>
                </a:moveTo>
                <a:lnTo>
                  <a:pt x="0" y="22683"/>
                </a:lnTo>
                <a:lnTo>
                  <a:pt x="1400" y="21283"/>
                </a:lnTo>
                <a:lnTo>
                  <a:pt x="20200" y="21283"/>
                </a:lnTo>
                <a:close/>
              </a:path>
              <a:path fill="lighten" w="21600" h="22683">
                <a:moveTo>
                  <a:pt x="0" y="226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83"/>
                </a:lnTo>
                <a:close/>
              </a:path>
              <a:path fill="darken" w="21600" h="22683">
                <a:moveTo>
                  <a:pt x="10800" y="4379"/>
                </a:moveTo>
                <a:lnTo>
                  <a:pt x="13376" y="6990"/>
                </a:lnTo>
                <a:lnTo>
                  <a:pt x="13376" y="5249"/>
                </a:lnTo>
                <a:lnTo>
                  <a:pt x="15152" y="5249"/>
                </a:lnTo>
                <a:lnTo>
                  <a:pt x="15152" y="8765"/>
                </a:lnTo>
                <a:lnTo>
                  <a:pt x="17763" y="11342"/>
                </a:lnTo>
                <a:lnTo>
                  <a:pt x="16109" y="11342"/>
                </a:lnTo>
                <a:lnTo>
                  <a:pt x="16109" y="18531"/>
                </a:lnTo>
                <a:lnTo>
                  <a:pt x="5491" y="18531"/>
                </a:lnTo>
                <a:lnTo>
                  <a:pt x="5491" y="11342"/>
                </a:lnTo>
                <a:lnTo>
                  <a:pt x="3837" y="11342"/>
                </a:lnTo>
                <a:close/>
              </a:path>
              <a:path fill="darkenLess" w="21600" h="22683">
                <a:moveTo>
                  <a:pt x="13376" y="6990"/>
                </a:moveTo>
                <a:lnTo>
                  <a:pt x="13376" y="5249"/>
                </a:lnTo>
                <a:lnTo>
                  <a:pt x="15152" y="5249"/>
                </a:lnTo>
                <a:lnTo>
                  <a:pt x="15152" y="8765"/>
                </a:lnTo>
                <a:close/>
              </a:path>
              <a:path fill="darkenLess" w="21600" h="22683">
                <a:moveTo>
                  <a:pt x="9877" y="14841"/>
                </a:moveTo>
                <a:lnTo>
                  <a:pt x="11723" y="14841"/>
                </a:lnTo>
                <a:lnTo>
                  <a:pt x="11723" y="18531"/>
                </a:lnTo>
                <a:lnTo>
                  <a:pt x="16109" y="18531"/>
                </a:lnTo>
                <a:lnTo>
                  <a:pt x="16109" y="11342"/>
                </a:lnTo>
                <a:lnTo>
                  <a:pt x="5491" y="11342"/>
                </a:lnTo>
                <a:lnTo>
                  <a:pt x="5491" y="18531"/>
                </a:lnTo>
                <a:lnTo>
                  <a:pt x="9877" y="1853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3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3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3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3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3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3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3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3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3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3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3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92200" y="312840"/>
            <a:ext cx="39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дача 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20720" y="795240"/>
            <a:ext cx="808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йдите площадь боковой поверхности правильной шестиугольной пирамиды, если сторона ее основания равна а, а площадь боковой грани равна площади сечения, проведенного через вершину пирамиды и большую диагональ осн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184720" y="2301840"/>
            <a:ext cx="1797120" cy="3581280"/>
          </a:xfrm>
          <a:custGeom>
            <a:avLst/>
            <a:gdLst/>
            <a:ahLst/>
            <a:rect l="l" t="t" r="r" b="b"/>
            <a:pathLst>
              <a:path w="1132" h="2256">
                <a:moveTo>
                  <a:pt x="0" y="2256"/>
                </a:moveTo>
                <a:lnTo>
                  <a:pt x="603" y="0"/>
                </a:lnTo>
                <a:lnTo>
                  <a:pt x="1132" y="1369"/>
                </a:lnTo>
                <a:lnTo>
                  <a:pt x="0" y="225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4689360" y="2301840"/>
            <a:ext cx="2894040" cy="3603600"/>
            <a:chOff x="4689360" y="2301840"/>
            <a:chExt cx="2894040" cy="3603600"/>
          </a:xfrm>
        </p:grpSpPr>
        <p:sp>
          <p:nvSpPr>
            <p:cNvPr id="340" name=""/>
            <p:cNvSpPr/>
            <p:nvPr/>
          </p:nvSpPr>
          <p:spPr>
            <a:xfrm flipH="1">
              <a:off x="4689360" y="2301840"/>
              <a:ext cx="1463760" cy="288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141960" y="2301840"/>
              <a:ext cx="1430280" cy="288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700520" y="5184720"/>
              <a:ext cx="484200" cy="709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64200" y="5894280"/>
              <a:ext cx="1407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6538680" y="5162400"/>
              <a:ext cx="1044720" cy="74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4721040" y="4464000"/>
              <a:ext cx="1281240" cy="6984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002280" y="4476600"/>
              <a:ext cx="990720" cy="972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993000" y="4462560"/>
              <a:ext cx="547560" cy="7110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6013440" y="2313000"/>
              <a:ext cx="117360" cy="21510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141960" y="2344680"/>
              <a:ext cx="851040" cy="213984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5184360" y="2322360"/>
              <a:ext cx="957240" cy="3583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141960" y="2344680"/>
              <a:ext cx="387360" cy="35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"/>
          <p:cNvSpPr/>
          <p:nvPr/>
        </p:nvSpPr>
        <p:spPr>
          <a:xfrm flipV="1">
            <a:off x="5205240" y="4474800"/>
            <a:ext cx="1743120" cy="1407960"/>
          </a:xfrm>
          <a:prstGeom prst="line">
            <a:avLst/>
          </a:prstGeom>
          <a:ln w="1260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6141600" y="2355840"/>
            <a:ext cx="11160" cy="2709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5776920" y="2333520"/>
            <a:ext cx="365040" cy="3549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5776920" y="5130360"/>
            <a:ext cx="353880" cy="7635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322880" y="4979880"/>
            <a:ext cx="3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894200" y="5959440"/>
            <a:ext cx="36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603760" y="5989680"/>
            <a:ext cx="4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475320" y="591660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045120" y="5076720"/>
            <a:ext cx="36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605720" y="499104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142040" y="4130640"/>
            <a:ext cx="36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216320"/>
            <a:ext cx="2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130800" y="183816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056280" y="5775480"/>
            <a:ext cx="27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244000" y="5732640"/>
            <a:ext cx="566640" cy="595080"/>
          </a:xfrm>
          <a:custGeom>
            <a:avLst/>
            <a:gdLst>
              <a:gd name="textAreaLeft" fmla="*/ 36720 w 566640"/>
              <a:gd name="textAreaRight" fmla="*/ 529920 w 566640"/>
              <a:gd name="textAreaTop" fmla="*/ 36720 h 595080"/>
              <a:gd name="textAreaBottom" fmla="*/ 558360 h 595080"/>
            </a:gdLst>
            <a:ahLst/>
            <a:rect l="textAreaLeft" t="textAreaTop" r="textAreaRight" b="textAreaBottom"/>
            <a:pathLst>
              <a:path w="21600" h="22683">
                <a:moveTo>
                  <a:pt x="0" y="0"/>
                </a:moveTo>
                <a:lnTo>
                  <a:pt x="21600" y="0"/>
                </a:lnTo>
                <a:lnTo>
                  <a:pt x="21600" y="22683"/>
                </a:lnTo>
                <a:lnTo>
                  <a:pt x="0" y="22683"/>
                </a:lnTo>
                <a:close/>
              </a:path>
              <a:path fill="lightenLess" w="21600" h="226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83">
                <a:moveTo>
                  <a:pt x="21600" y="0"/>
                </a:moveTo>
                <a:lnTo>
                  <a:pt x="21600" y="22683"/>
                </a:lnTo>
                <a:lnTo>
                  <a:pt x="20200" y="21283"/>
                </a:lnTo>
                <a:lnTo>
                  <a:pt x="20200" y="1400"/>
                </a:lnTo>
                <a:close/>
              </a:path>
              <a:path fill="darkenLess" w="21600" h="22683">
                <a:moveTo>
                  <a:pt x="21600" y="22683"/>
                </a:moveTo>
                <a:lnTo>
                  <a:pt x="0" y="22683"/>
                </a:lnTo>
                <a:lnTo>
                  <a:pt x="1400" y="21283"/>
                </a:lnTo>
                <a:lnTo>
                  <a:pt x="20200" y="21283"/>
                </a:lnTo>
                <a:close/>
              </a:path>
              <a:path fill="lighten" w="21600" h="22683">
                <a:moveTo>
                  <a:pt x="0" y="226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83"/>
                </a:lnTo>
                <a:close/>
              </a:path>
              <a:path fill="darken" w="21600" h="22683">
                <a:moveTo>
                  <a:pt x="10800" y="4379"/>
                </a:moveTo>
                <a:lnTo>
                  <a:pt x="13376" y="6990"/>
                </a:lnTo>
                <a:lnTo>
                  <a:pt x="13376" y="5249"/>
                </a:lnTo>
                <a:lnTo>
                  <a:pt x="15152" y="5249"/>
                </a:lnTo>
                <a:lnTo>
                  <a:pt x="15152" y="8765"/>
                </a:lnTo>
                <a:lnTo>
                  <a:pt x="17763" y="11342"/>
                </a:lnTo>
                <a:lnTo>
                  <a:pt x="16109" y="11342"/>
                </a:lnTo>
                <a:lnTo>
                  <a:pt x="16109" y="18531"/>
                </a:lnTo>
                <a:lnTo>
                  <a:pt x="5491" y="18531"/>
                </a:lnTo>
                <a:lnTo>
                  <a:pt x="5491" y="11342"/>
                </a:lnTo>
                <a:lnTo>
                  <a:pt x="3837" y="11342"/>
                </a:lnTo>
                <a:close/>
              </a:path>
              <a:path fill="darkenLess" w="21600" h="22683">
                <a:moveTo>
                  <a:pt x="13376" y="6990"/>
                </a:moveTo>
                <a:lnTo>
                  <a:pt x="13376" y="5249"/>
                </a:lnTo>
                <a:lnTo>
                  <a:pt x="15152" y="5249"/>
                </a:lnTo>
                <a:lnTo>
                  <a:pt x="15152" y="8765"/>
                </a:lnTo>
                <a:close/>
              </a:path>
              <a:path fill="darkenLess" w="21600" h="22683">
                <a:moveTo>
                  <a:pt x="9877" y="14841"/>
                </a:moveTo>
                <a:lnTo>
                  <a:pt x="11723" y="14841"/>
                </a:lnTo>
                <a:lnTo>
                  <a:pt x="11723" y="18531"/>
                </a:lnTo>
                <a:lnTo>
                  <a:pt x="16109" y="18531"/>
                </a:lnTo>
                <a:lnTo>
                  <a:pt x="16109" y="11342"/>
                </a:lnTo>
                <a:lnTo>
                  <a:pt x="5491" y="11342"/>
                </a:lnTo>
                <a:lnTo>
                  <a:pt x="5491" y="18531"/>
                </a:lnTo>
                <a:lnTo>
                  <a:pt x="9877" y="1853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30200" y="193680"/>
            <a:ext cx="360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Реш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506520" y="878040"/>
                <a:ext cx="360972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AD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гр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MK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D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MO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668160" y="1535040"/>
                <a:ext cx="27147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По условию задачи: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M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MO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2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677880" y="2252520"/>
                <a:ext cx="284796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Следовательно, </m:t>
                    </m:r>
                    <m:r>
                      <m:rPr>
                        <m:lit/>
                        <m:nor/>
                      </m:rPr>
                      <m:t xml:space="preserve">MK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O</m:t>
                    </m:r>
                    <m:r>
                      <m:rPr>
                        <m:lit/>
                        <m:nor/>
                      </m:rPr>
                      <m:t xml:space="preserve"> и  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MKO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590400" y="2795760"/>
                <a:ext cx="153360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AOK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rPr>
                        <m:lit/>
                        <m:nor/>
                      </m:rPr>
                      <m:t xml:space="preserve">O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6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892080" y="4395960"/>
                <a:ext cx="140976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бок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а</m:t>
                    </m:r>
                    <m:r>
                      <m:t xml:space="preserve">⋅</m:t>
                    </m:r>
                    <m:r>
                      <m:t xml:space="preserve">а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79" name=""/>
          <p:cNvSpPr/>
          <p:nvPr/>
        </p:nvSpPr>
        <p:spPr>
          <a:xfrm>
            <a:off x="5326200" y="1279440"/>
            <a:ext cx="1796760" cy="3581640"/>
          </a:xfrm>
          <a:custGeom>
            <a:avLst/>
            <a:gdLst/>
            <a:ahLst/>
            <a:rect l="l" t="t" r="r" b="b"/>
            <a:pathLst>
              <a:path w="1132" h="2256">
                <a:moveTo>
                  <a:pt x="0" y="2256"/>
                </a:moveTo>
                <a:lnTo>
                  <a:pt x="603" y="0"/>
                </a:lnTo>
                <a:lnTo>
                  <a:pt x="1132" y="1369"/>
                </a:lnTo>
                <a:lnTo>
                  <a:pt x="0" y="225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4830840" y="1279440"/>
            <a:ext cx="2894040" cy="3603600"/>
            <a:chOff x="4830840" y="1279440"/>
            <a:chExt cx="2894040" cy="3603600"/>
          </a:xfrm>
        </p:grpSpPr>
        <p:sp>
          <p:nvSpPr>
            <p:cNvPr id="381" name=""/>
            <p:cNvSpPr/>
            <p:nvPr/>
          </p:nvSpPr>
          <p:spPr>
            <a:xfrm flipH="1">
              <a:off x="4830840" y="1279440"/>
              <a:ext cx="1463760" cy="288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283440" y="1279440"/>
              <a:ext cx="1430280" cy="288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42000" y="4162320"/>
              <a:ext cx="484200" cy="709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305680" y="4871880"/>
              <a:ext cx="1407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6680160" y="4140000"/>
              <a:ext cx="1044720" cy="74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4862520" y="3441600"/>
              <a:ext cx="1281240" cy="6984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143760" y="3454200"/>
              <a:ext cx="990720" cy="972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134480" y="3440160"/>
              <a:ext cx="547560" cy="7110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6154920" y="1290600"/>
              <a:ext cx="117360" cy="21510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283440" y="1322280"/>
              <a:ext cx="851040" cy="213984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5325840" y="1299960"/>
              <a:ext cx="957240" cy="3583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283440" y="1322280"/>
              <a:ext cx="387360" cy="35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"/>
          <p:cNvSpPr/>
          <p:nvPr/>
        </p:nvSpPr>
        <p:spPr>
          <a:xfrm flipV="1">
            <a:off x="5346720" y="3452760"/>
            <a:ext cx="1743120" cy="1408320"/>
          </a:xfrm>
          <a:prstGeom prst="line">
            <a:avLst/>
          </a:prstGeom>
          <a:ln w="1260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6283080" y="1333440"/>
            <a:ext cx="11160" cy="2710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5917680" y="1311120"/>
            <a:ext cx="365400" cy="3549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464000" y="3957480"/>
            <a:ext cx="3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035680" y="4937040"/>
            <a:ext cx="36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616800" y="489420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186600" y="4054320"/>
            <a:ext cx="3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746840" y="396864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283520" y="3108240"/>
            <a:ext cx="3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400720" y="31939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272280" y="81612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197760" y="4753080"/>
            <a:ext cx="27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754600" y="4978440"/>
            <a:ext cx="4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644400" y="3699000"/>
                <a:ext cx="267660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Δ</m:t>
                    </m:r>
                    <m:r>
                      <m:rPr>
                        <m:lit/>
                        <m:nor/>
                      </m:rPr>
                      <m:t xml:space="preserve">MOK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rPr>
                        <m:lit/>
                        <m:nor/>
                      </m:rPr>
                      <m:t xml:space="preserve">MK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O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8" name=""/>
          <p:cNvSpPr/>
          <p:nvPr/>
        </p:nvSpPr>
        <p:spPr>
          <a:xfrm flipV="1">
            <a:off x="5918040" y="4107960"/>
            <a:ext cx="354240" cy="7635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326200" y="1322280"/>
            <a:ext cx="1365120" cy="3549600"/>
          </a:xfrm>
          <a:custGeom>
            <a:avLst/>
            <a:gdLst/>
            <a:ahLst/>
            <a:rect l="l" t="t" r="r" b="b"/>
            <a:pathLst>
              <a:path w="860" h="2236">
                <a:moveTo>
                  <a:pt x="0" y="2236"/>
                </a:moveTo>
                <a:lnTo>
                  <a:pt x="596" y="0"/>
                </a:lnTo>
                <a:lnTo>
                  <a:pt x="860" y="2236"/>
                </a:lnTo>
                <a:lnTo>
                  <a:pt x="0" y="223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313240" y="4121280"/>
            <a:ext cx="968400" cy="752400"/>
          </a:xfrm>
          <a:custGeom>
            <a:avLst/>
            <a:gdLst/>
            <a:ahLst/>
            <a:rect l="l" t="t" r="r" b="b"/>
            <a:pathLst>
              <a:path w="603" h="461">
                <a:moveTo>
                  <a:pt x="0" y="447"/>
                </a:moveTo>
                <a:lnTo>
                  <a:pt x="603" y="0"/>
                </a:lnTo>
                <a:lnTo>
                  <a:pt x="386" y="461"/>
                </a:lnTo>
                <a:lnTo>
                  <a:pt x="0" y="447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905440" y="1290600"/>
            <a:ext cx="366840" cy="3549600"/>
          </a:xfrm>
          <a:custGeom>
            <a:avLst/>
            <a:gdLst/>
            <a:ahLst/>
            <a:rect l="l" t="t" r="r" b="b"/>
            <a:pathLst>
              <a:path w="231" h="2236">
                <a:moveTo>
                  <a:pt x="0" y="2236"/>
                </a:moveTo>
                <a:lnTo>
                  <a:pt x="231" y="0"/>
                </a:lnTo>
                <a:lnTo>
                  <a:pt x="231" y="1776"/>
                </a:lnTo>
                <a:lnTo>
                  <a:pt x="0" y="223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8244000" y="5732640"/>
            <a:ext cx="566640" cy="595080"/>
          </a:xfrm>
          <a:custGeom>
            <a:avLst/>
            <a:gdLst>
              <a:gd name="textAreaLeft" fmla="*/ 36720 w 566640"/>
              <a:gd name="textAreaRight" fmla="*/ 529920 w 566640"/>
              <a:gd name="textAreaTop" fmla="*/ 36720 h 595080"/>
              <a:gd name="textAreaBottom" fmla="*/ 558360 h 595080"/>
            </a:gdLst>
            <a:ahLst/>
            <a:rect l="textAreaLeft" t="textAreaTop" r="textAreaRight" b="textAreaBottom"/>
            <a:pathLst>
              <a:path w="21600" h="22683">
                <a:moveTo>
                  <a:pt x="0" y="0"/>
                </a:moveTo>
                <a:lnTo>
                  <a:pt x="21600" y="0"/>
                </a:lnTo>
                <a:lnTo>
                  <a:pt x="21600" y="22683"/>
                </a:lnTo>
                <a:lnTo>
                  <a:pt x="0" y="22683"/>
                </a:lnTo>
                <a:close/>
              </a:path>
              <a:path fill="lightenLess" w="21600" h="226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83">
                <a:moveTo>
                  <a:pt x="21600" y="0"/>
                </a:moveTo>
                <a:lnTo>
                  <a:pt x="21600" y="22683"/>
                </a:lnTo>
                <a:lnTo>
                  <a:pt x="20200" y="21283"/>
                </a:lnTo>
                <a:lnTo>
                  <a:pt x="20200" y="1400"/>
                </a:lnTo>
                <a:close/>
              </a:path>
              <a:path fill="darkenLess" w="21600" h="22683">
                <a:moveTo>
                  <a:pt x="21600" y="22683"/>
                </a:moveTo>
                <a:lnTo>
                  <a:pt x="0" y="22683"/>
                </a:lnTo>
                <a:lnTo>
                  <a:pt x="1400" y="21283"/>
                </a:lnTo>
                <a:lnTo>
                  <a:pt x="20200" y="21283"/>
                </a:lnTo>
                <a:close/>
              </a:path>
              <a:path fill="lighten" w="21600" h="22683">
                <a:moveTo>
                  <a:pt x="0" y="226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83"/>
                </a:lnTo>
                <a:close/>
              </a:path>
              <a:path fill="darken" w="21600" h="22683">
                <a:moveTo>
                  <a:pt x="10800" y="4379"/>
                </a:moveTo>
                <a:lnTo>
                  <a:pt x="13376" y="6990"/>
                </a:lnTo>
                <a:lnTo>
                  <a:pt x="13376" y="5249"/>
                </a:lnTo>
                <a:lnTo>
                  <a:pt x="15152" y="5249"/>
                </a:lnTo>
                <a:lnTo>
                  <a:pt x="15152" y="8765"/>
                </a:lnTo>
                <a:lnTo>
                  <a:pt x="17763" y="11342"/>
                </a:lnTo>
                <a:lnTo>
                  <a:pt x="16109" y="11342"/>
                </a:lnTo>
                <a:lnTo>
                  <a:pt x="16109" y="18531"/>
                </a:lnTo>
                <a:lnTo>
                  <a:pt x="5491" y="18531"/>
                </a:lnTo>
                <a:lnTo>
                  <a:pt x="5491" y="11342"/>
                </a:lnTo>
                <a:lnTo>
                  <a:pt x="3837" y="11342"/>
                </a:lnTo>
                <a:close/>
              </a:path>
              <a:path fill="darkenLess" w="21600" h="22683">
                <a:moveTo>
                  <a:pt x="13376" y="6990"/>
                </a:moveTo>
                <a:lnTo>
                  <a:pt x="13376" y="5249"/>
                </a:lnTo>
                <a:lnTo>
                  <a:pt x="15152" y="5249"/>
                </a:lnTo>
                <a:lnTo>
                  <a:pt x="15152" y="8765"/>
                </a:lnTo>
                <a:close/>
              </a:path>
              <a:path fill="darkenLess" w="21600" h="22683">
                <a:moveTo>
                  <a:pt x="9877" y="14841"/>
                </a:moveTo>
                <a:lnTo>
                  <a:pt x="11723" y="14841"/>
                </a:lnTo>
                <a:lnTo>
                  <a:pt x="11723" y="18531"/>
                </a:lnTo>
                <a:lnTo>
                  <a:pt x="16109" y="18531"/>
                </a:lnTo>
                <a:lnTo>
                  <a:pt x="16109" y="11342"/>
                </a:lnTo>
                <a:lnTo>
                  <a:pt x="5491" y="11342"/>
                </a:lnTo>
                <a:lnTo>
                  <a:pt x="5491" y="18531"/>
                </a:lnTo>
                <a:lnTo>
                  <a:pt x="9877" y="1853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3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3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3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1515960" y="495360"/>
            <a:ext cx="50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Домашнее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зада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979560" y="1689120"/>
            <a:ext cx="75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. 28, 29, задачи 248, 26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31840" y="2655720"/>
            <a:ext cx="65023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равочные материал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Многогран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Пирам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>
            <a:hlinkClick r:id="" action="ppaction://hlinkshowjump?jump=firstslide"/>
          </p:cNvPr>
          <p:cNvSpPr/>
          <p:nvPr/>
        </p:nvSpPr>
        <p:spPr>
          <a:xfrm>
            <a:off x="8244000" y="5732640"/>
            <a:ext cx="566640" cy="595080"/>
          </a:xfrm>
          <a:custGeom>
            <a:avLst/>
            <a:gdLst>
              <a:gd name="textAreaLeft" fmla="*/ 36720 w 566640"/>
              <a:gd name="textAreaRight" fmla="*/ 529920 w 566640"/>
              <a:gd name="textAreaTop" fmla="*/ 36720 h 595080"/>
              <a:gd name="textAreaBottom" fmla="*/ 558360 h 595080"/>
            </a:gdLst>
            <a:ahLst/>
            <a:rect l="textAreaLeft" t="textAreaTop" r="textAreaRight" b="textAreaBottom"/>
            <a:pathLst>
              <a:path w="21600" h="22683">
                <a:moveTo>
                  <a:pt x="0" y="0"/>
                </a:moveTo>
                <a:lnTo>
                  <a:pt x="21600" y="0"/>
                </a:lnTo>
                <a:lnTo>
                  <a:pt x="21600" y="22683"/>
                </a:lnTo>
                <a:lnTo>
                  <a:pt x="0" y="22683"/>
                </a:lnTo>
                <a:close/>
              </a:path>
              <a:path fill="lightenLess" w="21600" h="226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83">
                <a:moveTo>
                  <a:pt x="21600" y="0"/>
                </a:moveTo>
                <a:lnTo>
                  <a:pt x="21600" y="22683"/>
                </a:lnTo>
                <a:lnTo>
                  <a:pt x="20200" y="21283"/>
                </a:lnTo>
                <a:lnTo>
                  <a:pt x="20200" y="1400"/>
                </a:lnTo>
                <a:close/>
              </a:path>
              <a:path fill="darkenLess" w="21600" h="22683">
                <a:moveTo>
                  <a:pt x="21600" y="22683"/>
                </a:moveTo>
                <a:lnTo>
                  <a:pt x="0" y="22683"/>
                </a:lnTo>
                <a:lnTo>
                  <a:pt x="1400" y="21283"/>
                </a:lnTo>
                <a:lnTo>
                  <a:pt x="20200" y="21283"/>
                </a:lnTo>
                <a:close/>
              </a:path>
              <a:path fill="lighten" w="21600" h="22683">
                <a:moveTo>
                  <a:pt x="0" y="226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83"/>
                </a:lnTo>
                <a:close/>
              </a:path>
              <a:path fill="darken" w="21600" h="22683">
                <a:moveTo>
                  <a:pt x="10800" y="4379"/>
                </a:moveTo>
                <a:lnTo>
                  <a:pt x="13376" y="6990"/>
                </a:lnTo>
                <a:lnTo>
                  <a:pt x="13376" y="5249"/>
                </a:lnTo>
                <a:lnTo>
                  <a:pt x="15152" y="5249"/>
                </a:lnTo>
                <a:lnTo>
                  <a:pt x="15152" y="8765"/>
                </a:lnTo>
                <a:lnTo>
                  <a:pt x="17763" y="11342"/>
                </a:lnTo>
                <a:lnTo>
                  <a:pt x="16109" y="11342"/>
                </a:lnTo>
                <a:lnTo>
                  <a:pt x="16109" y="18531"/>
                </a:lnTo>
                <a:lnTo>
                  <a:pt x="5491" y="18531"/>
                </a:lnTo>
                <a:lnTo>
                  <a:pt x="5491" y="11342"/>
                </a:lnTo>
                <a:lnTo>
                  <a:pt x="3837" y="11342"/>
                </a:lnTo>
                <a:close/>
              </a:path>
              <a:path fill="darkenLess" w="21600" h="22683">
                <a:moveTo>
                  <a:pt x="13376" y="6990"/>
                </a:moveTo>
                <a:lnTo>
                  <a:pt x="13376" y="5249"/>
                </a:lnTo>
                <a:lnTo>
                  <a:pt x="15152" y="5249"/>
                </a:lnTo>
                <a:lnTo>
                  <a:pt x="15152" y="8765"/>
                </a:lnTo>
                <a:close/>
              </a:path>
              <a:path fill="darkenLess" w="21600" h="22683">
                <a:moveTo>
                  <a:pt x="9877" y="14841"/>
                </a:moveTo>
                <a:lnTo>
                  <a:pt x="11723" y="14841"/>
                </a:lnTo>
                <a:lnTo>
                  <a:pt x="11723" y="18531"/>
                </a:lnTo>
                <a:lnTo>
                  <a:pt x="16109" y="18531"/>
                </a:lnTo>
                <a:lnTo>
                  <a:pt x="16109" y="11342"/>
                </a:lnTo>
                <a:lnTo>
                  <a:pt x="5491" y="11342"/>
                </a:lnTo>
                <a:lnTo>
                  <a:pt x="5491" y="18531"/>
                </a:lnTo>
                <a:lnTo>
                  <a:pt x="9877" y="1853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3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57440" y="247680"/>
            <a:ext cx="35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Цели и задач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14400" y="1236600"/>
            <a:ext cx="7821720" cy="25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вести понятие пирами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казать теорему о площади боковой поверхности правильной пирами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смотреть задачи, связанные с пирамидой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7800" y="223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Arial"/>
              </a:rPr>
              <a:t>Пл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28440" y="1500120"/>
            <a:ext cx="714348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799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пределение пирами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Элементы пирами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Правильная пирами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Площадь поверхности пирами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шение задач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1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2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Arial"/>
              </a:rPr>
              <a:t>Определение пирами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71320" y="1357200"/>
            <a:ext cx="8358120" cy="17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огогранник, составленный из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гольника 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реугольников, называется пирамид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29"/>
          <p:cNvGrpSpPr/>
          <p:nvPr/>
        </p:nvGrpSpPr>
        <p:grpSpPr>
          <a:xfrm>
            <a:off x="1213920" y="3357720"/>
            <a:ext cx="1872000" cy="2087640"/>
            <a:chOff x="1213920" y="3357720"/>
            <a:chExt cx="1872000" cy="2087640"/>
          </a:xfrm>
        </p:grpSpPr>
        <p:sp>
          <p:nvSpPr>
            <p:cNvPr id="57" name="Line 16"/>
            <p:cNvSpPr/>
            <p:nvPr/>
          </p:nvSpPr>
          <p:spPr>
            <a:xfrm flipH="1">
              <a:off x="1645920" y="3357720"/>
              <a:ext cx="432000" cy="20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7"/>
            <p:cNvSpPr/>
            <p:nvPr/>
          </p:nvSpPr>
          <p:spPr>
            <a:xfrm>
              <a:off x="2077920" y="3429000"/>
              <a:ext cx="431640" cy="20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18"/>
            <p:cNvSpPr/>
            <p:nvPr/>
          </p:nvSpPr>
          <p:spPr>
            <a:xfrm>
              <a:off x="2077920" y="3357720"/>
              <a:ext cx="1008000" cy="165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19"/>
            <p:cNvSpPr/>
            <p:nvPr/>
          </p:nvSpPr>
          <p:spPr>
            <a:xfrm flipH="1">
              <a:off x="1213920" y="3357720"/>
              <a:ext cx="863640" cy="165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20"/>
            <p:cNvSpPr/>
            <p:nvPr/>
          </p:nvSpPr>
          <p:spPr>
            <a:xfrm>
              <a:off x="2077920" y="3357720"/>
              <a:ext cx="647640" cy="143964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21"/>
            <p:cNvSpPr/>
            <p:nvPr/>
          </p:nvSpPr>
          <p:spPr>
            <a:xfrm flipH="1">
              <a:off x="1933200" y="3357720"/>
              <a:ext cx="144720" cy="136656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3" name="AutoShape 22"/>
            <p:cNvCxnSpPr>
              <a:stCxn id="60" idx="0"/>
              <a:endCxn id="57" idx="0"/>
            </p:cNvCxnSpPr>
            <p:nvPr/>
          </p:nvCxnSpPr>
          <p:spPr>
            <a:xfrm>
              <a:off x="1213920" y="5013000"/>
              <a:ext cx="432360" cy="4323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64" name="AutoShape 23"/>
            <p:cNvCxnSpPr>
              <a:stCxn id="57" idx="1"/>
              <a:endCxn id="58" idx="0"/>
            </p:cNvCxnSpPr>
            <p:nvPr/>
          </p:nvCxnSpPr>
          <p:spPr>
            <a:xfrm>
              <a:off x="1645560" y="5444640"/>
              <a:ext cx="8643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65" name="AutoShape 24"/>
            <p:cNvCxnSpPr>
              <a:stCxn id="57" idx="1"/>
              <a:endCxn id="58" idx="1"/>
            </p:cNvCxnSpPr>
            <p:nvPr/>
          </p:nvCxnSpPr>
          <p:spPr>
            <a:xfrm>
              <a:off x="1645560" y="5444640"/>
              <a:ext cx="8643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66" name="AutoShape 25"/>
            <p:cNvCxnSpPr>
              <a:stCxn id="58" idx="1"/>
              <a:endCxn id="59" idx="0"/>
            </p:cNvCxnSpPr>
            <p:nvPr/>
          </p:nvCxnSpPr>
          <p:spPr>
            <a:xfrm flipV="1">
              <a:off x="2509200" y="5012640"/>
              <a:ext cx="577080" cy="4323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67" name="AutoShape 26"/>
            <p:cNvCxnSpPr>
              <a:stCxn id="60" idx="1"/>
              <a:endCxn id="62" idx="0"/>
            </p:cNvCxnSpPr>
            <p:nvPr/>
          </p:nvCxnSpPr>
          <p:spPr>
            <a:xfrm flipV="1">
              <a:off x="1214280" y="4723920"/>
              <a:ext cx="721440" cy="289440"/>
            </a:xfrm>
            <a:prstGeom prst="straightConnector1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68" name="AutoShape 27"/>
            <p:cNvCxnSpPr>
              <a:stCxn id="62" idx="1"/>
              <a:endCxn id="61" idx="0"/>
            </p:cNvCxnSpPr>
            <p:nvPr/>
          </p:nvCxnSpPr>
          <p:spPr>
            <a:xfrm>
              <a:off x="1935000" y="4723920"/>
              <a:ext cx="791280" cy="73800"/>
            </a:xfrm>
            <a:prstGeom prst="straightConnector1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69" name="AutoShape 28"/>
            <p:cNvCxnSpPr>
              <a:stCxn id="61" idx="1"/>
              <a:endCxn id="59" idx="1"/>
            </p:cNvCxnSpPr>
            <p:nvPr/>
          </p:nvCxnSpPr>
          <p:spPr>
            <a:xfrm>
              <a:off x="2725200" y="4797360"/>
              <a:ext cx="361080" cy="216720"/>
            </a:xfrm>
            <a:prstGeom prst="straightConnector1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</p:cxnSp>
      </p:grpSp>
      <p:grpSp>
        <p:nvGrpSpPr>
          <p:cNvPr id="70" name="Group 15"/>
          <p:cNvGrpSpPr/>
          <p:nvPr/>
        </p:nvGrpSpPr>
        <p:grpSpPr>
          <a:xfrm>
            <a:off x="5714640" y="3143160"/>
            <a:ext cx="1728000" cy="2376720"/>
            <a:chOff x="5714640" y="3143160"/>
            <a:chExt cx="1728000" cy="2376720"/>
          </a:xfrm>
        </p:grpSpPr>
        <p:sp>
          <p:nvSpPr>
            <p:cNvPr id="71" name="Line 4"/>
            <p:cNvSpPr/>
            <p:nvPr/>
          </p:nvSpPr>
          <p:spPr>
            <a:xfrm flipH="1">
              <a:off x="5714640" y="3143160"/>
              <a:ext cx="576360" cy="23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5"/>
            <p:cNvSpPr/>
            <p:nvPr/>
          </p:nvSpPr>
          <p:spPr>
            <a:xfrm>
              <a:off x="6291360" y="3143160"/>
              <a:ext cx="719280" cy="23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" name="AutoShape 6"/>
            <p:cNvCxnSpPr>
              <a:stCxn id="71" idx="0"/>
              <a:endCxn id="72" idx="0"/>
            </p:cNvCxnSpPr>
            <p:nvPr/>
          </p:nvCxnSpPr>
          <p:spPr>
            <a:xfrm>
              <a:off x="5716800" y="5519160"/>
              <a:ext cx="12945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74" name="AutoShape 8"/>
            <p:cNvCxnSpPr>
              <a:stCxn id="71" idx="1"/>
              <a:endCxn id="72" idx="1"/>
            </p:cNvCxnSpPr>
            <p:nvPr/>
          </p:nvCxnSpPr>
          <p:spPr>
            <a:xfrm>
              <a:off x="5716800" y="5519160"/>
              <a:ext cx="12945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75" name="Line 9"/>
            <p:cNvSpPr/>
            <p:nvPr/>
          </p:nvSpPr>
          <p:spPr>
            <a:xfrm flipV="1">
              <a:off x="5715000" y="4654080"/>
              <a:ext cx="432000" cy="8650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0"/>
            <p:cNvSpPr/>
            <p:nvPr/>
          </p:nvSpPr>
          <p:spPr>
            <a:xfrm flipV="1">
              <a:off x="7010640" y="4654080"/>
              <a:ext cx="431640" cy="86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7" name="AutoShape 11"/>
            <p:cNvCxnSpPr>
              <a:stCxn id="75" idx="0"/>
              <a:endCxn id="76" idx="0"/>
            </p:cNvCxnSpPr>
            <p:nvPr/>
          </p:nvCxnSpPr>
          <p:spPr>
            <a:xfrm>
              <a:off x="6147000" y="4655520"/>
              <a:ext cx="129600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</p:cxnSp>
        <p:sp>
          <p:nvSpPr>
            <p:cNvPr id="78" name="Line 13"/>
            <p:cNvSpPr/>
            <p:nvPr/>
          </p:nvSpPr>
          <p:spPr>
            <a:xfrm flipH="1" flipV="1">
              <a:off x="6291000" y="3143160"/>
              <a:ext cx="1150920" cy="1511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4"/>
            <p:cNvSpPr/>
            <p:nvPr/>
          </p:nvSpPr>
          <p:spPr>
            <a:xfrm flipH="1">
              <a:off x="6146640" y="3214440"/>
              <a:ext cx="144360" cy="14400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244000" y="5732640"/>
            <a:ext cx="566640" cy="595080"/>
          </a:xfrm>
          <a:custGeom>
            <a:avLst/>
            <a:gdLst>
              <a:gd name="textAreaLeft" fmla="*/ 36720 w 566640"/>
              <a:gd name="textAreaRight" fmla="*/ 529920 w 566640"/>
              <a:gd name="textAreaTop" fmla="*/ 36720 h 595080"/>
              <a:gd name="textAreaBottom" fmla="*/ 558360 h 595080"/>
            </a:gdLst>
            <a:ahLst/>
            <a:rect l="textAreaLeft" t="textAreaTop" r="textAreaRight" b="textAreaBottom"/>
            <a:pathLst>
              <a:path w="21600" h="22683">
                <a:moveTo>
                  <a:pt x="0" y="0"/>
                </a:moveTo>
                <a:lnTo>
                  <a:pt x="21600" y="0"/>
                </a:lnTo>
                <a:lnTo>
                  <a:pt x="21600" y="22683"/>
                </a:lnTo>
                <a:lnTo>
                  <a:pt x="0" y="22683"/>
                </a:lnTo>
                <a:close/>
              </a:path>
              <a:path fill="lightenLess" w="21600" h="226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83">
                <a:moveTo>
                  <a:pt x="21600" y="0"/>
                </a:moveTo>
                <a:lnTo>
                  <a:pt x="21600" y="22683"/>
                </a:lnTo>
                <a:lnTo>
                  <a:pt x="20200" y="21283"/>
                </a:lnTo>
                <a:lnTo>
                  <a:pt x="20200" y="1400"/>
                </a:lnTo>
                <a:close/>
              </a:path>
              <a:path fill="darkenLess" w="21600" h="22683">
                <a:moveTo>
                  <a:pt x="21600" y="22683"/>
                </a:moveTo>
                <a:lnTo>
                  <a:pt x="0" y="22683"/>
                </a:lnTo>
                <a:lnTo>
                  <a:pt x="1400" y="21283"/>
                </a:lnTo>
                <a:lnTo>
                  <a:pt x="20200" y="21283"/>
                </a:lnTo>
                <a:close/>
              </a:path>
              <a:path fill="lighten" w="21600" h="22683">
                <a:moveTo>
                  <a:pt x="0" y="226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83"/>
                </a:lnTo>
                <a:close/>
              </a:path>
              <a:path fill="darken" w="21600" h="22683">
                <a:moveTo>
                  <a:pt x="10800" y="4379"/>
                </a:moveTo>
                <a:lnTo>
                  <a:pt x="13376" y="6990"/>
                </a:lnTo>
                <a:lnTo>
                  <a:pt x="13376" y="5249"/>
                </a:lnTo>
                <a:lnTo>
                  <a:pt x="15152" y="5249"/>
                </a:lnTo>
                <a:lnTo>
                  <a:pt x="15152" y="8765"/>
                </a:lnTo>
                <a:lnTo>
                  <a:pt x="17763" y="11342"/>
                </a:lnTo>
                <a:lnTo>
                  <a:pt x="16109" y="11342"/>
                </a:lnTo>
                <a:lnTo>
                  <a:pt x="16109" y="18531"/>
                </a:lnTo>
                <a:lnTo>
                  <a:pt x="5491" y="18531"/>
                </a:lnTo>
                <a:lnTo>
                  <a:pt x="5491" y="11342"/>
                </a:lnTo>
                <a:lnTo>
                  <a:pt x="3837" y="11342"/>
                </a:lnTo>
                <a:close/>
              </a:path>
              <a:path fill="darkenLess" w="21600" h="22683">
                <a:moveTo>
                  <a:pt x="13376" y="6990"/>
                </a:moveTo>
                <a:lnTo>
                  <a:pt x="13376" y="5249"/>
                </a:lnTo>
                <a:lnTo>
                  <a:pt x="15152" y="5249"/>
                </a:lnTo>
                <a:lnTo>
                  <a:pt x="15152" y="8765"/>
                </a:lnTo>
                <a:close/>
              </a:path>
              <a:path fill="darkenLess" w="21600" h="22683">
                <a:moveTo>
                  <a:pt x="9877" y="14841"/>
                </a:moveTo>
                <a:lnTo>
                  <a:pt x="11723" y="14841"/>
                </a:lnTo>
                <a:lnTo>
                  <a:pt x="11723" y="18531"/>
                </a:lnTo>
                <a:lnTo>
                  <a:pt x="16109" y="18531"/>
                </a:lnTo>
                <a:lnTo>
                  <a:pt x="16109" y="11342"/>
                </a:lnTo>
                <a:lnTo>
                  <a:pt x="5491" y="11342"/>
                </a:lnTo>
                <a:lnTo>
                  <a:pt x="5491" y="18531"/>
                </a:lnTo>
                <a:lnTo>
                  <a:pt x="9877" y="1853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1000" fill="hold"/>
                                        <p:tgtEl>
                                          <p:spTgt spid="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367240" y="3807000"/>
            <a:ext cx="1646280" cy="1322280"/>
          </a:xfrm>
          <a:custGeom>
            <a:avLst/>
            <a:gdLst/>
            <a:ahLst/>
            <a:rect l="l" t="t" r="r" b="b"/>
            <a:pathLst>
              <a:path w="1037" h="833">
                <a:moveTo>
                  <a:pt x="1037" y="0"/>
                </a:moveTo>
                <a:lnTo>
                  <a:pt x="0" y="833"/>
                </a:lnTo>
                <a:lnTo>
                  <a:pt x="617" y="643"/>
                </a:lnTo>
                <a:lnTo>
                  <a:pt x="1037" y="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315120" y="3797280"/>
            <a:ext cx="1635120" cy="1117800"/>
          </a:xfrm>
          <a:custGeom>
            <a:avLst/>
            <a:gdLst/>
            <a:ahLst/>
            <a:rect l="l" t="t" r="r" b="b"/>
            <a:pathLst>
              <a:path w="1030" h="704">
                <a:moveTo>
                  <a:pt x="440" y="0"/>
                </a:moveTo>
                <a:lnTo>
                  <a:pt x="0" y="650"/>
                </a:lnTo>
                <a:lnTo>
                  <a:pt x="1030" y="704"/>
                </a:lnTo>
                <a:lnTo>
                  <a:pt x="440" y="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72680" y="1374840"/>
            <a:ext cx="503244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ногоугольник  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..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основа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реугольники - боковые гра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очка Р – вершина пирами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резки Р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Р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…Р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оковые ребра пирами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пендикуляр, проведенный из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ршины пирамиды к основанию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зывае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отой пирами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Элементы пирами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Прямая со стрелкой 38"/>
          <p:cNvCxnSpPr/>
          <p:nvPr/>
        </p:nvCxnSpPr>
        <p:spPr>
          <a:xfrm>
            <a:off x="3785760" y="3357720"/>
            <a:ext cx="3164760" cy="42912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86" name="Прямая со стрелкой 44"/>
          <p:cNvCxnSpPr/>
          <p:nvPr/>
        </p:nvCxnSpPr>
        <p:spPr>
          <a:xfrm>
            <a:off x="3500280" y="4214520"/>
            <a:ext cx="2786760" cy="14364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87" name="Прямая со стрелкой 52"/>
          <p:cNvCxnSpPr/>
          <p:nvPr/>
        </p:nvCxnSpPr>
        <p:spPr>
          <a:xfrm flipV="1">
            <a:off x="4071960" y="4785840"/>
            <a:ext cx="2929680" cy="28656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sp>
        <p:nvSpPr>
          <p:cNvPr id="88" name=""/>
          <p:cNvSpPr/>
          <p:nvPr/>
        </p:nvSpPr>
        <p:spPr>
          <a:xfrm>
            <a:off x="5367240" y="4851360"/>
            <a:ext cx="2571840" cy="871560"/>
          </a:xfrm>
          <a:custGeom>
            <a:avLst/>
            <a:gdLst/>
            <a:ahLst/>
            <a:rect l="l" t="t" r="r" b="b"/>
            <a:pathLst>
              <a:path w="1620" h="549">
                <a:moveTo>
                  <a:pt x="0" y="197"/>
                </a:moveTo>
                <a:lnTo>
                  <a:pt x="610" y="0"/>
                </a:lnTo>
                <a:lnTo>
                  <a:pt x="1620" y="54"/>
                </a:lnTo>
                <a:lnTo>
                  <a:pt x="1322" y="461"/>
                </a:lnTo>
                <a:lnTo>
                  <a:pt x="461" y="549"/>
                </a:lnTo>
                <a:lnTo>
                  <a:pt x="0" y="197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34"/>
          <p:cNvGrpSpPr/>
          <p:nvPr/>
        </p:nvGrpSpPr>
        <p:grpSpPr>
          <a:xfrm>
            <a:off x="4428720" y="3429000"/>
            <a:ext cx="4393080" cy="2879640"/>
            <a:chOff x="4428720" y="3429000"/>
            <a:chExt cx="4393080" cy="2879640"/>
          </a:xfrm>
        </p:grpSpPr>
        <p:sp>
          <p:nvSpPr>
            <p:cNvPr id="90" name="Line 4"/>
            <p:cNvSpPr/>
            <p:nvPr/>
          </p:nvSpPr>
          <p:spPr>
            <a:xfrm flipH="1">
              <a:off x="6084720" y="3789000"/>
              <a:ext cx="936360" cy="19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5"/>
            <p:cNvSpPr/>
            <p:nvPr/>
          </p:nvSpPr>
          <p:spPr>
            <a:xfrm flipH="1">
              <a:off x="5365440" y="3789000"/>
              <a:ext cx="1655640" cy="136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6"/>
            <p:cNvSpPr/>
            <p:nvPr/>
          </p:nvSpPr>
          <p:spPr>
            <a:xfrm>
              <a:off x="7021440" y="3789000"/>
              <a:ext cx="936720" cy="115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7"/>
            <p:cNvSpPr/>
            <p:nvPr/>
          </p:nvSpPr>
          <p:spPr>
            <a:xfrm>
              <a:off x="7021440" y="3789000"/>
              <a:ext cx="432000" cy="18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4" name="AutoShape 8"/>
            <p:cNvCxnSpPr>
              <a:stCxn id="91" idx="0"/>
              <a:endCxn id="90" idx="0"/>
            </p:cNvCxnSpPr>
            <p:nvPr/>
          </p:nvCxnSpPr>
          <p:spPr>
            <a:xfrm>
              <a:off x="5367240" y="5155920"/>
              <a:ext cx="718560" cy="57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" name="AutoShape 10"/>
            <p:cNvCxnSpPr>
              <a:stCxn id="90" idx="1"/>
              <a:endCxn id="93" idx="0"/>
            </p:cNvCxnSpPr>
            <p:nvPr/>
          </p:nvCxnSpPr>
          <p:spPr>
            <a:xfrm flipV="1">
              <a:off x="6084720" y="5589000"/>
              <a:ext cx="1369080" cy="143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" name="AutoShape 11"/>
            <p:cNvCxnSpPr>
              <a:stCxn id="93" idx="1"/>
              <a:endCxn id="92" idx="0"/>
            </p:cNvCxnSpPr>
            <p:nvPr/>
          </p:nvCxnSpPr>
          <p:spPr>
            <a:xfrm flipV="1">
              <a:off x="7453440" y="4939200"/>
              <a:ext cx="505440" cy="649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7" name="Line 12"/>
            <p:cNvSpPr/>
            <p:nvPr/>
          </p:nvSpPr>
          <p:spPr>
            <a:xfrm flipH="1">
              <a:off x="6300720" y="3789000"/>
              <a:ext cx="719280" cy="1079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8" name="AutoShape 13"/>
            <p:cNvCxnSpPr>
              <a:stCxn id="97" idx="0"/>
              <a:endCxn id="91" idx="1"/>
            </p:cNvCxnSpPr>
            <p:nvPr/>
          </p:nvCxnSpPr>
          <p:spPr>
            <a:xfrm flipH="1">
              <a:off x="5366880" y="4868280"/>
              <a:ext cx="936000" cy="2876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99" name="AutoShape 14"/>
            <p:cNvCxnSpPr>
              <a:stCxn id="97" idx="1"/>
              <a:endCxn id="92" idx="1"/>
            </p:cNvCxnSpPr>
            <p:nvPr/>
          </p:nvCxnSpPr>
          <p:spPr>
            <a:xfrm>
              <a:off x="6302160" y="4868280"/>
              <a:ext cx="1656360" cy="716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sp>
          <p:nvSpPr>
            <p:cNvPr id="100" name="Line 15"/>
            <p:cNvSpPr/>
            <p:nvPr/>
          </p:nvSpPr>
          <p:spPr>
            <a:xfrm flipH="1">
              <a:off x="4428720" y="4292280"/>
              <a:ext cx="863640" cy="20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16"/>
            <p:cNvSpPr/>
            <p:nvPr/>
          </p:nvSpPr>
          <p:spPr>
            <a:xfrm flipH="1">
              <a:off x="7957800" y="4292280"/>
              <a:ext cx="863640" cy="20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7"/>
            <p:cNvSpPr/>
            <p:nvPr/>
          </p:nvSpPr>
          <p:spPr>
            <a:xfrm>
              <a:off x="7021440" y="3860640"/>
              <a:ext cx="0" cy="1294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Group 25"/>
            <p:cNvGrpSpPr/>
            <p:nvPr/>
          </p:nvGrpSpPr>
          <p:grpSpPr>
            <a:xfrm>
              <a:off x="5292720" y="4292280"/>
              <a:ext cx="3529080" cy="0"/>
              <a:chOff x="5292720" y="4292280"/>
              <a:chExt cx="3529080" cy="0"/>
            </a:xfrm>
          </p:grpSpPr>
          <p:sp>
            <p:nvSpPr>
              <p:cNvPr id="104" name="Line 18"/>
              <p:cNvSpPr/>
              <p:nvPr/>
            </p:nvSpPr>
            <p:spPr>
              <a:xfrm>
                <a:off x="5292720" y="4292280"/>
                <a:ext cx="1189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19"/>
              <p:cNvSpPr/>
              <p:nvPr/>
            </p:nvSpPr>
            <p:spPr>
              <a:xfrm>
                <a:off x="6550200" y="4292280"/>
                <a:ext cx="903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21"/>
              <p:cNvSpPr/>
              <p:nvPr/>
            </p:nvSpPr>
            <p:spPr>
              <a:xfrm>
                <a:off x="7524720" y="4292280"/>
                <a:ext cx="1297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Line 26"/>
            <p:cNvSpPr/>
            <p:nvPr/>
          </p:nvSpPr>
          <p:spPr>
            <a:xfrm>
              <a:off x="4429080" y="6308640"/>
              <a:ext cx="352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27"/>
            <p:cNvSpPr/>
            <p:nvPr/>
          </p:nvSpPr>
          <p:spPr>
            <a:xfrm>
              <a:off x="5005440" y="5084640"/>
              <a:ext cx="431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28"/>
            <p:cNvSpPr/>
            <p:nvPr/>
          </p:nvSpPr>
          <p:spPr>
            <a:xfrm>
              <a:off x="5724720" y="5732280"/>
              <a:ext cx="431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29"/>
            <p:cNvSpPr/>
            <p:nvPr/>
          </p:nvSpPr>
          <p:spPr>
            <a:xfrm>
              <a:off x="7308720" y="5589360"/>
              <a:ext cx="432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30"/>
            <p:cNvSpPr/>
            <p:nvPr/>
          </p:nvSpPr>
          <p:spPr>
            <a:xfrm>
              <a:off x="5942160" y="4508280"/>
              <a:ext cx="431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31"/>
            <p:cNvSpPr/>
            <p:nvPr/>
          </p:nvSpPr>
          <p:spPr>
            <a:xfrm>
              <a:off x="6589800" y="49399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32"/>
            <p:cNvSpPr/>
            <p:nvPr/>
          </p:nvSpPr>
          <p:spPr>
            <a:xfrm>
              <a:off x="8245440" y="43639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33"/>
            <p:cNvSpPr/>
            <p:nvPr/>
          </p:nvSpPr>
          <p:spPr>
            <a:xfrm>
              <a:off x="6516720" y="34290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7032600" y="3807000"/>
            <a:ext cx="936720" cy="1763640"/>
          </a:xfrm>
          <a:custGeom>
            <a:avLst/>
            <a:gdLst/>
            <a:ahLst/>
            <a:rect l="l" t="t" r="r" b="b"/>
            <a:pathLst>
              <a:path w="590" h="1111">
                <a:moveTo>
                  <a:pt x="0" y="0"/>
                </a:moveTo>
                <a:lnTo>
                  <a:pt x="590" y="704"/>
                </a:lnTo>
                <a:lnTo>
                  <a:pt x="285" y="1111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99120" y="3798720"/>
            <a:ext cx="1398600" cy="1893960"/>
          </a:xfrm>
          <a:custGeom>
            <a:avLst/>
            <a:gdLst/>
            <a:ahLst/>
            <a:rect l="l" t="t" r="r" b="b"/>
            <a:pathLst>
              <a:path w="881" h="1193">
                <a:moveTo>
                  <a:pt x="576" y="0"/>
                </a:moveTo>
                <a:lnTo>
                  <a:pt x="0" y="1193"/>
                </a:lnTo>
                <a:lnTo>
                  <a:pt x="881" y="1105"/>
                </a:lnTo>
                <a:lnTo>
                  <a:pt x="576" y="0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67240" y="3809880"/>
            <a:ext cx="1613160" cy="1903680"/>
          </a:xfrm>
          <a:custGeom>
            <a:avLst/>
            <a:gdLst/>
            <a:ahLst/>
            <a:rect l="l" t="t" r="r" b="b"/>
            <a:pathLst>
              <a:path w="1016" h="1199">
                <a:moveTo>
                  <a:pt x="0" y="847"/>
                </a:moveTo>
                <a:cubicBezTo>
                  <a:pt x="9" y="834"/>
                  <a:pt x="15" y="817"/>
                  <a:pt x="27" y="806"/>
                </a:cubicBezTo>
                <a:cubicBezTo>
                  <a:pt x="49" y="787"/>
                  <a:pt x="47" y="809"/>
                  <a:pt x="47" y="793"/>
                </a:cubicBezTo>
                <a:lnTo>
                  <a:pt x="1016" y="0"/>
                </a:lnTo>
                <a:lnTo>
                  <a:pt x="440" y="1199"/>
                </a:lnTo>
                <a:lnTo>
                  <a:pt x="0" y="847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331120" y="5994360"/>
            <a:ext cx="566640" cy="595440"/>
          </a:xfrm>
          <a:custGeom>
            <a:avLst/>
            <a:gdLst>
              <a:gd name="textAreaLeft" fmla="*/ 36720 w 566640"/>
              <a:gd name="textAreaRight" fmla="*/ 529920 w 566640"/>
              <a:gd name="textAreaTop" fmla="*/ 36720 h 595440"/>
              <a:gd name="textAreaBottom" fmla="*/ 558720 h 595440"/>
            </a:gdLst>
            <a:ahLst/>
            <a:rect l="textAreaLeft" t="textAreaTop" r="textAreaRight" b="textAreaBottom"/>
            <a:pathLst>
              <a:path w="21600" h="22697">
                <a:moveTo>
                  <a:pt x="0" y="0"/>
                </a:moveTo>
                <a:lnTo>
                  <a:pt x="21600" y="0"/>
                </a:lnTo>
                <a:lnTo>
                  <a:pt x="21600" y="22697"/>
                </a:lnTo>
                <a:lnTo>
                  <a:pt x="0" y="22697"/>
                </a:lnTo>
                <a:close/>
              </a:path>
              <a:path fill="lightenLess" w="21600" h="226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97">
                <a:moveTo>
                  <a:pt x="21600" y="0"/>
                </a:moveTo>
                <a:lnTo>
                  <a:pt x="21600" y="22697"/>
                </a:lnTo>
                <a:lnTo>
                  <a:pt x="20200" y="21297"/>
                </a:lnTo>
                <a:lnTo>
                  <a:pt x="20200" y="1400"/>
                </a:lnTo>
                <a:close/>
              </a:path>
              <a:path fill="darkenLess" w="21600" h="22697">
                <a:moveTo>
                  <a:pt x="21600" y="22697"/>
                </a:moveTo>
                <a:lnTo>
                  <a:pt x="0" y="22697"/>
                </a:lnTo>
                <a:lnTo>
                  <a:pt x="1400" y="21297"/>
                </a:lnTo>
                <a:lnTo>
                  <a:pt x="20200" y="21297"/>
                </a:lnTo>
                <a:close/>
              </a:path>
              <a:path fill="lighten" w="21600" h="22697">
                <a:moveTo>
                  <a:pt x="0" y="226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97"/>
                </a:lnTo>
                <a:close/>
              </a:path>
              <a:path fill="darken" w="21600" h="22697">
                <a:moveTo>
                  <a:pt x="10800" y="4386"/>
                </a:moveTo>
                <a:lnTo>
                  <a:pt x="13376" y="6997"/>
                </a:lnTo>
                <a:lnTo>
                  <a:pt x="13376" y="5256"/>
                </a:lnTo>
                <a:lnTo>
                  <a:pt x="15152" y="5256"/>
                </a:lnTo>
                <a:lnTo>
                  <a:pt x="15152" y="8772"/>
                </a:lnTo>
                <a:lnTo>
                  <a:pt x="17763" y="11349"/>
                </a:lnTo>
                <a:lnTo>
                  <a:pt x="16109" y="11349"/>
                </a:lnTo>
                <a:lnTo>
                  <a:pt x="16109" y="18538"/>
                </a:lnTo>
                <a:lnTo>
                  <a:pt x="5491" y="18538"/>
                </a:lnTo>
                <a:lnTo>
                  <a:pt x="5491" y="11349"/>
                </a:lnTo>
                <a:lnTo>
                  <a:pt x="3837" y="11349"/>
                </a:lnTo>
                <a:close/>
              </a:path>
              <a:path fill="darkenLess" w="21600" h="22697">
                <a:moveTo>
                  <a:pt x="13376" y="6997"/>
                </a:moveTo>
                <a:lnTo>
                  <a:pt x="13376" y="5256"/>
                </a:lnTo>
                <a:lnTo>
                  <a:pt x="15152" y="5256"/>
                </a:lnTo>
                <a:lnTo>
                  <a:pt x="15152" y="8772"/>
                </a:lnTo>
                <a:close/>
              </a:path>
              <a:path fill="darkenLess" w="21600" h="22697">
                <a:moveTo>
                  <a:pt x="9877" y="14847"/>
                </a:moveTo>
                <a:lnTo>
                  <a:pt x="11723" y="14847"/>
                </a:lnTo>
                <a:lnTo>
                  <a:pt x="11723" y="18538"/>
                </a:lnTo>
                <a:lnTo>
                  <a:pt x="16109" y="18538"/>
                </a:lnTo>
                <a:lnTo>
                  <a:pt x="16109" y="11349"/>
                </a:lnTo>
                <a:lnTo>
                  <a:pt x="5491" y="11349"/>
                </a:lnTo>
                <a:lnTo>
                  <a:pt x="5491" y="18538"/>
                </a:lnTo>
                <a:lnTo>
                  <a:pt x="9877" y="1853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" dur="5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281400" y="4067280"/>
            <a:ext cx="2365200" cy="2238120"/>
          </a:xfrm>
          <a:custGeom>
            <a:avLst/>
            <a:gdLst/>
            <a:ahLst/>
            <a:rect l="l" t="t" r="r" b="b"/>
            <a:pathLst>
              <a:path w="1490" h="1410">
                <a:moveTo>
                  <a:pt x="0" y="359"/>
                </a:moveTo>
                <a:lnTo>
                  <a:pt x="847" y="0"/>
                </a:lnTo>
                <a:lnTo>
                  <a:pt x="1490" y="502"/>
                </a:lnTo>
                <a:lnTo>
                  <a:pt x="1443" y="949"/>
                </a:lnTo>
                <a:lnTo>
                  <a:pt x="643" y="1410"/>
                </a:lnTo>
                <a:lnTo>
                  <a:pt x="20" y="1085"/>
                </a:lnTo>
                <a:lnTo>
                  <a:pt x="0" y="35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49"/>
          <p:cNvSpPr/>
          <p:nvPr/>
        </p:nvSpPr>
        <p:spPr>
          <a:xfrm flipH="1">
            <a:off x="3319560" y="2992320"/>
            <a:ext cx="1079280" cy="28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50"/>
          <p:cNvSpPr/>
          <p:nvPr/>
        </p:nvSpPr>
        <p:spPr>
          <a:xfrm flipH="1">
            <a:off x="4327560" y="2992320"/>
            <a:ext cx="71280" cy="33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1"/>
          <p:cNvSpPr/>
          <p:nvPr/>
        </p:nvSpPr>
        <p:spPr>
          <a:xfrm>
            <a:off x="4398840" y="2992320"/>
            <a:ext cx="115272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52"/>
          <p:cNvSpPr/>
          <p:nvPr/>
        </p:nvSpPr>
        <p:spPr>
          <a:xfrm>
            <a:off x="4398840" y="2992320"/>
            <a:ext cx="1224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54"/>
          <p:cNvSpPr/>
          <p:nvPr/>
        </p:nvSpPr>
        <p:spPr>
          <a:xfrm flipH="1">
            <a:off x="3246120" y="2992320"/>
            <a:ext cx="115236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AutoShape 55"/>
          <p:cNvCxnSpPr>
            <a:stCxn id="121" idx="0"/>
            <a:endCxn id="120" idx="0"/>
          </p:cNvCxnSpPr>
          <p:nvPr/>
        </p:nvCxnSpPr>
        <p:spPr>
          <a:xfrm flipH="1" flipV="1">
            <a:off x="3319200" y="5800320"/>
            <a:ext cx="1010160" cy="5054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26" name="AutoShape 56"/>
          <p:cNvCxnSpPr/>
          <p:nvPr/>
        </p:nvCxnSpPr>
        <p:spPr>
          <a:xfrm flipH="1" flipV="1">
            <a:off x="3269520" y="4647960"/>
            <a:ext cx="73800" cy="11527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27" name="AutoShape 57"/>
          <p:cNvCxnSpPr>
            <a:stCxn id="121" idx="1"/>
            <a:endCxn id="122" idx="0"/>
          </p:cNvCxnSpPr>
          <p:nvPr/>
        </p:nvCxnSpPr>
        <p:spPr>
          <a:xfrm flipV="1">
            <a:off x="4329000" y="5584320"/>
            <a:ext cx="122328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" name="AutoShape 58"/>
          <p:cNvCxnSpPr/>
          <p:nvPr/>
        </p:nvCxnSpPr>
        <p:spPr>
          <a:xfrm flipV="1">
            <a:off x="5575320" y="4863600"/>
            <a:ext cx="7200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9" name="Line 59"/>
          <p:cNvSpPr/>
          <p:nvPr/>
        </p:nvSpPr>
        <p:spPr>
          <a:xfrm>
            <a:off x="4398840" y="3063960"/>
            <a:ext cx="216000" cy="1008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AutoShape 60"/>
          <p:cNvCxnSpPr/>
          <p:nvPr/>
        </p:nvCxnSpPr>
        <p:spPr>
          <a:xfrm flipV="1">
            <a:off x="3269880" y="4071240"/>
            <a:ext cx="1369080" cy="577080"/>
          </a:xfrm>
          <a:prstGeom prst="straightConnector1">
            <a:avLst/>
          </a:prstGeom>
          <a:ln w="38160">
            <a:solidFill>
              <a:srgbClr val="000000"/>
            </a:solidFill>
            <a:prstDash val="dash"/>
            <a:miter/>
          </a:ln>
        </p:spPr>
      </p:cxnSp>
      <p:cxnSp>
        <p:nvCxnSpPr>
          <p:cNvPr id="131" name="AutoShape 61"/>
          <p:cNvCxnSpPr/>
          <p:nvPr/>
        </p:nvCxnSpPr>
        <p:spPr>
          <a:xfrm>
            <a:off x="4638600" y="4071960"/>
            <a:ext cx="1008720" cy="792720"/>
          </a:xfrm>
          <a:prstGeom prst="straightConnector1">
            <a:avLst/>
          </a:prstGeom>
          <a:ln w="38160">
            <a:solidFill>
              <a:srgbClr val="000000"/>
            </a:solidFill>
            <a:prstDash val="dash"/>
            <a:miter/>
          </a:ln>
        </p:spPr>
      </p:cxnSp>
      <p:sp>
        <p:nvSpPr>
          <p:cNvPr id="132" name="Line 67"/>
          <p:cNvSpPr/>
          <p:nvPr/>
        </p:nvSpPr>
        <p:spPr>
          <a:xfrm>
            <a:off x="4398840" y="3137040"/>
            <a:ext cx="144720" cy="2016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AutoShape 68"/>
          <p:cNvCxnSpPr/>
          <p:nvPr/>
        </p:nvCxnSpPr>
        <p:spPr>
          <a:xfrm flipV="1">
            <a:off x="3343320" y="5152320"/>
            <a:ext cx="1224720" cy="6483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34" name="Text Box 70"/>
          <p:cNvSpPr/>
          <p:nvPr/>
        </p:nvSpPr>
        <p:spPr>
          <a:xfrm>
            <a:off x="4495680" y="41450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1"/>
          <p:cNvSpPr/>
          <p:nvPr/>
        </p:nvSpPr>
        <p:spPr>
          <a:xfrm>
            <a:off x="2814480" y="436104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2"/>
          <p:cNvSpPr/>
          <p:nvPr/>
        </p:nvSpPr>
        <p:spPr>
          <a:xfrm>
            <a:off x="4038480" y="634032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3"/>
          <p:cNvSpPr/>
          <p:nvPr/>
        </p:nvSpPr>
        <p:spPr>
          <a:xfrm>
            <a:off x="2814480" y="565632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75"/>
          <p:cNvSpPr/>
          <p:nvPr/>
        </p:nvSpPr>
        <p:spPr>
          <a:xfrm flipH="1">
            <a:off x="3750840" y="3063960"/>
            <a:ext cx="647640" cy="2952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6"/>
          <p:cNvSpPr/>
          <p:nvPr/>
        </p:nvSpPr>
        <p:spPr>
          <a:xfrm>
            <a:off x="4495680" y="500868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7"/>
          <p:cNvSpPr/>
          <p:nvPr/>
        </p:nvSpPr>
        <p:spPr>
          <a:xfrm>
            <a:off x="4265640" y="25542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5"/>
          <p:cNvSpPr/>
          <p:nvPr/>
        </p:nvSpPr>
        <p:spPr>
          <a:xfrm>
            <a:off x="3413160" y="606420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49"/>
          <p:cNvSpPr/>
          <p:nvPr/>
        </p:nvSpPr>
        <p:spPr>
          <a:xfrm flipH="1">
            <a:off x="3319560" y="2992320"/>
            <a:ext cx="1079280" cy="28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50"/>
          <p:cNvSpPr/>
          <p:nvPr/>
        </p:nvSpPr>
        <p:spPr>
          <a:xfrm flipH="1">
            <a:off x="4327560" y="2992320"/>
            <a:ext cx="71280" cy="33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51"/>
          <p:cNvSpPr/>
          <p:nvPr/>
        </p:nvSpPr>
        <p:spPr>
          <a:xfrm>
            <a:off x="4398840" y="2992320"/>
            <a:ext cx="115272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52"/>
          <p:cNvSpPr/>
          <p:nvPr/>
        </p:nvSpPr>
        <p:spPr>
          <a:xfrm>
            <a:off x="4398840" y="2992320"/>
            <a:ext cx="1224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54"/>
          <p:cNvSpPr/>
          <p:nvPr/>
        </p:nvSpPr>
        <p:spPr>
          <a:xfrm flipH="1">
            <a:off x="3246120" y="2992320"/>
            <a:ext cx="115236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75"/>
          <p:cNvSpPr/>
          <p:nvPr/>
        </p:nvSpPr>
        <p:spPr>
          <a:xfrm flipH="1">
            <a:off x="3750840" y="3063960"/>
            <a:ext cx="647640" cy="2952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6"/>
          <p:cNvSpPr/>
          <p:nvPr/>
        </p:nvSpPr>
        <p:spPr>
          <a:xfrm>
            <a:off x="4495680" y="500868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50"/>
          <p:cNvSpPr/>
          <p:nvPr/>
        </p:nvSpPr>
        <p:spPr>
          <a:xfrm flipH="1">
            <a:off x="4327560" y="2992320"/>
            <a:ext cx="71280" cy="33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51"/>
          <p:cNvSpPr/>
          <p:nvPr/>
        </p:nvSpPr>
        <p:spPr>
          <a:xfrm>
            <a:off x="4398840" y="2992320"/>
            <a:ext cx="115272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52"/>
          <p:cNvSpPr/>
          <p:nvPr/>
        </p:nvSpPr>
        <p:spPr>
          <a:xfrm>
            <a:off x="4398840" y="2992320"/>
            <a:ext cx="1224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54"/>
          <p:cNvSpPr/>
          <p:nvPr/>
        </p:nvSpPr>
        <p:spPr>
          <a:xfrm flipH="1">
            <a:off x="3246120" y="2992320"/>
            <a:ext cx="115236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49"/>
          <p:cNvSpPr/>
          <p:nvPr/>
        </p:nvSpPr>
        <p:spPr>
          <a:xfrm flipH="1">
            <a:off x="3319560" y="2992320"/>
            <a:ext cx="1079280" cy="28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50"/>
          <p:cNvSpPr/>
          <p:nvPr/>
        </p:nvSpPr>
        <p:spPr>
          <a:xfrm flipH="1">
            <a:off x="4327560" y="2992320"/>
            <a:ext cx="71280" cy="33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51"/>
          <p:cNvSpPr/>
          <p:nvPr/>
        </p:nvSpPr>
        <p:spPr>
          <a:xfrm>
            <a:off x="4398840" y="2992320"/>
            <a:ext cx="115272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52"/>
          <p:cNvSpPr/>
          <p:nvPr/>
        </p:nvSpPr>
        <p:spPr>
          <a:xfrm>
            <a:off x="4398840" y="2992320"/>
            <a:ext cx="1224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54"/>
          <p:cNvSpPr/>
          <p:nvPr/>
        </p:nvSpPr>
        <p:spPr>
          <a:xfrm flipH="1">
            <a:off x="3246120" y="2992320"/>
            <a:ext cx="115236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AutoShape 57"/>
          <p:cNvCxnSpPr/>
          <p:nvPr/>
        </p:nvCxnSpPr>
        <p:spPr>
          <a:xfrm flipV="1">
            <a:off x="4329000" y="5584320"/>
            <a:ext cx="1223280" cy="7214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59" name="AutoShape 58"/>
          <p:cNvCxnSpPr/>
          <p:nvPr/>
        </p:nvCxnSpPr>
        <p:spPr>
          <a:xfrm flipV="1">
            <a:off x="5575320" y="4863600"/>
            <a:ext cx="72000" cy="7214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60" name="Line 75"/>
          <p:cNvSpPr/>
          <p:nvPr/>
        </p:nvSpPr>
        <p:spPr>
          <a:xfrm flipH="1">
            <a:off x="3750840" y="3063960"/>
            <a:ext cx="647640" cy="2952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49"/>
          <p:cNvSpPr/>
          <p:nvPr/>
        </p:nvSpPr>
        <p:spPr>
          <a:xfrm flipH="1">
            <a:off x="3319560" y="2992320"/>
            <a:ext cx="107928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50"/>
          <p:cNvSpPr/>
          <p:nvPr/>
        </p:nvSpPr>
        <p:spPr>
          <a:xfrm flipH="1">
            <a:off x="4327560" y="2992320"/>
            <a:ext cx="71280" cy="331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51"/>
          <p:cNvSpPr/>
          <p:nvPr/>
        </p:nvSpPr>
        <p:spPr>
          <a:xfrm>
            <a:off x="4398840" y="2992320"/>
            <a:ext cx="1152720" cy="259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52"/>
          <p:cNvSpPr/>
          <p:nvPr/>
        </p:nvSpPr>
        <p:spPr>
          <a:xfrm>
            <a:off x="4398840" y="2992320"/>
            <a:ext cx="1224000" cy="18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54"/>
          <p:cNvSpPr/>
          <p:nvPr/>
        </p:nvSpPr>
        <p:spPr>
          <a:xfrm flipH="1">
            <a:off x="3246120" y="2992320"/>
            <a:ext cx="1152360" cy="165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Заголовок 1"/>
          <p:cNvSpPr/>
          <p:nvPr/>
        </p:nvSpPr>
        <p:spPr>
          <a:xfrm>
            <a:off x="557280" y="139680"/>
            <a:ext cx="77724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Arial"/>
              </a:rPr>
              <a:t>Правильная пирами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09680" y="960480"/>
            <a:ext cx="808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рамида называется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авильной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ее основани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ьный многоугольник, а отрезо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соединяющий вершину пирамиды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центром основания, является ее высот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97640" y="5541840"/>
            <a:ext cx="2313000" cy="1094040"/>
          </a:xfrm>
          <a:prstGeom prst="wedgeRectCallout">
            <a:avLst>
              <a:gd name="adj1" fmla="val -108407"/>
              <a:gd name="adj2" fmla="val -3737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нование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авильный многоуголь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089840" y="3314880"/>
            <a:ext cx="1623960" cy="672840"/>
          </a:xfrm>
          <a:prstGeom prst="wedgeRectCallout">
            <a:avLst>
              <a:gd name="adj1" fmla="val -206013"/>
              <a:gd name="adj2" fmla="val 22193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ентр осн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8520" y="4573440"/>
            <a:ext cx="2754360" cy="2151360"/>
          </a:xfrm>
          <a:prstGeom prst="wedgeRectCallout">
            <a:avLst>
              <a:gd name="adj1" fmla="val 87925"/>
              <a:gd name="adj2" fmla="val -2313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ота боковой грани правильной пирамиды, проведенная из ее вершин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называется апофемо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497480" y="5099040"/>
            <a:ext cx="96840" cy="119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345520" y="347760"/>
            <a:ext cx="566640" cy="595080"/>
          </a:xfrm>
          <a:custGeom>
            <a:avLst/>
            <a:gdLst>
              <a:gd name="textAreaLeft" fmla="*/ 36720 w 566640"/>
              <a:gd name="textAreaRight" fmla="*/ 529920 w 566640"/>
              <a:gd name="textAreaTop" fmla="*/ 36720 h 595080"/>
              <a:gd name="textAreaBottom" fmla="*/ 558360 h 595080"/>
            </a:gdLst>
            <a:ahLst/>
            <a:rect l="textAreaLeft" t="textAreaTop" r="textAreaRight" b="textAreaBottom"/>
            <a:pathLst>
              <a:path w="21600" h="22683">
                <a:moveTo>
                  <a:pt x="0" y="0"/>
                </a:moveTo>
                <a:lnTo>
                  <a:pt x="21600" y="0"/>
                </a:lnTo>
                <a:lnTo>
                  <a:pt x="21600" y="22683"/>
                </a:lnTo>
                <a:lnTo>
                  <a:pt x="0" y="22683"/>
                </a:lnTo>
                <a:close/>
              </a:path>
              <a:path fill="lightenLess" w="21600" h="226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83">
                <a:moveTo>
                  <a:pt x="21600" y="0"/>
                </a:moveTo>
                <a:lnTo>
                  <a:pt x="21600" y="22683"/>
                </a:lnTo>
                <a:lnTo>
                  <a:pt x="20200" y="21283"/>
                </a:lnTo>
                <a:lnTo>
                  <a:pt x="20200" y="1400"/>
                </a:lnTo>
                <a:close/>
              </a:path>
              <a:path fill="darkenLess" w="21600" h="22683">
                <a:moveTo>
                  <a:pt x="21600" y="22683"/>
                </a:moveTo>
                <a:lnTo>
                  <a:pt x="0" y="22683"/>
                </a:lnTo>
                <a:lnTo>
                  <a:pt x="1400" y="21283"/>
                </a:lnTo>
                <a:lnTo>
                  <a:pt x="20200" y="21283"/>
                </a:lnTo>
                <a:close/>
              </a:path>
              <a:path fill="lighten" w="21600" h="22683">
                <a:moveTo>
                  <a:pt x="0" y="226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83"/>
                </a:lnTo>
                <a:close/>
              </a:path>
              <a:path fill="darken" w="21600" h="22683">
                <a:moveTo>
                  <a:pt x="10800" y="4379"/>
                </a:moveTo>
                <a:lnTo>
                  <a:pt x="13376" y="6990"/>
                </a:lnTo>
                <a:lnTo>
                  <a:pt x="13376" y="5249"/>
                </a:lnTo>
                <a:lnTo>
                  <a:pt x="15152" y="5249"/>
                </a:lnTo>
                <a:lnTo>
                  <a:pt x="15152" y="8765"/>
                </a:lnTo>
                <a:lnTo>
                  <a:pt x="17763" y="11342"/>
                </a:lnTo>
                <a:lnTo>
                  <a:pt x="16109" y="11342"/>
                </a:lnTo>
                <a:lnTo>
                  <a:pt x="16109" y="18531"/>
                </a:lnTo>
                <a:lnTo>
                  <a:pt x="5491" y="18531"/>
                </a:lnTo>
                <a:lnTo>
                  <a:pt x="5491" y="11342"/>
                </a:lnTo>
                <a:lnTo>
                  <a:pt x="3837" y="11342"/>
                </a:lnTo>
                <a:close/>
              </a:path>
              <a:path fill="darkenLess" w="21600" h="22683">
                <a:moveTo>
                  <a:pt x="13376" y="6990"/>
                </a:moveTo>
                <a:lnTo>
                  <a:pt x="13376" y="5249"/>
                </a:lnTo>
                <a:lnTo>
                  <a:pt x="15152" y="5249"/>
                </a:lnTo>
                <a:lnTo>
                  <a:pt x="15152" y="8765"/>
                </a:lnTo>
                <a:close/>
              </a:path>
              <a:path fill="darkenLess" w="21600" h="22683">
                <a:moveTo>
                  <a:pt x="9877" y="14841"/>
                </a:moveTo>
                <a:lnTo>
                  <a:pt x="11723" y="14841"/>
                </a:lnTo>
                <a:lnTo>
                  <a:pt x="11723" y="18531"/>
                </a:lnTo>
                <a:lnTo>
                  <a:pt x="16109" y="18531"/>
                </a:lnTo>
                <a:lnTo>
                  <a:pt x="16109" y="11342"/>
                </a:lnTo>
                <a:lnTo>
                  <a:pt x="5491" y="11342"/>
                </a:lnTo>
                <a:lnTo>
                  <a:pt x="5491" y="18531"/>
                </a:lnTo>
                <a:lnTo>
                  <a:pt x="9877" y="1853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3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000"/>
                </a:solidFill>
                <a:latin typeface="Arial"/>
              </a:rPr>
              <a:t>Площадь боковой поверхности правильной пирами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95280" y="1557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орема. Площадь боковой поверхности правильной пирамиды равна половине произведения периметра основания на апофем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49"/>
          <p:cNvSpPr/>
          <p:nvPr/>
        </p:nvSpPr>
        <p:spPr>
          <a:xfrm flipH="1">
            <a:off x="4780080" y="2651040"/>
            <a:ext cx="1079280" cy="28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50"/>
          <p:cNvSpPr/>
          <p:nvPr/>
        </p:nvSpPr>
        <p:spPr>
          <a:xfrm flipH="1">
            <a:off x="5788080" y="2651040"/>
            <a:ext cx="71280" cy="33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51"/>
          <p:cNvSpPr/>
          <p:nvPr/>
        </p:nvSpPr>
        <p:spPr>
          <a:xfrm>
            <a:off x="5859360" y="2651040"/>
            <a:ext cx="115272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52"/>
          <p:cNvSpPr/>
          <p:nvPr/>
        </p:nvSpPr>
        <p:spPr>
          <a:xfrm>
            <a:off x="5859360" y="2651040"/>
            <a:ext cx="1224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54"/>
          <p:cNvSpPr/>
          <p:nvPr/>
        </p:nvSpPr>
        <p:spPr>
          <a:xfrm flipH="1">
            <a:off x="4706640" y="2651040"/>
            <a:ext cx="115236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AutoShape 55"/>
          <p:cNvCxnSpPr>
            <a:stCxn id="176" idx="0"/>
            <a:endCxn id="175" idx="0"/>
          </p:cNvCxnSpPr>
          <p:nvPr/>
        </p:nvCxnSpPr>
        <p:spPr>
          <a:xfrm flipH="1" flipV="1">
            <a:off x="4779720" y="5459040"/>
            <a:ext cx="1010160" cy="505440"/>
          </a:xfrm>
          <a:prstGeom prst="straightConnector1">
            <a:avLst/>
          </a:prstGeom>
          <a:ln w="9360">
            <a:solidFill>
              <a:srgbClr val="008000"/>
            </a:solidFill>
            <a:miter/>
          </a:ln>
        </p:spPr>
      </p:cxnSp>
      <p:cxnSp>
        <p:nvCxnSpPr>
          <p:cNvPr id="181" name="AutoShape 56"/>
          <p:cNvCxnSpPr>
            <a:stCxn id="175" idx="1"/>
            <a:endCxn id="179" idx="0"/>
          </p:cNvCxnSpPr>
          <p:nvPr/>
        </p:nvCxnSpPr>
        <p:spPr>
          <a:xfrm flipH="1" flipV="1">
            <a:off x="4706280" y="4306680"/>
            <a:ext cx="73800" cy="1152720"/>
          </a:xfrm>
          <a:prstGeom prst="straightConnector1">
            <a:avLst/>
          </a:prstGeom>
          <a:ln w="9360">
            <a:solidFill>
              <a:srgbClr val="008000"/>
            </a:solidFill>
            <a:miter/>
          </a:ln>
        </p:spPr>
      </p:cxnSp>
      <p:cxnSp>
        <p:nvCxnSpPr>
          <p:cNvPr id="182" name="AutoShape 57"/>
          <p:cNvCxnSpPr>
            <a:stCxn id="176" idx="1"/>
            <a:endCxn id="177" idx="0"/>
          </p:cNvCxnSpPr>
          <p:nvPr/>
        </p:nvCxnSpPr>
        <p:spPr>
          <a:xfrm flipV="1">
            <a:off x="5789520" y="5243040"/>
            <a:ext cx="1223280" cy="721440"/>
          </a:xfrm>
          <a:prstGeom prst="straightConnector1">
            <a:avLst/>
          </a:prstGeom>
          <a:ln w="9360">
            <a:solidFill>
              <a:srgbClr val="008000"/>
            </a:solidFill>
            <a:miter/>
          </a:ln>
        </p:spPr>
      </p:cxnSp>
      <p:cxnSp>
        <p:nvCxnSpPr>
          <p:cNvPr id="183" name="AutoShape 58"/>
          <p:cNvCxnSpPr>
            <a:stCxn id="177" idx="1"/>
            <a:endCxn id="178" idx="0"/>
          </p:cNvCxnSpPr>
          <p:nvPr/>
        </p:nvCxnSpPr>
        <p:spPr>
          <a:xfrm flipV="1">
            <a:off x="7012080" y="4522320"/>
            <a:ext cx="72000" cy="721440"/>
          </a:xfrm>
          <a:prstGeom prst="straightConnector1">
            <a:avLst/>
          </a:prstGeom>
          <a:ln w="9360">
            <a:solidFill>
              <a:srgbClr val="008000"/>
            </a:solidFill>
            <a:miter/>
          </a:ln>
        </p:spPr>
      </p:cxnSp>
      <p:sp>
        <p:nvSpPr>
          <p:cNvPr id="184" name="Line 59"/>
          <p:cNvSpPr/>
          <p:nvPr/>
        </p:nvSpPr>
        <p:spPr>
          <a:xfrm>
            <a:off x="5859360" y="2722680"/>
            <a:ext cx="216000" cy="100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AutoShape 60"/>
          <p:cNvCxnSpPr>
            <a:stCxn id="179" idx="1"/>
            <a:endCxn id="184" idx="0"/>
          </p:cNvCxnSpPr>
          <p:nvPr/>
        </p:nvCxnSpPr>
        <p:spPr>
          <a:xfrm flipV="1">
            <a:off x="4706640" y="3729960"/>
            <a:ext cx="1369080" cy="577080"/>
          </a:xfrm>
          <a:prstGeom prst="straightConnector1">
            <a:avLst/>
          </a:prstGeom>
          <a:ln w="9360">
            <a:solidFill>
              <a:srgbClr val="008000"/>
            </a:solidFill>
            <a:prstDash val="dash"/>
            <a:miter/>
          </a:ln>
        </p:spPr>
      </p:cxnSp>
      <p:cxnSp>
        <p:nvCxnSpPr>
          <p:cNvPr id="186" name="AutoShape 61"/>
          <p:cNvCxnSpPr>
            <a:stCxn id="184" idx="1"/>
            <a:endCxn id="178" idx="1"/>
          </p:cNvCxnSpPr>
          <p:nvPr/>
        </p:nvCxnSpPr>
        <p:spPr>
          <a:xfrm>
            <a:off x="6075360" y="3730680"/>
            <a:ext cx="1008720" cy="792720"/>
          </a:xfrm>
          <a:prstGeom prst="straightConnector1">
            <a:avLst/>
          </a:prstGeom>
          <a:ln w="9360">
            <a:solidFill>
              <a:srgbClr val="008000"/>
            </a:solidFill>
            <a:prstDash val="dash"/>
            <a:miter/>
          </a:ln>
        </p:spPr>
      </p:cxnSp>
      <p:sp>
        <p:nvSpPr>
          <p:cNvPr id="187" name="Line 67"/>
          <p:cNvSpPr/>
          <p:nvPr/>
        </p:nvSpPr>
        <p:spPr>
          <a:xfrm>
            <a:off x="5859360" y="2795760"/>
            <a:ext cx="144720" cy="20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AutoShape 68"/>
          <p:cNvCxnSpPr>
            <a:stCxn id="175" idx="1"/>
            <a:endCxn id="187" idx="0"/>
          </p:cNvCxnSpPr>
          <p:nvPr/>
        </p:nvCxnSpPr>
        <p:spPr>
          <a:xfrm flipV="1">
            <a:off x="4780080" y="4811040"/>
            <a:ext cx="1224720" cy="6483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89" name="Text Box 70"/>
          <p:cNvSpPr/>
          <p:nvPr/>
        </p:nvSpPr>
        <p:spPr>
          <a:xfrm>
            <a:off x="5932440" y="38037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71"/>
          <p:cNvSpPr/>
          <p:nvPr/>
        </p:nvSpPr>
        <p:spPr>
          <a:xfrm>
            <a:off x="4275000" y="401940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72"/>
          <p:cNvSpPr/>
          <p:nvPr/>
        </p:nvSpPr>
        <p:spPr>
          <a:xfrm>
            <a:off x="5499000" y="603576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3"/>
          <p:cNvSpPr/>
          <p:nvPr/>
        </p:nvSpPr>
        <p:spPr>
          <a:xfrm>
            <a:off x="4275000" y="531504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75"/>
          <p:cNvSpPr/>
          <p:nvPr/>
        </p:nvSpPr>
        <p:spPr>
          <a:xfrm flipH="1">
            <a:off x="5211360" y="2722680"/>
            <a:ext cx="647640" cy="29527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76"/>
          <p:cNvSpPr/>
          <p:nvPr/>
        </p:nvSpPr>
        <p:spPr>
          <a:xfrm>
            <a:off x="5932440" y="46674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45"/>
          <p:cNvSpPr/>
          <p:nvPr/>
        </p:nvSpPr>
        <p:spPr>
          <a:xfrm>
            <a:off x="4944960" y="572292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46"/>
          <p:cNvSpPr/>
          <p:nvPr/>
        </p:nvSpPr>
        <p:spPr>
          <a:xfrm>
            <a:off x="5659560" y="24368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244000" y="5732640"/>
            <a:ext cx="566640" cy="595080"/>
          </a:xfrm>
          <a:custGeom>
            <a:avLst/>
            <a:gdLst>
              <a:gd name="textAreaLeft" fmla="*/ 36720 w 566640"/>
              <a:gd name="textAreaRight" fmla="*/ 529920 w 566640"/>
              <a:gd name="textAreaTop" fmla="*/ 36720 h 595080"/>
              <a:gd name="textAreaBottom" fmla="*/ 558360 h 595080"/>
            </a:gdLst>
            <a:ahLst/>
            <a:rect l="textAreaLeft" t="textAreaTop" r="textAreaRight" b="textAreaBottom"/>
            <a:pathLst>
              <a:path w="21600" h="22683">
                <a:moveTo>
                  <a:pt x="0" y="0"/>
                </a:moveTo>
                <a:lnTo>
                  <a:pt x="21600" y="0"/>
                </a:lnTo>
                <a:lnTo>
                  <a:pt x="21600" y="22683"/>
                </a:lnTo>
                <a:lnTo>
                  <a:pt x="0" y="22683"/>
                </a:lnTo>
                <a:close/>
              </a:path>
              <a:path fill="lightenLess" w="21600" h="226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83">
                <a:moveTo>
                  <a:pt x="21600" y="0"/>
                </a:moveTo>
                <a:lnTo>
                  <a:pt x="21600" y="22683"/>
                </a:lnTo>
                <a:lnTo>
                  <a:pt x="20200" y="21283"/>
                </a:lnTo>
                <a:lnTo>
                  <a:pt x="20200" y="1400"/>
                </a:lnTo>
                <a:close/>
              </a:path>
              <a:path fill="darkenLess" w="21600" h="22683">
                <a:moveTo>
                  <a:pt x="21600" y="22683"/>
                </a:moveTo>
                <a:lnTo>
                  <a:pt x="0" y="22683"/>
                </a:lnTo>
                <a:lnTo>
                  <a:pt x="1400" y="21283"/>
                </a:lnTo>
                <a:lnTo>
                  <a:pt x="20200" y="21283"/>
                </a:lnTo>
                <a:close/>
              </a:path>
              <a:path fill="lighten" w="21600" h="22683">
                <a:moveTo>
                  <a:pt x="0" y="226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83"/>
                </a:lnTo>
                <a:close/>
              </a:path>
              <a:path fill="darken" w="21600" h="22683">
                <a:moveTo>
                  <a:pt x="10800" y="4379"/>
                </a:moveTo>
                <a:lnTo>
                  <a:pt x="13376" y="6990"/>
                </a:lnTo>
                <a:lnTo>
                  <a:pt x="13376" y="5249"/>
                </a:lnTo>
                <a:lnTo>
                  <a:pt x="15152" y="5249"/>
                </a:lnTo>
                <a:lnTo>
                  <a:pt x="15152" y="8765"/>
                </a:lnTo>
                <a:lnTo>
                  <a:pt x="17763" y="11342"/>
                </a:lnTo>
                <a:lnTo>
                  <a:pt x="16109" y="11342"/>
                </a:lnTo>
                <a:lnTo>
                  <a:pt x="16109" y="18531"/>
                </a:lnTo>
                <a:lnTo>
                  <a:pt x="5491" y="18531"/>
                </a:lnTo>
                <a:lnTo>
                  <a:pt x="5491" y="11342"/>
                </a:lnTo>
                <a:lnTo>
                  <a:pt x="3837" y="11342"/>
                </a:lnTo>
                <a:close/>
              </a:path>
              <a:path fill="darkenLess" w="21600" h="22683">
                <a:moveTo>
                  <a:pt x="13376" y="6990"/>
                </a:moveTo>
                <a:lnTo>
                  <a:pt x="13376" y="5249"/>
                </a:lnTo>
                <a:lnTo>
                  <a:pt x="15152" y="5249"/>
                </a:lnTo>
                <a:lnTo>
                  <a:pt x="15152" y="8765"/>
                </a:lnTo>
                <a:close/>
              </a:path>
              <a:path fill="darkenLess" w="21600" h="22683">
                <a:moveTo>
                  <a:pt x="9877" y="14841"/>
                </a:moveTo>
                <a:lnTo>
                  <a:pt x="11723" y="14841"/>
                </a:lnTo>
                <a:lnTo>
                  <a:pt x="11723" y="18531"/>
                </a:lnTo>
                <a:lnTo>
                  <a:pt x="16109" y="18531"/>
                </a:lnTo>
                <a:lnTo>
                  <a:pt x="16109" y="11342"/>
                </a:lnTo>
                <a:lnTo>
                  <a:pt x="5491" y="11342"/>
                </a:lnTo>
                <a:lnTo>
                  <a:pt x="5491" y="18531"/>
                </a:lnTo>
                <a:lnTo>
                  <a:pt x="9877" y="1853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Line 49"/>
          <p:cNvSpPr/>
          <p:nvPr/>
        </p:nvSpPr>
        <p:spPr>
          <a:xfrm flipH="1">
            <a:off x="6356520" y="1195560"/>
            <a:ext cx="1079280" cy="28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50"/>
          <p:cNvSpPr/>
          <p:nvPr/>
        </p:nvSpPr>
        <p:spPr>
          <a:xfrm flipH="1">
            <a:off x="7364520" y="1195560"/>
            <a:ext cx="71280" cy="33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51"/>
          <p:cNvSpPr/>
          <p:nvPr/>
        </p:nvSpPr>
        <p:spPr>
          <a:xfrm>
            <a:off x="7435800" y="1195560"/>
            <a:ext cx="115272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52"/>
          <p:cNvSpPr/>
          <p:nvPr/>
        </p:nvSpPr>
        <p:spPr>
          <a:xfrm>
            <a:off x="7435800" y="1195560"/>
            <a:ext cx="1224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54"/>
          <p:cNvSpPr/>
          <p:nvPr/>
        </p:nvSpPr>
        <p:spPr>
          <a:xfrm flipH="1">
            <a:off x="6283080" y="1195560"/>
            <a:ext cx="115236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AutoShape 55"/>
          <p:cNvCxnSpPr>
            <a:stCxn id="199" idx="0"/>
            <a:endCxn id="198" idx="0"/>
          </p:cNvCxnSpPr>
          <p:nvPr/>
        </p:nvCxnSpPr>
        <p:spPr>
          <a:xfrm flipH="1" flipV="1">
            <a:off x="6356160" y="4002840"/>
            <a:ext cx="1010160" cy="505800"/>
          </a:xfrm>
          <a:prstGeom prst="straightConnector1">
            <a:avLst/>
          </a:prstGeom>
          <a:ln w="9360">
            <a:solidFill>
              <a:srgbClr val="008000"/>
            </a:solidFill>
            <a:miter/>
          </a:ln>
        </p:spPr>
      </p:cxnSp>
      <p:cxnSp>
        <p:nvCxnSpPr>
          <p:cNvPr id="204" name="AutoShape 56"/>
          <p:cNvCxnSpPr>
            <a:stCxn id="198" idx="1"/>
            <a:endCxn id="202" idx="0"/>
          </p:cNvCxnSpPr>
          <p:nvPr/>
        </p:nvCxnSpPr>
        <p:spPr>
          <a:xfrm flipH="1" flipV="1">
            <a:off x="6282720" y="2850840"/>
            <a:ext cx="73800" cy="1152720"/>
          </a:xfrm>
          <a:prstGeom prst="straightConnector1">
            <a:avLst/>
          </a:prstGeom>
          <a:ln w="9360">
            <a:solidFill>
              <a:srgbClr val="008000"/>
            </a:solidFill>
            <a:miter/>
          </a:ln>
        </p:spPr>
      </p:cxnSp>
      <p:cxnSp>
        <p:nvCxnSpPr>
          <p:cNvPr id="205" name="AutoShape 57"/>
          <p:cNvCxnSpPr>
            <a:stCxn id="199" idx="1"/>
            <a:endCxn id="200" idx="0"/>
          </p:cNvCxnSpPr>
          <p:nvPr/>
        </p:nvCxnSpPr>
        <p:spPr>
          <a:xfrm flipV="1">
            <a:off x="7365960" y="3787560"/>
            <a:ext cx="1223280" cy="721440"/>
          </a:xfrm>
          <a:prstGeom prst="straightConnector1">
            <a:avLst/>
          </a:prstGeom>
          <a:ln w="9360">
            <a:solidFill>
              <a:srgbClr val="008000"/>
            </a:solidFill>
            <a:miter/>
          </a:ln>
        </p:spPr>
      </p:cxnSp>
      <p:cxnSp>
        <p:nvCxnSpPr>
          <p:cNvPr id="206" name="AutoShape 58"/>
          <p:cNvCxnSpPr>
            <a:stCxn id="200" idx="1"/>
            <a:endCxn id="201" idx="0"/>
          </p:cNvCxnSpPr>
          <p:nvPr/>
        </p:nvCxnSpPr>
        <p:spPr>
          <a:xfrm flipV="1">
            <a:off x="8588520" y="3066840"/>
            <a:ext cx="72000" cy="721440"/>
          </a:xfrm>
          <a:prstGeom prst="straightConnector1">
            <a:avLst/>
          </a:prstGeom>
          <a:ln w="9360">
            <a:solidFill>
              <a:srgbClr val="008000"/>
            </a:solidFill>
            <a:miter/>
          </a:ln>
        </p:spPr>
      </p:cxnSp>
      <p:sp>
        <p:nvSpPr>
          <p:cNvPr id="207" name="Line 59"/>
          <p:cNvSpPr/>
          <p:nvPr/>
        </p:nvSpPr>
        <p:spPr>
          <a:xfrm>
            <a:off x="7435800" y="1266840"/>
            <a:ext cx="216000" cy="100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8" name="AutoShape 60"/>
          <p:cNvCxnSpPr>
            <a:stCxn id="202" idx="1"/>
            <a:endCxn id="207" idx="0"/>
          </p:cNvCxnSpPr>
          <p:nvPr/>
        </p:nvCxnSpPr>
        <p:spPr>
          <a:xfrm flipV="1">
            <a:off x="6283080" y="2274120"/>
            <a:ext cx="1369080" cy="577080"/>
          </a:xfrm>
          <a:prstGeom prst="straightConnector1">
            <a:avLst/>
          </a:prstGeom>
          <a:ln w="9360">
            <a:solidFill>
              <a:srgbClr val="008000"/>
            </a:solidFill>
            <a:prstDash val="dash"/>
            <a:miter/>
          </a:ln>
        </p:spPr>
      </p:cxnSp>
      <p:cxnSp>
        <p:nvCxnSpPr>
          <p:cNvPr id="209" name="AutoShape 61"/>
          <p:cNvCxnSpPr>
            <a:stCxn id="207" idx="1"/>
            <a:endCxn id="201" idx="1"/>
          </p:cNvCxnSpPr>
          <p:nvPr/>
        </p:nvCxnSpPr>
        <p:spPr>
          <a:xfrm>
            <a:off x="7651800" y="2274480"/>
            <a:ext cx="1008720" cy="793080"/>
          </a:xfrm>
          <a:prstGeom prst="straightConnector1">
            <a:avLst/>
          </a:prstGeom>
          <a:ln w="9360">
            <a:solidFill>
              <a:srgbClr val="008000"/>
            </a:solidFill>
            <a:prstDash val="dash"/>
            <a:miter/>
          </a:ln>
        </p:spPr>
      </p:cxnSp>
      <p:sp>
        <p:nvSpPr>
          <p:cNvPr id="210" name="Line 67"/>
          <p:cNvSpPr/>
          <p:nvPr/>
        </p:nvSpPr>
        <p:spPr>
          <a:xfrm>
            <a:off x="7435800" y="1339920"/>
            <a:ext cx="144360" cy="20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AutoShape 68"/>
          <p:cNvCxnSpPr>
            <a:stCxn id="198" idx="1"/>
            <a:endCxn id="210" idx="0"/>
          </p:cNvCxnSpPr>
          <p:nvPr/>
        </p:nvCxnSpPr>
        <p:spPr>
          <a:xfrm flipV="1">
            <a:off x="6356160" y="3355200"/>
            <a:ext cx="1224360" cy="6483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212" name="Text Box 70"/>
          <p:cNvSpPr/>
          <p:nvPr/>
        </p:nvSpPr>
        <p:spPr>
          <a:xfrm>
            <a:off x="7508880" y="23479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71"/>
          <p:cNvSpPr/>
          <p:nvPr/>
        </p:nvSpPr>
        <p:spPr>
          <a:xfrm>
            <a:off x="5851440" y="256392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72"/>
          <p:cNvSpPr/>
          <p:nvPr/>
        </p:nvSpPr>
        <p:spPr>
          <a:xfrm>
            <a:off x="7075440" y="457992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73"/>
          <p:cNvSpPr/>
          <p:nvPr/>
        </p:nvSpPr>
        <p:spPr>
          <a:xfrm>
            <a:off x="5851440" y="385920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75"/>
          <p:cNvSpPr/>
          <p:nvPr/>
        </p:nvSpPr>
        <p:spPr>
          <a:xfrm flipH="1">
            <a:off x="6787800" y="1266840"/>
            <a:ext cx="647640" cy="29527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76"/>
          <p:cNvSpPr/>
          <p:nvPr/>
        </p:nvSpPr>
        <p:spPr>
          <a:xfrm>
            <a:off x="7508880" y="32115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45"/>
          <p:cNvSpPr/>
          <p:nvPr/>
        </p:nvSpPr>
        <p:spPr>
          <a:xfrm>
            <a:off x="6521400" y="426708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46"/>
          <p:cNvSpPr/>
          <p:nvPr/>
        </p:nvSpPr>
        <p:spPr>
          <a:xfrm>
            <a:off x="7236000" y="98100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11280" y="2060640"/>
            <a:ext cx="51829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о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ьная пирам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Доказать: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</a:t>
            </a:r>
            <a:r>
              <a:rPr b="0" lang="ru-RU" sz="1800" spc="-1" strike="noStrike" baseline="-25000">
                <a:solidFill>
                  <a:srgbClr val="009900"/>
                </a:solidFill>
                <a:latin typeface="Arial"/>
              </a:rPr>
              <a:t>бок</a:t>
            </a: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  <a:ea typeface="Arial"/>
              </a:rPr>
              <a:t>½P</a:t>
            </a:r>
            <a:r>
              <a:rPr b="0" lang="en-US" sz="1800" spc="-1" strike="noStrike" baseline="-25000">
                <a:solidFill>
                  <a:srgbClr val="009900"/>
                </a:solidFill>
                <a:latin typeface="Arial"/>
                <a:ea typeface="Arial"/>
              </a:rPr>
              <a:t>oc</a:t>
            </a:r>
            <a:r>
              <a:rPr b="0" lang="ru-RU" sz="1800" spc="-1" strike="noStrike" baseline="-25000">
                <a:solidFill>
                  <a:srgbClr val="009900"/>
                </a:solidFill>
                <a:latin typeface="Arial"/>
                <a:ea typeface="Arial"/>
              </a:rPr>
              <a:t>н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  <a:ea typeface="Arial"/>
              </a:rPr>
              <a:t>·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84360" y="4869000"/>
            <a:ext cx="554508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азательств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бо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S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т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·½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PE=½(n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·PE=½P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осн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244000" y="5732640"/>
            <a:ext cx="566640" cy="595080"/>
          </a:xfrm>
          <a:custGeom>
            <a:avLst/>
            <a:gdLst>
              <a:gd name="textAreaLeft" fmla="*/ 36720 w 566640"/>
              <a:gd name="textAreaRight" fmla="*/ 529920 w 566640"/>
              <a:gd name="textAreaTop" fmla="*/ 36720 h 595080"/>
              <a:gd name="textAreaBottom" fmla="*/ 558360 h 595080"/>
            </a:gdLst>
            <a:ahLst/>
            <a:rect l="textAreaLeft" t="textAreaTop" r="textAreaRight" b="textAreaBottom"/>
            <a:pathLst>
              <a:path w="21600" h="22683">
                <a:moveTo>
                  <a:pt x="0" y="0"/>
                </a:moveTo>
                <a:lnTo>
                  <a:pt x="21600" y="0"/>
                </a:lnTo>
                <a:lnTo>
                  <a:pt x="21600" y="22683"/>
                </a:lnTo>
                <a:lnTo>
                  <a:pt x="0" y="22683"/>
                </a:lnTo>
                <a:close/>
              </a:path>
              <a:path fill="lightenLess" w="21600" h="226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83">
                <a:moveTo>
                  <a:pt x="21600" y="0"/>
                </a:moveTo>
                <a:lnTo>
                  <a:pt x="21600" y="22683"/>
                </a:lnTo>
                <a:lnTo>
                  <a:pt x="20200" y="21283"/>
                </a:lnTo>
                <a:lnTo>
                  <a:pt x="20200" y="1400"/>
                </a:lnTo>
                <a:close/>
              </a:path>
              <a:path fill="darkenLess" w="21600" h="22683">
                <a:moveTo>
                  <a:pt x="21600" y="22683"/>
                </a:moveTo>
                <a:lnTo>
                  <a:pt x="0" y="22683"/>
                </a:lnTo>
                <a:lnTo>
                  <a:pt x="1400" y="21283"/>
                </a:lnTo>
                <a:lnTo>
                  <a:pt x="20200" y="21283"/>
                </a:lnTo>
                <a:close/>
              </a:path>
              <a:path fill="lighten" w="21600" h="22683">
                <a:moveTo>
                  <a:pt x="0" y="226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83"/>
                </a:lnTo>
                <a:close/>
              </a:path>
              <a:path fill="darken" w="21600" h="22683">
                <a:moveTo>
                  <a:pt x="10800" y="4379"/>
                </a:moveTo>
                <a:lnTo>
                  <a:pt x="13376" y="6990"/>
                </a:lnTo>
                <a:lnTo>
                  <a:pt x="13376" y="5249"/>
                </a:lnTo>
                <a:lnTo>
                  <a:pt x="15152" y="5249"/>
                </a:lnTo>
                <a:lnTo>
                  <a:pt x="15152" y="8765"/>
                </a:lnTo>
                <a:lnTo>
                  <a:pt x="17763" y="11342"/>
                </a:lnTo>
                <a:lnTo>
                  <a:pt x="16109" y="11342"/>
                </a:lnTo>
                <a:lnTo>
                  <a:pt x="16109" y="18531"/>
                </a:lnTo>
                <a:lnTo>
                  <a:pt x="5491" y="18531"/>
                </a:lnTo>
                <a:lnTo>
                  <a:pt x="5491" y="11342"/>
                </a:lnTo>
                <a:lnTo>
                  <a:pt x="3837" y="11342"/>
                </a:lnTo>
                <a:close/>
              </a:path>
              <a:path fill="darkenLess" w="21600" h="22683">
                <a:moveTo>
                  <a:pt x="13376" y="6990"/>
                </a:moveTo>
                <a:lnTo>
                  <a:pt x="13376" y="5249"/>
                </a:lnTo>
                <a:lnTo>
                  <a:pt x="15152" y="5249"/>
                </a:lnTo>
                <a:lnTo>
                  <a:pt x="15152" y="8765"/>
                </a:lnTo>
                <a:close/>
              </a:path>
              <a:path fill="darkenLess" w="21600" h="22683">
                <a:moveTo>
                  <a:pt x="9877" y="14841"/>
                </a:moveTo>
                <a:lnTo>
                  <a:pt x="11723" y="14841"/>
                </a:lnTo>
                <a:lnTo>
                  <a:pt x="11723" y="18531"/>
                </a:lnTo>
                <a:lnTo>
                  <a:pt x="16109" y="18531"/>
                </a:lnTo>
                <a:lnTo>
                  <a:pt x="16109" y="11342"/>
                </a:lnTo>
                <a:lnTo>
                  <a:pt x="5491" y="11342"/>
                </a:lnTo>
                <a:lnTo>
                  <a:pt x="5491" y="18531"/>
                </a:lnTo>
                <a:lnTo>
                  <a:pt x="9877" y="1853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Arial"/>
              </a:rPr>
              <a:t>Площадь полной поверхности пирами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214200" y="1428840"/>
            <a:ext cx="8715600" cy="32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щадью полной поверхности пирамиды называется сумма  площадей всех ее граней (т. е. основания и боковых граней) , а площадью боковой поверхности пирамиды – сумма площадей гра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н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к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 S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244000" y="5732640"/>
            <a:ext cx="566640" cy="595080"/>
          </a:xfrm>
          <a:custGeom>
            <a:avLst/>
            <a:gdLst>
              <a:gd name="textAreaLeft" fmla="*/ 36720 w 566640"/>
              <a:gd name="textAreaRight" fmla="*/ 529920 w 566640"/>
              <a:gd name="textAreaTop" fmla="*/ 36720 h 595080"/>
              <a:gd name="textAreaBottom" fmla="*/ 558360 h 595080"/>
            </a:gdLst>
            <a:ahLst/>
            <a:rect l="textAreaLeft" t="textAreaTop" r="textAreaRight" b="textAreaBottom"/>
            <a:pathLst>
              <a:path w="21600" h="22683">
                <a:moveTo>
                  <a:pt x="0" y="0"/>
                </a:moveTo>
                <a:lnTo>
                  <a:pt x="21600" y="0"/>
                </a:lnTo>
                <a:lnTo>
                  <a:pt x="21600" y="22683"/>
                </a:lnTo>
                <a:lnTo>
                  <a:pt x="0" y="22683"/>
                </a:lnTo>
                <a:close/>
              </a:path>
              <a:path fill="lightenLess" w="21600" h="226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83">
                <a:moveTo>
                  <a:pt x="21600" y="0"/>
                </a:moveTo>
                <a:lnTo>
                  <a:pt x="21600" y="22683"/>
                </a:lnTo>
                <a:lnTo>
                  <a:pt x="20200" y="21283"/>
                </a:lnTo>
                <a:lnTo>
                  <a:pt x="20200" y="1400"/>
                </a:lnTo>
                <a:close/>
              </a:path>
              <a:path fill="darkenLess" w="21600" h="22683">
                <a:moveTo>
                  <a:pt x="21600" y="22683"/>
                </a:moveTo>
                <a:lnTo>
                  <a:pt x="0" y="22683"/>
                </a:lnTo>
                <a:lnTo>
                  <a:pt x="1400" y="21283"/>
                </a:lnTo>
                <a:lnTo>
                  <a:pt x="20200" y="21283"/>
                </a:lnTo>
                <a:close/>
              </a:path>
              <a:path fill="lighten" w="21600" h="22683">
                <a:moveTo>
                  <a:pt x="0" y="226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83"/>
                </a:lnTo>
                <a:close/>
              </a:path>
              <a:path fill="darken" w="21600" h="22683">
                <a:moveTo>
                  <a:pt x="10800" y="4379"/>
                </a:moveTo>
                <a:lnTo>
                  <a:pt x="13376" y="6990"/>
                </a:lnTo>
                <a:lnTo>
                  <a:pt x="13376" y="5249"/>
                </a:lnTo>
                <a:lnTo>
                  <a:pt x="15152" y="5249"/>
                </a:lnTo>
                <a:lnTo>
                  <a:pt x="15152" y="8765"/>
                </a:lnTo>
                <a:lnTo>
                  <a:pt x="17763" y="11342"/>
                </a:lnTo>
                <a:lnTo>
                  <a:pt x="16109" y="11342"/>
                </a:lnTo>
                <a:lnTo>
                  <a:pt x="16109" y="18531"/>
                </a:lnTo>
                <a:lnTo>
                  <a:pt x="5491" y="18531"/>
                </a:lnTo>
                <a:lnTo>
                  <a:pt x="5491" y="11342"/>
                </a:lnTo>
                <a:lnTo>
                  <a:pt x="3837" y="11342"/>
                </a:lnTo>
                <a:close/>
              </a:path>
              <a:path fill="darkenLess" w="21600" h="22683">
                <a:moveTo>
                  <a:pt x="13376" y="6990"/>
                </a:moveTo>
                <a:lnTo>
                  <a:pt x="13376" y="5249"/>
                </a:lnTo>
                <a:lnTo>
                  <a:pt x="15152" y="5249"/>
                </a:lnTo>
                <a:lnTo>
                  <a:pt x="15152" y="8765"/>
                </a:lnTo>
                <a:close/>
              </a:path>
              <a:path fill="darkenLess" w="21600" h="22683">
                <a:moveTo>
                  <a:pt x="9877" y="14841"/>
                </a:moveTo>
                <a:lnTo>
                  <a:pt x="11723" y="14841"/>
                </a:lnTo>
                <a:lnTo>
                  <a:pt x="11723" y="18531"/>
                </a:lnTo>
                <a:lnTo>
                  <a:pt x="16109" y="18531"/>
                </a:lnTo>
                <a:lnTo>
                  <a:pt x="16109" y="11342"/>
                </a:lnTo>
                <a:lnTo>
                  <a:pt x="5491" y="11342"/>
                </a:lnTo>
                <a:lnTo>
                  <a:pt x="5491" y="18531"/>
                </a:lnTo>
                <a:lnTo>
                  <a:pt x="9877" y="1853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1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5T11:43:24Z</dcterms:created>
  <dc:creator>Евгений</dc:creator>
  <dc:description/>
  <dc:language>en-US</dc:language>
  <cp:lastModifiedBy>Мигунова</cp:lastModifiedBy>
  <dcterms:modified xsi:type="dcterms:W3CDTF">2012-11-21T07:48:05Z</dcterms:modified>
  <cp:revision>35</cp:revision>
  <dc:subject/>
  <dc:title>Слайд 1</dc:title>
</cp:coreProperties>
</file>