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2EB3-FEC0-4997-922F-04BD45720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B30F-79E5-4641-AAF2-AB7B93F654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66FA-AB63-4FA4-9B89-FB3F773373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6CA-8062-45FF-BA39-2E97D691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F519-CF8D-41AB-BE01-AEBA822A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371-0060-42B6-8589-37A8A458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609-9733-4BBB-8535-969F43FE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F409-4A11-459A-B8AE-B619BAE6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B918-D7DF-40B3-BA63-47284963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96C1-1951-4677-A5ED-A14D4FB4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71B7-DA17-444D-9346-4843B3EF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F339-7809-455B-9421-862316CF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82C2-BBBF-43A6-9310-2301F1B3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44C5-D703-436D-A088-996F189C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F68-DFE8-42D8-85B9-D1ED1CDB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69DC-C93F-43D0-83DB-4575B15B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0C46-FFB5-4D90-80C6-7B01F4EC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CA6F-1D0C-4A14-824D-73C01968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3FB4-8A29-4B7E-9FC9-6E9E7A06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8D8B-0CCB-4F8F-8F1B-1D968EA9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C01-A0AA-4175-90E4-0E7AB7A3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5D0-7BAD-413B-85C7-11A90A85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6BE-5BEF-4336-A650-3663930F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ADB-C8E9-4274-93F4-BD8340C4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7AF9-097C-463F-8DDD-8BA19A5C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3FE-EA35-4C5B-857A-A4CA5A82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D82-6AFA-410C-B302-4054D600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81AD-1E3B-4AAD-89F5-B7AFFF29A1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9C0E-1B27-4972-876A-D71D9DF160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5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2961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2"/>
          <p:cNvSpPr txBox="1"/>
          <p:nvPr/>
        </p:nvSpPr>
        <p:spPr>
          <a:xfrm>
            <a:off x="1143000" y="2214720"/>
            <a:ext cx="6732720" cy="27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4005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а на Земле</a:t>
            </a:r>
            <a:endParaRPr b="0" lang="en-US" sz="1800" spc="1" strike="noStrike">
              <a:ln w="9360">
                <a:solidFill>
                  <a:srgbClr val="e4005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77440" cy="6961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8" name="Прямоугольник 3" descr=""/>
          <p:cNvPicPr/>
          <p:nvPr/>
        </p:nvPicPr>
        <p:blipFill>
          <a:blip r:embed="rId2"/>
          <a:stretch/>
        </p:blipFill>
        <p:spPr>
          <a:xfrm>
            <a:off x="4816440" y="133200"/>
            <a:ext cx="371520" cy="9399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ро5кл6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D:\Documents and Settings\Николай\Рабочий стол\картинки\Priroda\разли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Picture 2" descr="D:\Documents and Settings\Николай\Рабочий стол\картинки\Priroda\осень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0" y="45720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0" y="676440"/>
                <a:ext cx="2192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0" y="8287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3"/>
              <p:cNvSpPr txBox="1"/>
              <p:nvPr/>
            </p:nvSpPr>
            <p:spPr>
              <a:xfrm>
                <a:off x="0" y="104760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D:\Documents and Settings\Николай\Рабочий стол\картинки\Priroda\водопад1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Object 16"/>
              <p:cNvSpPr txBox="1"/>
              <p:nvPr/>
            </p:nvSpPr>
            <p:spPr>
              <a:xfrm>
                <a:off x="3214800" y="52862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5"/>
              <p:cNvSpPr txBox="1"/>
              <p:nvPr/>
            </p:nvSpPr>
            <p:spPr>
              <a:xfrm>
                <a:off x="0" y="5716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0" y="79056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3"/>
              <p:cNvSpPr txBox="1"/>
              <p:nvPr/>
            </p:nvSpPr>
            <p:spPr>
              <a:xfrm>
                <a:off x="0" y="100980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2"/>
              <p:cNvSpPr txBox="1"/>
              <p:nvPr/>
            </p:nvSpPr>
            <p:spPr>
              <a:xfrm>
                <a:off x="0" y="1123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1"/>
              <p:cNvSpPr txBox="1"/>
              <p:nvPr/>
            </p:nvSpPr>
            <p:spPr>
              <a:xfrm>
                <a:off x="0" y="1343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0" y="1562040"/>
                <a:ext cx="114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9"/>
              <p:cNvSpPr txBox="1"/>
              <p:nvPr/>
            </p:nvSpPr>
            <p:spPr>
              <a:xfrm>
                <a:off x="0" y="179064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0" y="19051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7"/>
              <p:cNvSpPr txBox="1"/>
              <p:nvPr/>
            </p:nvSpPr>
            <p:spPr>
              <a:xfrm>
                <a:off x="0" y="2124000"/>
                <a:ext cx="114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0" y="2352600"/>
                <a:ext cx="114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571680" y="485784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0" y="26956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Rectangle 20"/>
          <p:cNvSpPr/>
          <p:nvPr/>
        </p:nvSpPr>
        <p:spPr>
          <a:xfrm>
            <a:off x="-18108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-18108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857160" y="5857920"/>
            <a:ext cx="102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-18108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2" name="Picture 2" descr="D:\Documents and Settings\Николай\Рабочий стол\картинки\Priroda\озер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4" name="Picture 2" descr="D:\Documents and Settings\Николай\Рабочий стол\картинки\Priroda\водопа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6" name="Picture 2" descr="D:\Documents and Settings\Николай\Рабочий стол\картинки\Priroda\ВОДОПА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2:50Z</dcterms:created>
  <dc:creator>XTreme</dc:creator>
  <dc:description/>
  <dc:language>en-US</dc:language>
  <cp:lastModifiedBy>132</cp:lastModifiedBy>
  <dcterms:modified xsi:type="dcterms:W3CDTF">2014-11-09T11:55:17Z</dcterms:modified>
  <cp:revision>9</cp:revision>
  <dc:subject/>
  <dc:title>Слайд 1</dc:title>
</cp:coreProperties>
</file>