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95C6-AE81-4D7D-9A40-689EF1AF6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C328-9065-4ED9-B804-3D641076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C218-73FE-4673-A10C-DEC3F99B8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30ED-389F-4C58-ACD9-A06477BF0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85C2-CA4E-45F9-8777-DC547A87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F8C1-D4AB-4EA0-A12A-CC68F9D0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14D6-F0D3-47B1-AB56-304EB853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A2AC-05C7-4F4B-9544-491C47D6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2C3A-D784-4CD6-9A77-6BCD83FA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6576-9F50-47A3-A896-F18C45F2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CA59-AAB9-4E40-A6F6-9D9B0D6D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297E-E3CB-4BC2-98D8-CBCB06C4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BC58-434E-45F7-91E0-6B9539BD2A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proxvost.info/animals/europe/images/european_hare/european_hare_800.jpg" TargetMode="External"/><Relationship Id="rId2" Type="http://schemas.openxmlformats.org/officeDocument/2006/relationships/hyperlink" Target="http://go.mail.ru/search_images?rch=l&amp;type=all&amp;is=0&amp;q=&#1079;&#1072;&#1103;&#1094;+#w=412&amp;h=562&amp;s=49699&amp;pic=http%3A%2F%2Fwww.gorinov.spb.ru%2F14zayac04.jpg&amp;page=http%3A%2F%2Fbooks.globallcom.com%2Ftag%2Fmuzhchina%2FPage-6.html&amp;descr=zayac%20|" TargetMode="External"/><Relationship Id="rId3" Type="http://schemas.openxmlformats.org/officeDocument/2006/relationships/hyperlink" Target="http://o6oi.ru/main.php/wallpapers/animals_world/animals/hares_and_rabbits/134.jpg.html?g2_imageViewsIndex=3" TargetMode="External"/><Relationship Id="rId4" Type="http://schemas.openxmlformats.org/officeDocument/2006/relationships/hyperlink" Target="http://onua.com.ua/uploads/posts/2009-02/1234472645_1-20.jpg" TargetMode="External"/><Relationship Id="rId5" Type="http://schemas.openxmlformats.org/officeDocument/2006/relationships/hyperlink" Target="http://vitusltd.ru/V-images/zajac_zima.jpg" TargetMode="External"/><Relationship Id="rId6" Type="http://schemas.openxmlformats.org/officeDocument/2006/relationships/hyperlink" Target="http://animalbox.ru/wp-content/uploads/2011/08/rusak_beg.jpg" TargetMode="External"/><Relationship Id="rId7" Type="http://schemas.openxmlformats.org/officeDocument/2006/relationships/hyperlink" Target="http://img-fotki.yandex.ru/get/3907/verasambros.55/0_38b33_df4c0164_XL" TargetMode="External"/><Relationship Id="rId8" Type="http://schemas.openxmlformats.org/officeDocument/2006/relationships/hyperlink" Target="http://s1.badfon.ru/image/22810-1920x1200.jpg" TargetMode="External"/><Relationship Id="rId9" Type="http://schemas.openxmlformats.org/officeDocument/2006/relationships/hyperlink" Target="http://fs107.taba.ru/dev73/0/014/551/0014551757.fid.jpg" TargetMode="External"/><Relationship Id="rId10" Type="http://schemas.openxmlformats.org/officeDocument/2006/relationships/hyperlink" Target="http://www.kto-takoy.ru/wp-content/uploads/2010/03/00zayats2.jpg" TargetMode="Externa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J0346439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90400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ru-RU" sz="8000" spc="-1" strike="noStrike">
                <a:solidFill>
                  <a:srgbClr val="ff0000"/>
                </a:solidFill>
                <a:latin typeface="Arial"/>
              </a:rPr>
              <a:t>Зайчишка-зайка</a:t>
            </a:r>
            <a:br>
              <a:rPr sz="80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: воспитатель Исакова Инна 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J0346439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832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тому, что лиса и волк охотятся на него, чтобы съе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http://megalife.com.ua/uploads/posts/2008-04/1207590010_h13f8fiu7t0p209cg58m40lwzimrb5ur_6.jpg"/>
          <p:cNvPicPr/>
          <p:nvPr/>
        </p:nvPicPr>
        <p:blipFill>
          <a:blip r:embed="rId2"/>
          <a:stretch/>
        </p:blipFill>
        <p:spPr>
          <a:xfrm>
            <a:off x="179280" y="1628640"/>
            <a:ext cx="4392720" cy="5229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http://fs107.taba.ru/dev73/0/014/551/0014551757.fid.jpg"/>
          <p:cNvPicPr/>
          <p:nvPr/>
        </p:nvPicPr>
        <p:blipFill>
          <a:blip r:embed="rId3"/>
          <a:stretch/>
        </p:blipFill>
        <p:spPr>
          <a:xfrm>
            <a:off x="4284720" y="1628640"/>
            <a:ext cx="464508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J0346439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832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бы быть незаметным заяц осенью и весной линяет – меняет цвет своей шкур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http://www.kto-takoy.ru/wp-content/uploads/2010/03/00zayats2.jpg"/>
          <p:cNvPicPr/>
          <p:nvPr/>
        </p:nvPicPr>
        <p:blipFill>
          <a:blip r:embed="rId2"/>
          <a:stretch/>
        </p:blipFill>
        <p:spPr>
          <a:xfrm>
            <a:off x="468360" y="1484280"/>
            <a:ext cx="820728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J0346439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832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етом он серенький и его трудно увидеть в лес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http://www.sunhome.ru/UsersGallery/wallpapers/41/28102750.jpg"/>
          <p:cNvPicPr/>
          <p:nvPr/>
        </p:nvPicPr>
        <p:blipFill>
          <a:blip r:embed="rId2"/>
          <a:stretch/>
        </p:blipFill>
        <p:spPr>
          <a:xfrm>
            <a:off x="611280" y="1557360"/>
            <a:ext cx="817236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J0346439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832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 зимой он белый и его совсем не видно на снег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http://hq-oboi.ru/photo/belyy_zayac_1600x1200.jpg"/>
          <p:cNvPicPr/>
          <p:nvPr/>
        </p:nvPicPr>
        <p:blipFill>
          <a:blip r:embed="rId2"/>
          <a:stretch/>
        </p:blipFill>
        <p:spPr>
          <a:xfrm>
            <a:off x="468360" y="1484280"/>
            <a:ext cx="817236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J0346439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832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йцы очень любят игр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http://www.coollady.ru/pic/0001/krolik/13.jpg"/>
          <p:cNvPicPr/>
          <p:nvPr/>
        </p:nvPicPr>
        <p:blipFill>
          <a:blip r:embed="rId2"/>
          <a:stretch/>
        </p:blipFill>
        <p:spPr>
          <a:xfrm>
            <a:off x="611280" y="1557360"/>
            <a:ext cx="788508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J0346439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832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аленький зайчонок рад встрече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с мам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http://wpapers.ru/wallpapers/animals/rabbits/1827/1280x960_%D0%97%D0%B0%D0%B9%D1%87%D0%B8%D1%85%D0%B0-%D1%81-%D0%B7%D0%B0%D0%B9%D1%87%D0%B5%D0%BD%D0%BA%D0%BE%D0%BC.jpg"/>
          <p:cNvPicPr/>
          <p:nvPr/>
        </p:nvPicPr>
        <p:blipFill>
          <a:blip r:embed="rId2"/>
          <a:stretch/>
        </p:blipFill>
        <p:spPr>
          <a:xfrm>
            <a:off x="468360" y="1557360"/>
            <a:ext cx="817236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J0346439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832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аленькие зайчата сидят тихо и ждут когда придет м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http://club.foto.ru/gallery/images/photo/2007/08/12/914338.jpg"/>
          <p:cNvPicPr/>
          <p:nvPr/>
        </p:nvPicPr>
        <p:blipFill>
          <a:blip r:embed="rId2"/>
          <a:stretch/>
        </p:blipFill>
        <p:spPr>
          <a:xfrm>
            <a:off x="611280" y="1484280"/>
            <a:ext cx="779148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J0346439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832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линное ухо, комочек пуха, прыгает ловко, любит морков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http://img114.imageshack.us/img114/6353/rabbit012di.jpg"/>
          <p:cNvPicPr/>
          <p:nvPr/>
        </p:nvPicPr>
        <p:blipFill>
          <a:blip r:embed="rId2"/>
          <a:stretch/>
        </p:blipFill>
        <p:spPr>
          <a:xfrm>
            <a:off x="684360" y="1484280"/>
            <a:ext cx="785808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J0346439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832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 полю скачет – ушки прячет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станет столбом – ушки торч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http://zastavok.ru/wallpapers/783-1600x1200.jpg"/>
          <p:cNvPicPr/>
          <p:nvPr/>
        </p:nvPicPr>
        <p:blipFill>
          <a:blip r:embed="rId2"/>
          <a:stretch/>
        </p:blipFill>
        <p:spPr>
          <a:xfrm>
            <a:off x="468360" y="1557360"/>
            <a:ext cx="817236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J0346439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44000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имой – белый, а летом - сер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7"/>
          <p:cNvSpPr/>
          <p:nvPr/>
        </p:nvSpPr>
        <p:spPr>
          <a:xfrm>
            <a:off x="155520" y="-2286000"/>
            <a:ext cx="476244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9"/>
          <p:cNvSpPr/>
          <p:nvPr/>
        </p:nvSpPr>
        <p:spPr>
          <a:xfrm>
            <a:off x="155520" y="-2286000"/>
            <a:ext cx="476244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1" descr="http://img1.liveinternet.ru/images/foto/b/3/606/2927606/f_18229904.jpg"/>
          <p:cNvPicPr/>
          <p:nvPr/>
        </p:nvPicPr>
        <p:blipFill>
          <a:blip r:embed="rId2"/>
          <a:stretch/>
        </p:blipFill>
        <p:spPr>
          <a:xfrm>
            <a:off x="179280" y="1773360"/>
            <a:ext cx="4464000" cy="5084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http://o6oi.ru/main.php/171255-2/215.jpg"/>
          <p:cNvPicPr/>
          <p:nvPr/>
        </p:nvPicPr>
        <p:blipFill>
          <a:blip r:embed="rId3"/>
          <a:stretch/>
        </p:blipFill>
        <p:spPr>
          <a:xfrm>
            <a:off x="4427640" y="1773360"/>
            <a:ext cx="4716360" cy="50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J0346439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832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йч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9" descr="070"/>
          <p:cNvPicPr/>
          <p:nvPr/>
        </p:nvPicPr>
        <p:blipFill>
          <a:blip r:embed="rId2"/>
          <a:stretch/>
        </p:blipFill>
        <p:spPr>
          <a:xfrm>
            <a:off x="1042920" y="1628640"/>
            <a:ext cx="6962760" cy="5011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1" descr="http://www.proxvost.info/animals/europe/images/european_hare/european_hare_800.jpg"/>
          <p:cNvPicPr/>
          <p:nvPr/>
        </p:nvPicPr>
        <p:blipFill>
          <a:blip r:embed="rId3"/>
          <a:stretch/>
        </p:blipFill>
        <p:spPr>
          <a:xfrm>
            <a:off x="1042920" y="1484280"/>
            <a:ext cx="711540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сыл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roxvost.info/animals/europe/images/european_hare/european_hare_800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go.mail.ru/search_images?rch=l&amp;type=all&amp;is=0&amp;q=%D0%B7%D0%B0%D1%8F%D1%86+#w=412&amp;h=562&amp;s=49699&amp;pic=http%3A%2F%2Fwww.gorinov.spb.ru%2F14zayac04.jpg&amp;page=http%3A%2F%2Fbooks.globallcom.com%2Ftag%2Fmuzhchina%2FPage-6.html&amp;descr=zayac%20|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o6oi.ru/main.php/wallpapers/animals_world/animals/hares_and_rabbits/134.jpg.html?g2_imageViewsIndex=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onua.com.ua/uploads/posts/2009-02/1234472645_1-20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vitusltd.ru/V-images/zajac_zima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animalbox.ru/wp-content/uploads/2011/08/rusak_beg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img-fotki.yandex.ru/get/3907/verasambros.55/0_38b33_df4c0164_X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s1.badfon.ru/image/22810-1920x1200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fs107.taba.ru/dev73/0/014/551/0014551757.fid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www.kto-takoy.ru/wp-content/uploads/2010/03/00zayats2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ttp://www.sunhome.ru/UsersGallery/wallpapers/41/28102750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ttp://hq-oboi.ru/photo/belyy_zayac_1600x1200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ttp://www.coollady.ru/pic/0001/krolik/13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papers.ru/wallpapers/animals/rabbits/1827/1280x960_%D0%97%D0%B0%D0%B9%D1%87%D0%B8%D1%85%D0%B0-%D1%81-%D0%B7%D0%B0%D0%B9%D1%87%D0%B5%D0%BD%D0%BA%D0%BE%D0%BC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ttp://club.foto.ru/gallery/images/photo/2007/08/12/914338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ttp://img114.imageshack.us/img114/6353/rabbit012di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ttp://zastavok.ru/wallpapers/783-1600x1200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ttp://o6oi.ru/main.php/171255-2/215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J0346439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832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йчик живёт в лес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http://www.gorinov.spb.ru/14zayac04.jpg"/>
          <p:cNvPicPr/>
          <p:nvPr/>
        </p:nvPicPr>
        <p:blipFill>
          <a:blip r:embed="rId2"/>
          <a:stretch/>
        </p:blipFill>
        <p:spPr>
          <a:xfrm>
            <a:off x="2340000" y="1504800"/>
            <a:ext cx="3924360" cy="535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832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яц живёт в норке, которую он роет сам. Так он прячется от врагов: лисы и во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&amp;Zcy;&amp;acy;&amp;yacy;&amp;tscy; &amp;rcy;&amp;ycy;&amp;zhcy;&amp;icy;&amp;jcy;"/>
          <p:cNvPicPr/>
          <p:nvPr/>
        </p:nvPicPr>
        <p:blipFill>
          <a:blip r:embed="rId1"/>
          <a:stretch/>
        </p:blipFill>
        <p:spPr>
          <a:xfrm>
            <a:off x="755640" y="1916280"/>
            <a:ext cx="7655040" cy="472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J0346439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832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Летом заяц ест разную травку, яблоки, семена, ягоды, очень любит морковку и капуст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http://onua.com.ua/uploads/posts/2009-02/1234472645_1-20.jpg"/>
          <p:cNvPicPr/>
          <p:nvPr/>
        </p:nvPicPr>
        <p:blipFill>
          <a:blip r:embed="rId2"/>
          <a:stretch/>
        </p:blipFill>
        <p:spPr>
          <a:xfrm>
            <a:off x="395280" y="1847880"/>
            <a:ext cx="8209080" cy="501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J0346439"/>
          <p:cNvPicPr/>
          <p:nvPr/>
        </p:nvPicPr>
        <p:blipFill>
          <a:blip r:embed="rId1"/>
          <a:stretch/>
        </p:blipFill>
        <p:spPr>
          <a:xfrm>
            <a:off x="971640" y="-4140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832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имой заяц грызет кору деревь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http://vitusltd.ru/V-images/zajac_zima.jpg"/>
          <p:cNvPicPr/>
          <p:nvPr/>
        </p:nvPicPr>
        <p:blipFill>
          <a:blip r:embed="rId2"/>
          <a:stretch/>
        </p:blipFill>
        <p:spPr>
          <a:xfrm>
            <a:off x="1908000" y="1484280"/>
            <a:ext cx="575964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J0346439"/>
          <p:cNvPicPr/>
          <p:nvPr/>
        </p:nvPicPr>
        <p:blipFill>
          <a:blip r:embed="rId1"/>
          <a:stretch/>
        </p:blipFill>
        <p:spPr>
          <a:xfrm>
            <a:off x="-396720" y="-4140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832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йчика называют «трусишкой», он очень быстро бег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http://animalbox.ru/wp-content/uploads/2011/08/rusak_beg.jpg"/>
          <p:cNvPicPr/>
          <p:nvPr/>
        </p:nvPicPr>
        <p:blipFill>
          <a:blip r:embed="rId2"/>
          <a:stretch/>
        </p:blipFill>
        <p:spPr>
          <a:xfrm>
            <a:off x="395280" y="1557360"/>
            <a:ext cx="8312040" cy="51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J0346439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832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След зайца на снегу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http://img-fotki.yandex.ru/get/3907/verasambros.55/0_38b33_df4c0164_XL"/>
          <p:cNvPicPr/>
          <p:nvPr/>
        </p:nvPicPr>
        <p:blipFill>
          <a:blip r:embed="rId2"/>
          <a:stretch/>
        </p:blipFill>
        <p:spPr>
          <a:xfrm>
            <a:off x="755640" y="1484280"/>
            <a:ext cx="762012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J0346439"/>
          <p:cNvPicPr/>
          <p:nvPr/>
        </p:nvPicPr>
        <p:blipFill>
          <a:blip r:embed="rId1"/>
          <a:stretch/>
        </p:blipFill>
        <p:spPr>
          <a:xfrm>
            <a:off x="-396720" y="-4140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832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н может быстро запутать свои сле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http://s1.badfon.ru/image/22810-1920x1200.jpg"/>
          <p:cNvPicPr/>
          <p:nvPr/>
        </p:nvPicPr>
        <p:blipFill>
          <a:blip r:embed="rId2"/>
          <a:stretch/>
        </p:blipFill>
        <p:spPr>
          <a:xfrm>
            <a:off x="0" y="1484280"/>
            <a:ext cx="9072720" cy="5199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7T12:33:36Z</dcterms:created>
  <dc:creator>Шаховская</dc:creator>
  <dc:description/>
  <dc:language>en-US</dc:language>
  <cp:lastModifiedBy>норд с3</cp:lastModifiedBy>
  <dcterms:modified xsi:type="dcterms:W3CDTF">2018-01-29T14:00:45Z</dcterms:modified>
  <cp:revision>44</cp:revision>
  <dc:subject/>
  <dc:title>Слайд 1</dc:title>
</cp:coreProperties>
</file>