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png" ContentType="image/png"/>
  <Override PartName="/ppt/media/image18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EE4-A0DA-4290-8E5B-122E3E09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3F1-C109-4B97-BFF6-5C0A6414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A90-C40E-4F84-AF89-8396B7EA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95F-93F8-4B20-8824-A1659A8A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093-A539-4D53-8EDD-FECD27E9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EF3-C70A-4EE4-935D-29FE2DC0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528-ECED-4785-ADD2-3D6DCFBB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D99-3332-435D-8FC3-A81DAE12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B64-7295-472B-B439-45378A5B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BF1-BEEC-4300-9E31-89C4E55F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613-CB8A-4C03-889C-09EE047F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FCE-8510-4178-A334-A9BB7997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1371-1F6B-4309-A46F-6BED0BDB9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7.png"/><Relationship Id="rId6" Type="http://schemas.openxmlformats.org/officeDocument/2006/relationships/image" Target="../media/image19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6.png"/><Relationship Id="rId6" Type="http://schemas.openxmlformats.org/officeDocument/2006/relationships/image" Target="../media/image28.jpe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6.png"/><Relationship Id="rId4" Type="http://schemas.openxmlformats.org/officeDocument/2006/relationships/image" Target="../media/image29.jpe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457200"/>
            <a:ext cx="292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учае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876920" y="609480"/>
            <a:ext cx="1981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анры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167652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образительного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00400" y="3048120"/>
            <a:ext cx="255276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усства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0"/>
          <a:stretch/>
        </p:blipFill>
        <p:spPr>
          <a:xfrm>
            <a:off x="3657600" y="4191120"/>
            <a:ext cx="1828800" cy="250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1"/>
          <a:stretch/>
        </p:blipFill>
        <p:spPr>
          <a:xfrm>
            <a:off x="228600" y="4114800"/>
            <a:ext cx="297180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12"/>
          <a:stretch/>
        </p:blipFill>
        <p:spPr>
          <a:xfrm>
            <a:off x="5943600" y="411480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228600"/>
            <a:ext cx="74674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расширение знаний детей о разнообразии жанров изобразительного искусства, а также знакомство с выдающимися произведениями этого искусства и великими худож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38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Образо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закрепить знания о  жанрах изобразительного искус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продолжать работу над развитием умения различать жанры изобразительного искус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познакомить детей с отдельными жанрами, особенностями их выражения в произведениях изобразительного искусства выработать у детей интерес к работам худож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800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воспитывать любовь к изобразительному искусст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способствовать повышению эстетической культуры воспитан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80988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Интерес к жанрам изобразительного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19520" y="76212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Если видишь на карт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Смотрит кто - ни будь на н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Или принц в плаще старинн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Или в роде верхол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Летчик или балер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Или Колька - твой сос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Обязательно картина, </a:t>
            </a: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Называется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358164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3462480" cy="2033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80880" y="4038480"/>
            <a:ext cx="4038840" cy="2590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648320" y="4038480"/>
            <a:ext cx="4190760" cy="259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80880" y="685800"/>
            <a:ext cx="212904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80880" y="609480"/>
            <a:ext cx="217512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6781680" y="838080"/>
            <a:ext cx="208620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781680" y="685800"/>
            <a:ext cx="2175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28600"/>
            <a:ext cx="83818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ртрет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– это жанр изобразительного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Портретом называют картину с изображение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или группы людей. В портретах художники стремятся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только точно передать внешнее сходство, но и характер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2251080" cy="375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2349360" cy="3886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124080" y="3200400"/>
            <a:ext cx="2059200" cy="272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971800" y="3200400"/>
            <a:ext cx="234936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791320" y="2514600"/>
            <a:ext cx="297180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5791320" y="2438280"/>
            <a:ext cx="304776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5040" y="6132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228600" y="634032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.Е. Маковский                       «Дети бегущие от гроз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63244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. Брюлова «Всадниц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59436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. Тимофеев «Девочка с ягодо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62520" y="60156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533520"/>
            <a:ext cx="40384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Если видишь на карт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Нарисована р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ель и белый и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сад и обла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снежная равн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поле и шалаш,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Обязательно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Называется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208240" cy="3353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514600" cy="3657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514600" y="4191120"/>
            <a:ext cx="4038480" cy="241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362320" y="4038480"/>
            <a:ext cx="4343400" cy="2643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172200" y="304920"/>
            <a:ext cx="2666880" cy="3581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6019920" y="152280"/>
            <a:ext cx="2895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152280"/>
            <a:ext cx="723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ейзаж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– рисунок или картина изображающие природу.      Пейзаж французское слово, дословный перевод –«местность»   В пейзажной картине представлено изображение  - открытого пространства водной или земной поверх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.И. Шишкин «Пшеничное пол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63244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.Э. Грабарь «Зимуш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387828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.И. Левитан «Золотая осе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438280" y="1766880"/>
            <a:ext cx="3505320" cy="2063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3581640" cy="2063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80880" y="4267080"/>
            <a:ext cx="3657600" cy="198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80880" y="4191120"/>
            <a:ext cx="3886200" cy="206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181480" y="4267080"/>
            <a:ext cx="335304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5105520" y="4191120"/>
            <a:ext cx="35812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38280" y="37296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04920"/>
            <a:ext cx="48006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Если видишь на карт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Чашку кофе на стол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морс в большом графин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розу в хрустал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бронзовую ваз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грушу, или тор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все предметы сразу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Знай, что это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АТЮРМ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3429000" cy="2209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3733560" cy="2602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952880" y="3973680"/>
            <a:ext cx="3733920" cy="237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33520" y="3886200"/>
            <a:ext cx="3733560" cy="2602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952880" y="3886200"/>
            <a:ext cx="37339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66680" y="304920"/>
            <a:ext cx="685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тюрморт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– это жанр изобразительного искусства. Произведения этого жанра – изображение предметов или природных форм. На этих картинах художники передают красочное богатство и разнообразие предметно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410080" y="4495680"/>
            <a:ext cx="2819520" cy="1676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85800" y="441972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3124080" y="205740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5334120" y="4419720"/>
            <a:ext cx="3047760" cy="1828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43000" y="63244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. Ильева «Урожа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3886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.А. Вещилов «Ваза с цветам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. Тимофеев «Дары ле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7T13:36:27Z</dcterms:created>
  <dc:creator>user</dc:creator>
  <dc:description/>
  <dc:language>en-US</dc:language>
  <cp:lastModifiedBy>user</cp:lastModifiedBy>
  <dcterms:modified xsi:type="dcterms:W3CDTF">2018-01-28T15:47:0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