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2F6-D0CE-4CA3-9FBD-0332A6FC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416-3BD6-4A3E-BF4C-388FE913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5FF-8F34-4445-AF60-6B554E3A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5D5-DE84-44B4-A0BC-A93404A4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BFE0-BD5C-4CBA-BCF7-877A286D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D91F-5CE2-4EF0-8A60-F8848D41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20C9-778D-403B-8C2D-0F982D5A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78BA-C8EB-49BE-A041-E2F86D86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FCEA-0E25-4993-915F-02FD3C5D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2460-F211-4E2C-B2FA-464D4C8B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E586-A055-4ACA-B50F-0522484D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AD7-48C4-4EA1-A377-4FB2D01C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EDE3-0111-410C-A920-0B116FA8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0558-EA8B-4067-BF72-CF184E07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4097-5E43-47F0-9350-54B45BF4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7C98-4206-4BAC-821C-20DAF402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F26C-2457-4498-8648-B12A8902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0F65A-F3DD-4132-9D5A-E8D5465F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5F49D-7C7E-4B00-83A9-4DC18313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27790-E7BC-4377-92E9-4D285724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80A0F-0851-4E36-9D20-588C65E6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7171-264B-4B3C-AD70-0E372D75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737-FC85-4CA0-A7C3-0D4BE571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6B4E9-038E-4E55-AA4C-4428F778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9AC2-6658-4A0F-AD63-D42DB093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666C1-400A-4307-B7B9-63361428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9CB9-90B5-42A2-AB76-11D5F8BE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6696-A7F9-4A85-8DA7-80E6079C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9AF3-E302-40B3-83C9-0CFE2633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3704-F562-4FA1-9B66-B28D53E8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5F7B-F050-45EE-B49E-EC2069EA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8410-F014-4DF7-B524-092928E6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9057-9464-4360-B363-5438D198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0DF-71D8-421E-B046-E7EB322D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B29B-9035-4F2E-B79B-BAE144DE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9B1E-80FA-47DF-AD9D-78006AC4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6CE2-63B8-488B-B410-53C23D9B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5CFF8-BCA4-4548-9F2A-64375FD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8B3B-07BA-45C1-9A06-5C7A812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D2C28-69C5-4533-90B6-1DC370A9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86BEB-3802-437C-B406-40350579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60A3-4DF3-482E-BDB6-EE50EF8F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A25C3-9210-4F00-B27E-69773360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406F8-FBCD-4A42-86D5-AA03A4FF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BE9-D1B2-4A82-B5B7-119A8AAB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44343-F51F-4510-9C2E-76A4AFAD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4FD29-D406-495C-9A16-9CE05729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DCD46-2523-4BC6-B5F7-30F2409F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A1B3F-B88D-4508-8786-E0BE9B60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E08E2-89CD-4556-B00A-EAD9220B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6DFA-06C7-4F1A-B4CC-09334B8B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75F81-0E42-4F2E-AB15-A235DC0E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3EA1-6DAC-4C3E-B7F8-05DF8C14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D970E-6A1B-452D-A22C-136CBAD1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9FEA-255B-4369-A467-95228C37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1D2-CC46-45BB-ABF8-8A2C43CB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4209B-6A6E-4A59-AB8C-13248C9E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AAD5B-8F50-4799-A4FD-981401DF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70B69-E220-4892-B650-2BDBA010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BB775-767C-4F8A-B578-D2D3DDF6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E0B0F-AA01-4DD3-9CF1-17532C18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77F53-D382-46A6-9C32-8BB8ADF3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2854C-5C8A-4081-8786-333B3658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C7EB9-B9A7-4414-B96A-3F6586B3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F2B8B-00A5-44E2-82E8-BEA62FC0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844DA-F4A7-42A5-B4A4-D50B8873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69C-5A59-4C7E-8AB9-A2E8B041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A1CD1-E7BE-4FA5-8354-D199BEF0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30753-3D4C-4E12-A203-0F1C5098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106F-342F-4685-A528-6EC9B868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003-0B25-4CD6-B933-36FECDD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BDF-876F-47C4-B87B-0C669E0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E402-FF52-4387-9BA0-DFD46009A1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2D7A-C5BF-49DE-BFBD-2061E7C12E8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A5BC-5E94-47B6-BCDF-C56C35EF55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DCC2-590E-4197-888E-2953D9641C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6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7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C647-A498-4762-9E45-3932CFA09E7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2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FC0E-7CE0-4C6E-A01F-057459EAC2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9966"/>
                </a:solidFill>
                <a:latin typeface="Tahoma"/>
              </a:rPr>
              <a:t>Дәреснең темасы: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Хәл һәм аның төрләре. Урын хәле.»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250560" y="17733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Макса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укучыларны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ң күзәтүчәлекләрен, фикерләү, чагыштыра белү сәләтләрен, сөйләм телләрен үстер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ahoma"/>
                <a:ea typeface="Arial"/>
              </a:rPr>
              <a:t>   </a:t>
            </a:r>
            <a:r>
              <a:rPr b="1" lang="ru-RU" sz="2800" spc="-1" strike="noStrike">
                <a:solidFill>
                  <a:srgbClr val="ff9966"/>
                </a:solidFill>
                <a:latin typeface="Tahoma"/>
                <a:ea typeface="Arial"/>
              </a:rPr>
              <a:t>Бурычла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  <a:ea typeface="Arial"/>
              </a:rPr>
              <a:t>1. Җөмлә кисәкләре турында өйрәнгәннәрне искә төшер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  <a:ea typeface="Arial"/>
              </a:rPr>
              <a:t>2. Укучыларга  х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әлләр, хәлләрнең бирелешен аңлату, аларның төркемчәләргә бүленешен ачыкл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3. Урын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  <a:ea typeface="Arial"/>
              </a:rPr>
              <a:t>х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әле.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  <a:ea typeface="Arial"/>
              </a:rPr>
              <a:t>Укучыларга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урын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  <a:ea typeface="Arial"/>
              </a:rPr>
              <a:t>х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әлен таба һәм аларга хас үзенчәлекләрне таный белергә өйрәнү өчен ярдәм ит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9"/>
          <p:cNvSpPr/>
          <p:nvPr/>
        </p:nvSpPr>
        <p:spPr>
          <a:xfrm>
            <a:off x="1332000" y="2637000"/>
            <a:ext cx="2735280" cy="360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ш к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әклә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4067280" y="1989000"/>
            <a:ext cx="151272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2627280" y="836640"/>
            <a:ext cx="4465800" cy="1368360"/>
          </a:xfrm>
          <a:prstGeom prst="cloudCallout">
            <a:avLst>
              <a:gd name="adj1" fmla="val 939"/>
              <a:gd name="adj2" fmla="val 40486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  <a:ea typeface="Arial"/>
              </a:rPr>
              <a:t>Җөмлә кисәкләренең шә</a:t>
            </a:r>
            <a:r>
              <a:rPr b="1" lang="ru-RU" sz="2800" spc="-1" strike="noStrike">
                <a:solidFill>
                  <a:srgbClr val="ff9966"/>
                </a:solidFill>
                <a:latin typeface="Arial Black"/>
                <a:ea typeface="Arial"/>
              </a:rPr>
              <a:t>җ</a:t>
            </a:r>
            <a:r>
              <a:rPr b="1" lang="ru-RU" sz="2800" spc="-1" strike="noStrike">
                <a:solidFill>
                  <a:srgbClr val="ff9966"/>
                </a:solidFill>
                <a:latin typeface="Arial"/>
                <a:ea typeface="Arial"/>
              </a:rPr>
              <a:t>әрә агачы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981000"/>
            <a:ext cx="80074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Җөмлә кисәклә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826920" y="2924280"/>
            <a:ext cx="800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5292720" y="2637000"/>
            <a:ext cx="2735280" cy="360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ярчен кисәклә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395280" y="3284640"/>
            <a:ext cx="934920" cy="3585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1979640" y="3284640"/>
            <a:ext cx="934920" cy="3585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әбә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3924360" y="3284640"/>
            <a:ext cx="934920" cy="3585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әмамлы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5148360" y="3284640"/>
            <a:ext cx="934920" cy="3585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ергы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5"/>
          <p:cNvSpPr/>
          <p:nvPr/>
        </p:nvSpPr>
        <p:spPr>
          <a:xfrm>
            <a:off x="6156360" y="3284640"/>
            <a:ext cx="863640" cy="3585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ә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7093080" y="3284640"/>
            <a:ext cx="936360" cy="3585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ыклагы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7"/>
          <p:cNvSpPr/>
          <p:nvPr/>
        </p:nvSpPr>
        <p:spPr>
          <a:xfrm>
            <a:off x="8101080" y="3284640"/>
            <a:ext cx="86364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а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әклә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179280" y="3860640"/>
            <a:ext cx="50508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826920" y="3860640"/>
            <a:ext cx="50508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1692360" y="3860640"/>
            <a:ext cx="64764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гы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әбә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2484360" y="3860640"/>
            <a:ext cx="57636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әбә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3348000" y="3860640"/>
            <a:ext cx="79236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әмамлы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3"/>
          <p:cNvSpPr/>
          <p:nvPr/>
        </p:nvSpPr>
        <p:spPr>
          <a:xfrm>
            <a:off x="4211640" y="3860640"/>
            <a:ext cx="720720" cy="5050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ы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әмамлы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4"/>
          <p:cNvSpPr/>
          <p:nvPr/>
        </p:nvSpPr>
        <p:spPr>
          <a:xfrm>
            <a:off x="5003640" y="3860640"/>
            <a:ext cx="649440" cy="720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ңдә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ергы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5"/>
          <p:cNvSpPr/>
          <p:nvPr/>
        </p:nvSpPr>
        <p:spPr>
          <a:xfrm>
            <a:off x="5796000" y="3860640"/>
            <a:ext cx="647640" cy="720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ңдә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үг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ергы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6"/>
          <p:cNvSpPr/>
          <p:nvPr/>
        </p:nvSpPr>
        <p:spPr>
          <a:xfrm>
            <a:off x="7380360" y="4076640"/>
            <a:ext cx="792000" cy="43200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ә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үзлә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7"/>
          <p:cNvSpPr/>
          <p:nvPr/>
        </p:nvSpPr>
        <p:spPr>
          <a:xfrm>
            <a:off x="8244000" y="4076640"/>
            <a:ext cx="720720" cy="43200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е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үзлә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8"/>
          <p:cNvSpPr/>
          <p:nvPr/>
        </p:nvSpPr>
        <p:spPr>
          <a:xfrm>
            <a:off x="179280" y="4724280"/>
            <a:ext cx="505080" cy="792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гы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әбә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9"/>
          <p:cNvSpPr/>
          <p:nvPr/>
        </p:nvSpPr>
        <p:spPr>
          <a:xfrm>
            <a:off x="755640" y="4724280"/>
            <a:ext cx="576360" cy="792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ә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гы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әбә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0"/>
          <p:cNvSpPr/>
          <p:nvPr/>
        </p:nvSpPr>
        <p:spPr>
          <a:xfrm>
            <a:off x="1403280" y="4724280"/>
            <a:ext cx="647640" cy="792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ш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гы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әбә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1"/>
          <p:cNvSpPr/>
          <p:nvPr/>
        </p:nvSpPr>
        <p:spPr>
          <a:xfrm>
            <a:off x="2195640" y="4724280"/>
            <a:ext cx="576000" cy="792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әбә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2"/>
          <p:cNvSpPr/>
          <p:nvPr/>
        </p:nvSpPr>
        <p:spPr>
          <a:xfrm>
            <a:off x="2916360" y="4724280"/>
            <a:ext cx="503280" cy="792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әбә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3492360" y="4724280"/>
            <a:ext cx="503280" cy="792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ш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әбә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4"/>
          <p:cNvSpPr/>
          <p:nvPr/>
        </p:nvSpPr>
        <p:spPr>
          <a:xfrm>
            <a:off x="3203640" y="5805360"/>
            <a:ext cx="72072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5"/>
          <p:cNvSpPr/>
          <p:nvPr/>
        </p:nvSpPr>
        <p:spPr>
          <a:xfrm>
            <a:off x="2411280" y="5805360"/>
            <a:ext cx="71928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6"/>
          <p:cNvSpPr/>
          <p:nvPr/>
        </p:nvSpPr>
        <p:spPr>
          <a:xfrm>
            <a:off x="3995640" y="5805360"/>
            <a:ext cx="72252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7"/>
          <p:cNvSpPr/>
          <p:nvPr/>
        </p:nvSpPr>
        <p:spPr>
          <a:xfrm>
            <a:off x="4788000" y="5805360"/>
            <a:ext cx="79200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8"/>
          <p:cNvSpPr/>
          <p:nvPr/>
        </p:nvSpPr>
        <p:spPr>
          <a:xfrm>
            <a:off x="8172360" y="5805360"/>
            <a:ext cx="79236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9"/>
          <p:cNvSpPr/>
          <p:nvPr/>
        </p:nvSpPr>
        <p:spPr>
          <a:xfrm>
            <a:off x="7236000" y="5805360"/>
            <a:ext cx="79200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0"/>
          <p:cNvSpPr/>
          <p:nvPr/>
        </p:nvSpPr>
        <p:spPr>
          <a:xfrm>
            <a:off x="6443640" y="5805360"/>
            <a:ext cx="72072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1"/>
          <p:cNvSpPr/>
          <p:nvPr/>
        </p:nvSpPr>
        <p:spPr>
          <a:xfrm>
            <a:off x="5651640" y="5805360"/>
            <a:ext cx="718920" cy="503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2"/>
          <p:cNvSpPr/>
          <p:nvPr/>
        </p:nvSpPr>
        <p:spPr>
          <a:xfrm flipH="1">
            <a:off x="2627280" y="2492280"/>
            <a:ext cx="1440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3"/>
          <p:cNvSpPr/>
          <p:nvPr/>
        </p:nvSpPr>
        <p:spPr>
          <a:xfrm>
            <a:off x="5580000" y="2492280"/>
            <a:ext cx="151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4"/>
          <p:cNvSpPr/>
          <p:nvPr/>
        </p:nvSpPr>
        <p:spPr>
          <a:xfrm flipH="1">
            <a:off x="755280" y="2997360"/>
            <a:ext cx="180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5"/>
          <p:cNvSpPr/>
          <p:nvPr/>
        </p:nvSpPr>
        <p:spPr>
          <a:xfrm>
            <a:off x="255600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6"/>
          <p:cNvSpPr/>
          <p:nvPr/>
        </p:nvSpPr>
        <p:spPr>
          <a:xfrm flipH="1">
            <a:off x="468360" y="364500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7"/>
          <p:cNvSpPr/>
          <p:nvPr/>
        </p:nvSpPr>
        <p:spPr>
          <a:xfrm>
            <a:off x="755640" y="364500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8"/>
          <p:cNvSpPr/>
          <p:nvPr/>
        </p:nvSpPr>
        <p:spPr>
          <a:xfrm flipH="1">
            <a:off x="1979280" y="364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9"/>
          <p:cNvSpPr/>
          <p:nvPr/>
        </p:nvSpPr>
        <p:spPr>
          <a:xfrm>
            <a:off x="2340000" y="364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0"/>
          <p:cNvSpPr/>
          <p:nvPr/>
        </p:nvSpPr>
        <p:spPr>
          <a:xfrm flipH="1">
            <a:off x="394920" y="4365720"/>
            <a:ext cx="158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51"/>
          <p:cNvSpPr/>
          <p:nvPr/>
        </p:nvSpPr>
        <p:spPr>
          <a:xfrm flipH="1">
            <a:off x="1115640" y="4365720"/>
            <a:ext cx="863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2"/>
          <p:cNvSpPr/>
          <p:nvPr/>
        </p:nvSpPr>
        <p:spPr>
          <a:xfrm flipH="1">
            <a:off x="1763640" y="4365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3"/>
          <p:cNvSpPr/>
          <p:nvPr/>
        </p:nvSpPr>
        <p:spPr>
          <a:xfrm flipH="1">
            <a:off x="2555640" y="4365720"/>
            <a:ext cx="215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4"/>
          <p:cNvSpPr/>
          <p:nvPr/>
        </p:nvSpPr>
        <p:spPr>
          <a:xfrm>
            <a:off x="2771640" y="4365720"/>
            <a:ext cx="432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5"/>
          <p:cNvSpPr/>
          <p:nvPr/>
        </p:nvSpPr>
        <p:spPr>
          <a:xfrm>
            <a:off x="2771640" y="4365720"/>
            <a:ext cx="1008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6"/>
          <p:cNvSpPr/>
          <p:nvPr/>
        </p:nvSpPr>
        <p:spPr>
          <a:xfrm flipH="1">
            <a:off x="3780000" y="3645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7"/>
          <p:cNvSpPr/>
          <p:nvPr/>
        </p:nvSpPr>
        <p:spPr>
          <a:xfrm>
            <a:off x="4356000" y="364500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8"/>
          <p:cNvSpPr/>
          <p:nvPr/>
        </p:nvSpPr>
        <p:spPr>
          <a:xfrm flipH="1">
            <a:off x="4572000" y="2997360"/>
            <a:ext cx="20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9"/>
          <p:cNvSpPr/>
          <p:nvPr/>
        </p:nvSpPr>
        <p:spPr>
          <a:xfrm flipH="1">
            <a:off x="5724000" y="299736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1"/>
          <p:cNvSpPr/>
          <p:nvPr/>
        </p:nvSpPr>
        <p:spPr>
          <a:xfrm>
            <a:off x="658800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2"/>
          <p:cNvSpPr/>
          <p:nvPr/>
        </p:nvSpPr>
        <p:spPr>
          <a:xfrm>
            <a:off x="6588000" y="2997360"/>
            <a:ext cx="936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3"/>
          <p:cNvSpPr/>
          <p:nvPr/>
        </p:nvSpPr>
        <p:spPr>
          <a:xfrm>
            <a:off x="6588000" y="2997360"/>
            <a:ext cx="201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4"/>
          <p:cNvSpPr/>
          <p:nvPr/>
        </p:nvSpPr>
        <p:spPr>
          <a:xfrm flipH="1">
            <a:off x="5292360" y="3645000"/>
            <a:ext cx="358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5"/>
          <p:cNvSpPr/>
          <p:nvPr/>
        </p:nvSpPr>
        <p:spPr>
          <a:xfrm>
            <a:off x="5651640" y="3645000"/>
            <a:ext cx="43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66"/>
          <p:cNvSpPr/>
          <p:nvPr/>
        </p:nvSpPr>
        <p:spPr>
          <a:xfrm flipH="1">
            <a:off x="8027640" y="378936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7"/>
          <p:cNvSpPr/>
          <p:nvPr/>
        </p:nvSpPr>
        <p:spPr>
          <a:xfrm>
            <a:off x="8459640" y="3789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8"/>
          <p:cNvSpPr/>
          <p:nvPr/>
        </p:nvSpPr>
        <p:spPr>
          <a:xfrm>
            <a:off x="6588000" y="364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69"/>
          <p:cNvSpPr/>
          <p:nvPr/>
        </p:nvSpPr>
        <p:spPr>
          <a:xfrm flipH="1">
            <a:off x="2771280" y="4869000"/>
            <a:ext cx="3816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70"/>
          <p:cNvSpPr/>
          <p:nvPr/>
        </p:nvSpPr>
        <p:spPr>
          <a:xfrm flipH="1">
            <a:off x="3635280" y="4869000"/>
            <a:ext cx="295272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71"/>
          <p:cNvSpPr/>
          <p:nvPr/>
        </p:nvSpPr>
        <p:spPr>
          <a:xfrm flipH="1">
            <a:off x="4427280" y="4869000"/>
            <a:ext cx="2160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72"/>
          <p:cNvSpPr/>
          <p:nvPr/>
        </p:nvSpPr>
        <p:spPr>
          <a:xfrm flipH="1">
            <a:off x="5219280" y="486900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3"/>
          <p:cNvSpPr/>
          <p:nvPr/>
        </p:nvSpPr>
        <p:spPr>
          <a:xfrm flipH="1">
            <a:off x="6012000" y="4869000"/>
            <a:ext cx="57600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4"/>
          <p:cNvSpPr/>
          <p:nvPr/>
        </p:nvSpPr>
        <p:spPr>
          <a:xfrm>
            <a:off x="6588000" y="486900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75"/>
          <p:cNvSpPr/>
          <p:nvPr/>
        </p:nvSpPr>
        <p:spPr>
          <a:xfrm>
            <a:off x="6588000" y="4869000"/>
            <a:ext cx="1224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6"/>
          <p:cNvSpPr/>
          <p:nvPr/>
        </p:nvSpPr>
        <p:spPr>
          <a:xfrm>
            <a:off x="6588000" y="4869000"/>
            <a:ext cx="2087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Oval 31"/>
          <p:cNvSpPr/>
          <p:nvPr/>
        </p:nvSpPr>
        <p:spPr>
          <a:xfrm>
            <a:off x="6372360" y="5516640"/>
            <a:ext cx="1152360" cy="647640"/>
          </a:xfrm>
          <a:prstGeom prst="ellipse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2"/>
          <p:cNvSpPr/>
          <p:nvPr/>
        </p:nvSpPr>
        <p:spPr>
          <a:xfrm>
            <a:off x="5003640" y="4941720"/>
            <a:ext cx="1224000" cy="648000"/>
          </a:xfrm>
          <a:prstGeom prst="ellipse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26"/>
          <p:cNvSpPr/>
          <p:nvPr/>
        </p:nvSpPr>
        <p:spPr>
          <a:xfrm>
            <a:off x="7308720" y="4365720"/>
            <a:ext cx="1295640" cy="647640"/>
          </a:xfrm>
          <a:prstGeom prst="ellipse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7"/>
          <p:cNvSpPr/>
          <p:nvPr/>
        </p:nvSpPr>
        <p:spPr>
          <a:xfrm>
            <a:off x="4859280" y="3860640"/>
            <a:ext cx="1370160" cy="648000"/>
          </a:xfrm>
          <a:prstGeom prst="ellipse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28"/>
          <p:cNvSpPr/>
          <p:nvPr/>
        </p:nvSpPr>
        <p:spPr>
          <a:xfrm>
            <a:off x="7380360" y="2492280"/>
            <a:ext cx="1152360" cy="647640"/>
          </a:xfrm>
          <a:prstGeom prst="ellipse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29"/>
          <p:cNvSpPr/>
          <p:nvPr/>
        </p:nvSpPr>
        <p:spPr>
          <a:xfrm>
            <a:off x="5003640" y="1916280"/>
            <a:ext cx="1152720" cy="647640"/>
          </a:xfrm>
          <a:prstGeom prst="ellipse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25"/>
          <p:cNvSpPr/>
          <p:nvPr/>
        </p:nvSpPr>
        <p:spPr>
          <a:xfrm>
            <a:off x="7451640" y="1413000"/>
            <a:ext cx="1152720" cy="647640"/>
          </a:xfrm>
          <a:prstGeom prst="ellipse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4"/>
          <p:cNvSpPr/>
          <p:nvPr/>
        </p:nvSpPr>
        <p:spPr>
          <a:xfrm>
            <a:off x="5940360" y="1125360"/>
            <a:ext cx="1224000" cy="648000"/>
          </a:xfrm>
          <a:prstGeom prst="ellipse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Хәлләр гаиләсе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586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1. Балаларым! Басуыбыз эченд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ә бер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хәзинә бар. Әмма кай җирен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күмелгән икәнен белә алмадым. </a:t>
            </a:r>
            <a:r>
              <a:rPr b="0" i="1" lang="ru-RU" sz="1000" spc="-1" strike="noStrike">
                <a:solidFill>
                  <a:srgbClr val="3333cc"/>
                </a:solidFill>
                <a:latin typeface="Arial"/>
                <a:ea typeface="Arial"/>
              </a:rPr>
              <a:t>(Дәрдемәнд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2.Хәзер миңа элеккегә караганда да иртәрә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торырга туры килә. </a:t>
            </a:r>
            <a:r>
              <a:rPr b="0" i="1" lang="ru-RU" sz="1000" spc="-1" strike="noStrike">
                <a:solidFill>
                  <a:srgbClr val="3333cc"/>
                </a:solidFill>
                <a:latin typeface="Arial"/>
                <a:ea typeface="Arial"/>
              </a:rPr>
              <a:t>(А.Алиш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3.Алдымда ак кар җәелгөн ялтырап, ап-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                                                      </a:t>
            </a: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булып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Энҗе-мәрҗәннәр чәчелгән өстенә вак-в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булып</a:t>
            </a:r>
            <a:r>
              <a:rPr b="0" i="1" lang="ru-RU" sz="1000" spc="-1" strike="noStrike">
                <a:solidFill>
                  <a:srgbClr val="3333cc"/>
                </a:solidFill>
                <a:latin typeface="Arial"/>
                <a:ea typeface="Arial"/>
              </a:rPr>
              <a:t>.    (Ш. Бабич</a:t>
            </a: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4. Ләкин бу биш-алты сәгать миңа күз ачы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йому кадәрле дә тоелмады. </a:t>
            </a:r>
            <a:r>
              <a:rPr b="0" i="1" lang="ru-RU" sz="1000" spc="-1" strike="noStrike">
                <a:solidFill>
                  <a:srgbClr val="3333cc"/>
                </a:solidFill>
                <a:latin typeface="Arial"/>
                <a:ea typeface="Arial"/>
              </a:rPr>
              <a:t>(Г. Ибраһимо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5. Агачлардан җанга ятыш әйбер ясар өче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ничәмә ничә корал кулланалар. </a:t>
            </a:r>
            <a:r>
              <a:rPr b="0" i="1" lang="ru-RU" sz="1000" spc="-1" strike="noStrike">
                <a:solidFill>
                  <a:srgbClr val="3333cc"/>
                </a:solidFill>
                <a:latin typeface="Arial"/>
                <a:ea typeface="Arial"/>
              </a:rPr>
              <a:t>(Ф.Яруллин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6.Ял итәргә, тамакны туйдыры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туктаган идек. </a:t>
            </a:r>
            <a:r>
              <a:rPr b="0" i="1" lang="ru-RU" sz="1000" spc="-1" strike="noStrike">
                <a:solidFill>
                  <a:srgbClr val="3333cc"/>
                </a:solidFill>
                <a:latin typeface="Arial"/>
                <a:ea typeface="Arial"/>
              </a:rPr>
              <a:t>(Г.Әпсәләмо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7. Җиргә бассам арта егәрлег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Күккә баксам, иркен тын алам. </a:t>
            </a:r>
            <a:r>
              <a:rPr b="0" i="1" lang="ru-RU" sz="1000" spc="-1" strike="noStrike">
                <a:solidFill>
                  <a:srgbClr val="3333cc"/>
                </a:solidFill>
                <a:latin typeface="Arial"/>
                <a:ea typeface="Arial"/>
              </a:rPr>
              <a:t>(Э. Мөэминов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8.Көн кичкә авышсада, үзенә күрә матурланып китте. </a:t>
            </a:r>
            <a:r>
              <a:rPr b="0" i="1" lang="ru-RU" sz="1000" spc="-1" strike="noStrike">
                <a:solidFill>
                  <a:srgbClr val="3333cc"/>
                </a:solidFill>
                <a:latin typeface="Arial"/>
                <a:ea typeface="Arial"/>
              </a:rPr>
              <a:t>(Х.Хәйруллин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17960" y="1052280"/>
            <a:ext cx="3927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Урын х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әле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Вакыт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ә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Рәвеш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ә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Күләм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ә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Сәбәп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ә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Максат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ә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Шарт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ә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Кире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ә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3"/>
          <p:cNvSpPr/>
          <p:nvPr/>
        </p:nvSpPr>
        <p:spPr>
          <a:xfrm>
            <a:off x="4716360" y="98100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3"/>
          <p:cNvSpPr/>
          <p:nvPr/>
        </p:nvSpPr>
        <p:spPr>
          <a:xfrm>
            <a:off x="6156360" y="2852640"/>
            <a:ext cx="1152360" cy="1081080"/>
          </a:xfrm>
          <a:prstGeom prst="smileyFace">
            <a:avLst>
              <a:gd name="adj" fmla="val 9282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ә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5"/>
          <p:cNvSpPr/>
          <p:nvPr/>
        </p:nvSpPr>
        <p:spPr>
          <a:xfrm flipV="1">
            <a:off x="6948360" y="1844640"/>
            <a:ext cx="576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6"/>
          <p:cNvSpPr/>
          <p:nvPr/>
        </p:nvSpPr>
        <p:spPr>
          <a:xfrm flipH="1" flipV="1">
            <a:off x="5866920" y="249228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7"/>
          <p:cNvSpPr/>
          <p:nvPr/>
        </p:nvSpPr>
        <p:spPr>
          <a:xfrm flipH="1" flipV="1">
            <a:off x="6300360" y="1699920"/>
            <a:ext cx="358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8"/>
          <p:cNvSpPr/>
          <p:nvPr/>
        </p:nvSpPr>
        <p:spPr>
          <a:xfrm flipV="1">
            <a:off x="7236000" y="292392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9"/>
          <p:cNvSpPr/>
          <p:nvPr/>
        </p:nvSpPr>
        <p:spPr>
          <a:xfrm flipH="1">
            <a:off x="6084360" y="378936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0"/>
          <p:cNvSpPr/>
          <p:nvPr/>
        </p:nvSpPr>
        <p:spPr>
          <a:xfrm flipV="1">
            <a:off x="6012000" y="3933360"/>
            <a:ext cx="57600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1"/>
          <p:cNvSpPr/>
          <p:nvPr/>
        </p:nvSpPr>
        <p:spPr>
          <a:xfrm flipH="1" flipV="1">
            <a:off x="6803640" y="3933360"/>
            <a:ext cx="144360" cy="15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2"/>
          <p:cNvSpPr/>
          <p:nvPr/>
        </p:nvSpPr>
        <p:spPr>
          <a:xfrm flipH="1" flipV="1">
            <a:off x="7092720" y="386028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-13068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502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Х</a:t>
            </a:r>
            <a:r>
              <a:rPr b="0" lang="ru-RU" sz="5400" spc="-1" strike="noStrike">
                <a:solidFill>
                  <a:srgbClr val="703dff"/>
                </a:solidFill>
                <a:latin typeface="Comic Sans MS"/>
                <a:ea typeface="Arial"/>
              </a:rPr>
              <a:t>әл һәм аның төрләре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dff"/>
                </a:solidFill>
                <a:latin typeface="Comic Sans MS"/>
                <a:ea typeface="Arial"/>
              </a:rPr>
              <a:t>Урын хәле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ын х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әлендә кунакта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ш яки 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әлнең урынын белдереп, кайда? кая? кайдан? сорауларының берсенә җавап була торган хәл урын хәле бу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Җөмл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әләрдән чыгып хәл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әрне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ң үзенчәлекләрен ачыклыйк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838080" y="1905120"/>
          <a:ext cx="8007480" cy="4324320"/>
        </p:xfrm>
        <a:graphic>
          <a:graphicData uri="http://schemas.openxmlformats.org/drawingml/2006/table">
            <a:tbl>
              <a:tblPr/>
              <a:tblGrid>
                <a:gridCol w="493920"/>
                <a:gridCol w="2879640"/>
                <a:gridCol w="1152360"/>
                <a:gridCol w="1879920"/>
                <a:gridCol w="1601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ал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өчен җөмләлә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ав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ш як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әлне кайсы яктан ачыклый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чек белдере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ә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86"/>
          <p:cNvSpPr/>
          <p:nvPr/>
        </p:nvSpPr>
        <p:spPr>
          <a:xfrm>
            <a:off x="1332000" y="2708280"/>
            <a:ext cx="2879640" cy="79200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шлар, никтер 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үбәнте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чал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7"/>
          <p:cNvSpPr/>
          <p:nvPr/>
        </p:nvSpPr>
        <p:spPr>
          <a:xfrm>
            <a:off x="1332000" y="3500280"/>
            <a:ext cx="2879640" cy="6494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манда кошларга игътибарл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9"/>
          <p:cNvSpPr/>
          <p:nvPr/>
        </p:nvSpPr>
        <p:spPr>
          <a:xfrm>
            <a:off x="1332000" y="4149720"/>
            <a:ext cx="2879640" cy="6476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рналар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өньякка кит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ашладыл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0"/>
          <p:cNvSpPr/>
          <p:nvPr/>
        </p:nvSpPr>
        <p:spPr>
          <a:xfrm>
            <a:off x="1332000" y="4797360"/>
            <a:ext cx="2879640" cy="71928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шиналар кырдан ашлы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шыйл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1"/>
          <p:cNvSpPr/>
          <p:nvPr/>
        </p:nvSpPr>
        <p:spPr>
          <a:xfrm>
            <a:off x="1332000" y="5516640"/>
            <a:ext cx="2879640" cy="720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тыр д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ңгезчеләр маякка таб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юл тоттыл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ст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17143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. Татар телендә ничә җөмлә кисәге бар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җөмлә кисәге б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җөмлә кисәге б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җөмлә кисәге б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җөмлә кисәге б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. Хәлләр ничә 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өргә бүлен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 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өргә бүлен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өргә бүлен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 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өргә бүлен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1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өргә бүлен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Юк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ң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апшыра алмады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Ялкын» редакциясенд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дырды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ын хәре белә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релгән сүз нинди җөмл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исәг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 Урын 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әл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Тәмамл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Аергы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32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48320" y="1412640"/>
            <a:ext cx="403848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Урын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әле сораула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айда? Кайч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үпме? Кая? Кайдан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йда? Кая? Кайдан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ая? Ничек? Ниг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. Урын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әлләре нинди сүз төркемнә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рдәмендәбелдерелә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ы тик исемнәр белән ген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tt-RU" sz="1000" spc="-1" strike="noStrike">
                <a:solidFill>
                  <a:srgbClr val="000000"/>
                </a:solidFill>
                <a:latin typeface="Arial"/>
              </a:rPr>
              <a:t>Юнәлеш, чыгыш һәм урын-вакыт килешендәге исемнәр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1000" spc="-1" strike="noStrike">
                <a:solidFill>
                  <a:srgbClr val="000000"/>
                </a:solidFill>
                <a:latin typeface="Arial"/>
              </a:rPr>
              <a:t>урын рәвеше, шулай ук бәйлек (бәйлек сүз) белән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Урын р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әвеше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елән генә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tt-RU" sz="1000" spc="-1" strike="noStrike">
                <a:solidFill>
                  <a:srgbClr val="000000"/>
                </a:solidFill>
                <a:latin typeface="Arial"/>
              </a:rPr>
              <a:t>Юнәлеш, чыгыш һәм урын-вакыт килешендәге исемнә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елән генә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2:35:46Z</dcterms:created>
  <dc:creator>Duffy</dc:creator>
  <dc:description/>
  <dc:language>en-US</dc:language>
  <cp:lastModifiedBy>121</cp:lastModifiedBy>
  <dcterms:modified xsi:type="dcterms:W3CDTF">2018-02-02T09:04:58Z</dcterms:modified>
  <cp:revision>36</cp:revision>
  <dc:subject/>
  <dc:title>Дәреснең темасы:  «Хәл һәм аның төрләре. Урын хәле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