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B48-DA47-4D3D-B2FC-201199AC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B4D-E8B3-4883-B020-FD08E8C6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ED3-D385-466F-89E2-72589179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954-859A-44F3-A187-E82FAD11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AD9-CE47-422D-9B20-E55D4D2C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F3D-9034-4F9D-AAE2-3E0404E2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D93-241A-49ED-B24F-B7523055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392C-DD09-4E31-8ABD-27C1439F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8FE-6208-40E5-8A9A-AF26BBF9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3515-AB54-44B2-826E-B08068B0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AB9-06F7-4A7B-8CB8-D38A0BB7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651-21B7-435D-AE93-B1B9C5DB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D84F-D5DF-423C-B63A-0B77BA000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Зим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724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вченк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ия Владими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БДОУ д/с №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. «Капель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чется коту рыбки, а не достать! Ведь озеро сковало толстым слоем льд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img-fotki.yandex.ru/get/4514/97933731.3/0_7b523_f5c1636e_XL"/>
          <p:cNvPicPr/>
          <p:nvPr/>
        </p:nvPicPr>
        <p:blipFill>
          <a:blip r:embed="rId1"/>
          <a:stretch/>
        </p:blipFill>
        <p:spPr>
          <a:xfrm>
            <a:off x="1258920" y="1413000"/>
            <a:ext cx="6481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имой теплую одежду одевают не только люди. Посмотри какой пушистый хвостик у этой белочки! А какая густая шерсть у этой лисички! Зимой шерсть всех животных становится очень густой и хорошо согревает их в самые сильные морозы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dobrochan.ru/src/jpg/1112/%D0%91%D0%B5%D0%BB%D0%BA%D0%B0-%D0%BD%D0%B0-%D1%81%D0%BD%D0%B5%D0%B3%D1%83.jpg"/>
          <p:cNvPicPr/>
          <p:nvPr/>
        </p:nvPicPr>
        <p:blipFill>
          <a:blip r:embed="rId2"/>
          <a:srcRect l="0" t="0" r="18304" b="0"/>
          <a:stretch/>
        </p:blipFill>
        <p:spPr>
          <a:xfrm>
            <a:off x="250920" y="1628640"/>
            <a:ext cx="4505400" cy="4135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img.mota.ru/upload/wallpapers/2010/08/30/10/04/22895/mota_ru_0091015-1280x720.jpg"/>
          <p:cNvPicPr/>
          <p:nvPr/>
        </p:nvPicPr>
        <p:blipFill>
          <a:blip r:embed="rId3"/>
          <a:srcRect l="11826" t="0" r="27971" b="0"/>
          <a:stretch/>
        </p:blipFill>
        <p:spPr>
          <a:xfrm>
            <a:off x="4788000" y="1916280"/>
            <a:ext cx="403200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имой зверям в лесу не просто – нет свежей травки, орехов и ягод. Им намного трудней искать для себя е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allpaper.goodfon.ru/image/269078-1920x1200.jpg"/>
          <p:cNvPicPr/>
          <p:nvPr/>
        </p:nvPicPr>
        <p:blipFill>
          <a:blip r:embed="rId2"/>
          <a:stretch/>
        </p:blipFill>
        <p:spPr>
          <a:xfrm>
            <a:off x="611280" y="1341360"/>
            <a:ext cx="82962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жды зайчата выглянули из своей норки и очень удивилис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http://s49.radikal.ru/i123/1010/2f/dbf69c5880c2.jpg"/>
          <p:cNvPicPr/>
          <p:nvPr/>
        </p:nvPicPr>
        <p:blipFill>
          <a:blip r:embed="rId1"/>
          <a:stretch/>
        </p:blipFill>
        <p:spPr>
          <a:xfrm>
            <a:off x="1835280" y="219564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изменился лес! Вокруг белым-бело, повсюду снег! Это значит наступила зим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tapetky.sk/images/wallpapers/Zima-353101.jpeg"/>
          <p:cNvPicPr/>
          <p:nvPr/>
        </p:nvPicPr>
        <p:blipFill>
          <a:blip r:embed="rId1"/>
          <a:srcRect l="0" t="2668" r="0" b="0"/>
          <a:stretch/>
        </p:blipFill>
        <p:spPr>
          <a:xfrm>
            <a:off x="971640" y="1341360"/>
            <a:ext cx="7200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имой очень холодно! Люди одевают очень теплую одежду – теплые куртки, шубы, шапки, теплые сапоги и обязательно – варежки или перчатки – чтобы не замерзали ру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о зимой идет снег. Белые красивые снежинки падают на землю и покрывают все вокруг красивым белым покрыва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отри какими красивыми бывают снежинки, если посмотреть на них близко-близк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117 И все-таки одинаковых снежинок в природе нет"/>
          <p:cNvPicPr/>
          <p:nvPr/>
        </p:nvPicPr>
        <p:blipFill>
          <a:blip r:embed="rId1"/>
          <a:stretch/>
        </p:blipFill>
        <p:spPr>
          <a:xfrm>
            <a:off x="2411280" y="141300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ег на самом деле –это замерзший дождик. Просто зимой так холодно, что капельки воды, которые падают с неба – замерзают и превращаются в снежи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papers.ru/wallpapers/Moods/9576/1280x720_%D0%A1%D0%BD%D0%B5%D0%B3-%D0%B8%D0%B4%D0%B5%D1%82.jpg"/>
          <p:cNvPicPr/>
          <p:nvPr/>
        </p:nvPicPr>
        <p:blipFill>
          <a:blip r:embed="rId1"/>
          <a:srcRect l="5167" t="0" r="34556" b="0"/>
          <a:stretch/>
        </p:blipFill>
        <p:spPr>
          <a:xfrm>
            <a:off x="2484360" y="1944720"/>
            <a:ext cx="419256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имой замерзает не только дождик. Если на улице мороз – любая вода замерзает и превращается в ле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этому, когда зимой наступают морозы, замерзает вода в реках и озерах – посмотри какой коркой льда покрылось это озер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loveopium.ru/content/2012/04/baikal2/02b.jpg"/>
          <p:cNvPicPr/>
          <p:nvPr/>
        </p:nvPicPr>
        <p:blipFill>
          <a:blip r:embed="rId1"/>
          <a:stretch/>
        </p:blipFill>
        <p:spPr>
          <a:xfrm>
            <a:off x="755640" y="1484280"/>
            <a:ext cx="756144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05:24:41Z</dcterms:created>
  <dc:creator>Samsung</dc:creator>
  <dc:description/>
  <dc:language>en-US</dc:language>
  <cp:lastModifiedBy>Радыгины</cp:lastModifiedBy>
  <dcterms:modified xsi:type="dcterms:W3CDTF">2018-02-02T19:18:04Z</dcterms:modified>
  <cp:revision>25</cp:revision>
  <dc:subject/>
  <dc:title>зима</dc:title>
</cp:coreProperties>
</file>